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8228-6FA0-4E36-B73B-A6D4803B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F91B-B7D2-42C0-BB59-1685DE2A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779E-FECD-416C-BD0E-3A3E568B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97DF-D65C-4B28-A729-BE0E44F1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4646-D24E-405D-A6C5-1B263495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766-CB1B-468D-9C9E-D59CD8A8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817B-CF8F-49BD-81C1-C3E5B1B4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32C8-EC1F-495F-AE1D-8CB5BAB1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514D-E86B-4E8F-A918-B841788E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1FA7-28E3-4FB9-BE3A-9883CDE8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90B3-DDDA-4EBD-B312-F8A093B6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E778-4661-42DF-8709-F245D105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882C-9BE2-4D55-9EE4-F2F20EACFCA4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rabajo Dirig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mensiones del cuerpo mineralizado [m x m x m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mensión del bloque (h = 15 m) [m x m x m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Número de blo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Tonelaje de cada bloque [to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Tonelaje total [to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bre por bloque (fino) [to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bre total (fino total) [to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ensidad Máxima, Mínima y promedio [ton/m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Ley Máxima, Mínima y Promedio [%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rabajo dirig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alibri"/>
              </a:rPr>
              <a:t>Valorización de bloqu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Precio cobre = 1.5 US$/l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Costo mina = 0.18*d + 0.6 US$/t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Costo planta = 4 US$/t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Costo fundición y refinación = 0.25 US$/l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Recuperación = 85%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Distancia a botadero = 1 k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Distancia a planta = 2 k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alibri"/>
              </a:rPr>
              <a:t>Entregar un Excel o un Word con un resumen del análisis estadístic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0:50:59Z</dcterms:created>
  <dc:creator>JSB</dc:creator>
  <dc:description/>
  <dc:language>en-US</dc:language>
  <cp:lastModifiedBy>Camilo</cp:lastModifiedBy>
  <dcterms:modified xsi:type="dcterms:W3CDTF">2009-04-14T22:40:06Z</dcterms:modified>
  <cp:revision>13</cp:revision>
  <dc:subject/>
  <dc:title>Diapositiva 1</dc:title>
</cp:coreProperties>
</file>