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6E0-39A6-41F9-86D4-C807FEBD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DA7-9A23-4ADF-86F6-D4C5DF0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6F9-C32F-40B0-BDC2-06AF1A92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FE9-6173-4489-96CB-195C470C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F90-2553-4969-ABAA-2FFB688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CB6-53F5-4796-999E-6827BB76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E5F-7689-48C9-B9D5-56AE9DB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557-3C5D-45B1-AE4D-843DD31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74B-84FD-48C6-81DB-8BC03081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E82-5545-409B-AFE0-3223F56F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C45-500F-4FE7-81C2-2279870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448-B9FD-46B6-BB8C-989FBF2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6C47-B717-4FEC-ACD8-F47E1F2D87E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ones del cuerpo mineralizado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ón del bloque (h = 15 m)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úmero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de cada bloque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total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por bloque (fino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total (fino total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nsidad Máxima, Mínima y promedio [ton/m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ey Máxima, Mínima y Promedio [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planta = 4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Entregar un Excel o un Word con un resumen del análisis estadístic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0:50:59Z</dcterms:created>
  <dc:creator>JSB</dc:creator>
  <dc:description/>
  <dc:language>en-US</dc:language>
  <cp:lastModifiedBy>Camilo</cp:lastModifiedBy>
  <dcterms:modified xsi:type="dcterms:W3CDTF">2009-04-14T22:40:06Z</dcterms:modified>
  <cp:revision>13</cp:revision>
  <dc:subject/>
  <dc:title>Diapositiva 1</dc:title>
</cp:coreProperties>
</file>