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B5D-BBDE-4C6B-9714-1324B7D2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778-83DB-4465-AD3E-945C8340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E19-4040-4C6C-B3A3-FE944BC4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4A1-AC77-4E80-A30A-6B8E06CC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B5F-6101-456A-B93D-C777D4D7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A79-C403-43E2-9643-A67C7AA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3A1-B6C0-4665-B0E6-11800927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E4E-C560-46C3-9D7B-CF97813C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108-6941-48EC-ACBC-B2FE74C4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2DF-62F2-469F-AD52-FBD470F1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7AF-E86A-4EE3-A07D-59454678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AD1-4339-48F0-A188-4A9C076D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2850-4A90-4856-9CDC-0740CA8B4B7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ones del cuerpo mineralizado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ón del bloque (h = 15 m)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úmero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de cada bloque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total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por bloque (fino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total (fino total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nsidad Máxima, Mínima y promedio [ton/m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ey Máxima, Mínima y Promedio [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planta = 4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Entregar un Excel o un Word con un resumen del análisis estadístic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0:50:59Z</dcterms:created>
  <dc:creator>JSB</dc:creator>
  <dc:description/>
  <dc:language>en-US</dc:language>
  <cp:lastModifiedBy>Camilo</cp:lastModifiedBy>
  <dcterms:modified xsi:type="dcterms:W3CDTF">2009-04-14T22:40:06Z</dcterms:modified>
  <cp:revision>13</cp:revision>
  <dc:subject/>
  <dc:title>Diapositiva 1</dc:title>
</cp:coreProperties>
</file>