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426-A310-425D-A1AB-5DBE6B1D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76F-C210-4CC2-9A63-62A44404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476-1206-468D-9664-B70026F4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CA9-FEF9-4CA2-862C-49C93171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37B-2610-4F2C-9EF4-051445F6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FB3-DFEB-42C6-BC97-1D34D245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760-4AD1-4314-8E7C-8D7C82D6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AD3-EB27-43BE-A45E-A5DB77D9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B5F-735F-4780-A773-B555BA1A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140-787E-40EB-A93E-985057AB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B32-ECAA-4ACC-8A42-F1A73C0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9EF-4B47-426F-8F87-1F8C303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D6EA-56AA-40DE-B715-A1620648F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6FAED6D-0E95-4D75-B46B-8CD11B58D64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Valorización Económica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31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s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Imagen" descr="espesador.jpg"/>
          <p:cNvPicPr/>
          <p:nvPr/>
        </p:nvPicPr>
        <p:blipFill>
          <a:blip r:embed="rId1"/>
          <a:stretch/>
        </p:blipFill>
        <p:spPr>
          <a:xfrm>
            <a:off x="3200400" y="18288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vimiento desde stock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 generales de la planta 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 ≈ 6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ncent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es de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3 Imagen" descr="fundición.jpg"/>
          <p:cNvPicPr/>
          <p:nvPr/>
        </p:nvPicPr>
        <p:blipFill>
          <a:blip r:embed="rId1"/>
          <a:stretch/>
        </p:blipFill>
        <p:spPr>
          <a:xfrm>
            <a:off x="2514600" y="2819520"/>
            <a:ext cx="4419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didas de la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bre bl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réditos y cargos de la fund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fr ≈ 0.35 US$/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asumiendo que el bloque está descu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suponiendo que será explo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n bloque puede tener 2 valoriz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planta (Cm + 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botadero (Cm, analizar si B &l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sto de mina es el costo de mover un bloque. Todo el resto de los costos involucrados en la extracción se deben asignar al costo de pl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, costo min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p, costo plant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fr, costo de refinación y fundición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, recuperación del proceso minero y metalúrgico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m, ley media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, precio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, tonelaje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mu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eneficio = Ingreso – Co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 = {(P – Cfr)* R * 2204.6 * Lm – (Cm + Cp)} * T    [US$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económ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 = 1.7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m = 1.86 + 0.07 * d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p = 6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fr = 0.35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 = 8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557280" indent="-214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orizar los siguientes bloques (10 x 10 x 15 metros) de acuerdo a las leyes presentadas y los parámetros económicos señalados anteriormente. Considere que los bloques tienen una densidad promedio de 2.7 t/m3, y que la distancia a planta es de 2 Km y a botadero 3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CuadroTexto"/>
          <p:cNvSpPr/>
          <p:nvPr/>
        </p:nvSpPr>
        <p:spPr>
          <a:xfrm>
            <a:off x="1306440" y="4952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3899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P – Cfr) * R/100 * 2204.6 * Lm/100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1.7 – 0.35) * 0.85 * 2204.6 * 0.0029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29,712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Cm + Cp)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{(1.86 + 0.07 * 2) + 6}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32,400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29,712 – 32,400 = - 2,688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bota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Cm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1.86 + 0.07 * 3)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8,884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0 – 8,884 = - 8,884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gr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nel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cu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etal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5334120" y="29718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enefi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resos -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879640" cy="106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2880000" cy="1069920"/>
          </a:xfrm>
          <a:prstGeom prst="rect">
            <a:avLst/>
          </a:prstGeom>
          <a:ln w="0">
            <a:noFill/>
          </a:ln>
        </p:spPr>
      </p:pic>
      <p:sp>
        <p:nvSpPr>
          <p:cNvPr id="98" name="7 CuadroTexto"/>
          <p:cNvSpPr/>
          <p:nvPr/>
        </p:nvSpPr>
        <p:spPr>
          <a:xfrm>
            <a:off x="2213280" y="51055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4269240" y="33526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849240" y="17524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CuadroTexto"/>
          <p:cNvSpPr/>
          <p:nvPr/>
        </p:nvSpPr>
        <p:spPr>
          <a:xfrm>
            <a:off x="1533960" y="27432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5495400" y="27432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CuadroTexto"/>
          <p:cNvSpPr/>
          <p:nvPr/>
        </p:nvSpPr>
        <p:spPr>
          <a:xfrm>
            <a:off x="3700080" y="4419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f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perforación.jpg"/>
          <p:cNvPicPr/>
          <p:nvPr/>
        </p:nvPicPr>
        <p:blipFill>
          <a:blip r:embed="rId1"/>
          <a:stretch/>
        </p:blipFill>
        <p:spPr>
          <a:xfrm>
            <a:off x="3962520" y="1371600"/>
            <a:ext cx="3125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1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4 Imagen" descr="tronadura.jpg"/>
          <p:cNvPicPr/>
          <p:nvPr/>
        </p:nvPicPr>
        <p:blipFill>
          <a:blip r:embed="rId1"/>
          <a:stretch/>
        </p:blipFill>
        <p:spPr>
          <a:xfrm>
            <a:off x="4114800" y="1676520"/>
            <a:ext cx="4876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3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7 – 0.25  US$/t/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Imagen" descr="carguío.jpg"/>
          <p:cNvPicPr/>
          <p:nvPr/>
        </p:nvPicPr>
        <p:blipFill>
          <a:blip r:embed="rId1"/>
          <a:stretch/>
        </p:blipFill>
        <p:spPr>
          <a:xfrm>
            <a:off x="4452840" y="14479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ntención de los ca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tad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mbeo de 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 de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.04 -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per + Ctro + Ccar + Ctra + C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0.4 – 2.0 US$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l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Imagen" descr="molienda.jpg"/>
          <p:cNvPicPr/>
          <p:nvPr/>
        </p:nvPicPr>
        <p:blipFill>
          <a:blip r:embed="rId1"/>
          <a:stretch/>
        </p:blipFill>
        <p:spPr>
          <a:xfrm>
            <a:off x="2514600" y="1600200"/>
            <a:ext cx="6119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3 Imagen" descr="flotación.jpg"/>
          <p:cNvPicPr/>
          <p:nvPr/>
        </p:nvPicPr>
        <p:blipFill>
          <a:blip r:embed="rId1"/>
          <a:stretch/>
        </p:blipFill>
        <p:spPr>
          <a:xfrm>
            <a:off x="2666880" y="16002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4-01T01:49:12Z</dcterms:modified>
  <cp:revision>62</cp:revision>
  <dc:subject/>
  <dc:title>Design and Planning of Block Caving Operations</dc:title>
</cp:coreProperties>
</file>