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DAE-A83B-424D-977F-B0D1A540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070-D488-4633-8538-706EF5BD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2AB-C40C-412E-9891-3398E532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C21-D17E-4991-93A8-137EAE5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388-73EF-41A9-B7C8-663B4E8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2CC9-A56A-43C3-BB1F-87CC0BF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FE2-B307-4BD5-8089-93CE5146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FEF3-0DB6-4353-9B8D-00876833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D0E-94CB-4898-892F-DB920B5E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EE7-B158-4DBC-A699-197829E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943-C314-4000-8657-A4C69035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0C9-9DC7-4493-B63F-AC8FF18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CCB-B764-4F92-9028-4BCA5CAD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75A5302-D3F9-4BE1-A540-D7837947B28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Valorización Económica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31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s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Imagen" descr="espesador.jpg"/>
          <p:cNvPicPr/>
          <p:nvPr/>
        </p:nvPicPr>
        <p:blipFill>
          <a:blip r:embed="rId1"/>
          <a:stretch/>
        </p:blipFill>
        <p:spPr>
          <a:xfrm>
            <a:off x="3200400" y="18288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vimiento desde stock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 generales de la planta de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 ≈ 6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ncent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es de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3 Imagen" descr="fundición.jpg"/>
          <p:cNvPicPr/>
          <p:nvPr/>
        </p:nvPicPr>
        <p:blipFill>
          <a:blip r:embed="rId1"/>
          <a:stretch/>
        </p:blipFill>
        <p:spPr>
          <a:xfrm>
            <a:off x="2514600" y="2819520"/>
            <a:ext cx="441972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fundición y ref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mortización y depre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didas de la fundición y refin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del cobre bl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éditos y cargos de la fund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fr ≈ 0.35 US$/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asumiendo que el bloque está descu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valor debe ser calculado suponiendo que será explot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n bloque puede tener 2 valoriz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planta (Cm + 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stino botadero (Cm, analizar si B &l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sto de mina es el costo de mover un bloque. Todo el resto de los costos involucrados en la extracción se deben asignar al costo de pla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, costo min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p, costo planta [US$/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fr, costo de refinación y fundición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, recuperación del proceso minero y metalúrgico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m, ley media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, precio [US$/l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, tonelaje [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ormu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eneficio = Ingreso – Co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B = {(P – Cfr)* R * 2204.6 * Lm – (Cm + Cp)} * T    [US$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económ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 = 1.7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m = 1.86 + 0.07 * d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p = 6 US$/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fr = 0.35 US$/l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 = 85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lvl="1" marL="557280" indent="-2142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izar los siguientes bloques (10 x 10 x 15 metros) de acuerdo a las leyes presentadas y los parámetros económicos señalados anteriormente. Considere que los bloques tienen una densidad promedio de 2.7 t/m3, y que la distancia a planta es de 2 Km y a botadero 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CuadroTexto"/>
          <p:cNvSpPr/>
          <p:nvPr/>
        </p:nvSpPr>
        <p:spPr>
          <a:xfrm>
            <a:off x="1306440" y="49528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38991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P – Cfr) * R/100 * 2204.6 * Lm/100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(1.7 – 0.35) * 0.85 * 2204.6 * 0.0029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29,712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Cm + Cp)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{(1.86 + 0.07 * 2) + 6}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32,400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29,712 – 32,400 = - 2,688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bota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álcul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Cm *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(1.86 + 0.07 * 3) * 4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 = 8,884 [US$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eneficio = 0 – 8,884 = - 8,884 [US$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alorización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gre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nel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cu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in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proces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de metalu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5334120" y="29718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enefic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resos -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Valorización de bloques 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2879640" cy="10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4952880" y="3124080"/>
            <a:ext cx="2880000" cy="10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2880000" cy="1069920"/>
          </a:xfrm>
          <a:prstGeom prst="rect">
            <a:avLst/>
          </a:prstGeom>
          <a:ln w="0">
            <a:noFill/>
          </a:ln>
        </p:spPr>
      </p:pic>
      <p:sp>
        <p:nvSpPr>
          <p:cNvPr id="98" name="7 CuadroTexto"/>
          <p:cNvSpPr/>
          <p:nvPr/>
        </p:nvSpPr>
        <p:spPr>
          <a:xfrm>
            <a:off x="2213280" y="51055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4269240" y="3352680"/>
            <a:ext cx="3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9 CuadroTexto"/>
          <p:cNvSpPr/>
          <p:nvPr/>
        </p:nvSpPr>
        <p:spPr>
          <a:xfrm>
            <a:off x="849240" y="175248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br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CuadroTexto"/>
          <p:cNvSpPr/>
          <p:nvPr/>
        </p:nvSpPr>
        <p:spPr>
          <a:xfrm>
            <a:off x="1533960" y="27432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1 CuadroTexto"/>
          <p:cNvSpPr/>
          <p:nvPr/>
        </p:nvSpPr>
        <p:spPr>
          <a:xfrm>
            <a:off x="5495400" y="27432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stos 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2 CuadroTexto"/>
          <p:cNvSpPr/>
          <p:nvPr/>
        </p:nvSpPr>
        <p:spPr>
          <a:xfrm>
            <a:off x="3700080" y="4419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[US$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erf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perforación.jpg"/>
          <p:cNvPicPr/>
          <p:nvPr/>
        </p:nvPicPr>
        <p:blipFill>
          <a:blip r:embed="rId1"/>
          <a:stretch/>
        </p:blipFill>
        <p:spPr>
          <a:xfrm>
            <a:off x="3962520" y="1371600"/>
            <a:ext cx="3125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1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Imagen" descr="tronadura.jpg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5 – 0.30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07 – 0.25  US$/t/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Imagen" descr="carguío.jpg"/>
          <p:cNvPicPr/>
          <p:nvPr/>
        </p:nvPicPr>
        <p:blipFill>
          <a:blip r:embed="rId1"/>
          <a:stretch/>
        </p:blipFill>
        <p:spPr>
          <a:xfrm>
            <a:off x="4452840" y="1447920"/>
            <a:ext cx="45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antención de los cam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tad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ombeo de 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general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0.04 -0.08 US$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per + Ctro + Ccar + Ctra + Cs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0.4 – 2.0 US$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 Imagen" descr="molienda.jpg"/>
          <p:cNvPicPr/>
          <p:nvPr/>
        </p:nvPicPr>
        <p:blipFill>
          <a:blip r:embed="rId1"/>
          <a:stretch/>
        </p:blipFill>
        <p:spPr>
          <a:xfrm>
            <a:off x="2514600" y="1600200"/>
            <a:ext cx="6119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stos de concent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F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3 Imagen" descr="flotación.jpg"/>
          <p:cNvPicPr/>
          <p:nvPr/>
        </p:nvPicPr>
        <p:blipFill>
          <a:blip r:embed="rId1"/>
          <a:stretch/>
        </p:blipFill>
        <p:spPr>
          <a:xfrm>
            <a:off x="2666880" y="16002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4-01T01:49:12Z</dcterms:modified>
  <cp:revision>62</cp:revision>
  <dc:subject/>
  <dc:title>Design and Planning of Block Caving Operations</dc:title>
</cp:coreProperties>
</file>