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jpeg" ContentType="image/jpeg"/>
  <Override PartName="/ppt/media/image11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876C-CD5F-4AA7-A2C0-861AA536C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C665-F9C1-4128-9F37-EF963916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582A-3D0E-4CA2-96B1-92BD6E212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58D7-B285-43B9-8298-3A736425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85B9-D339-422D-B447-CC0590C8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3E17-B701-4B32-8392-2CDCC382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D048-932E-46D3-8A4B-74496276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9BEB-3948-4509-BC9E-19D77085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466E-ED73-4A6D-93AE-B654F065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7B9D-340F-4223-845C-0A7B44C3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B281-88DC-47C1-B594-A62A53F5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4105-DD25-4EC9-850C-C57E0FB1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5A8A-7B9D-40BC-BC66-9E6F5738E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3276720" y="64771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82A42A3E-9764-45DE-B1CE-B1ED500EB9E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0" descr="IngMinas"/>
          <p:cNvPicPr/>
          <p:nvPr/>
        </p:nvPicPr>
        <p:blipFill>
          <a:blip r:embed="rId2"/>
          <a:stretch/>
        </p:blipFill>
        <p:spPr>
          <a:xfrm>
            <a:off x="-4680" y="5991120"/>
            <a:ext cx="266688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aller de Proyecto EI2001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ección 24</a:t>
            </a:r>
            <a:br>
              <a:rPr sz="4000"/>
            </a:b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Valorización Económica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Javier Santibáñez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Camilo Mora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31-03-200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concent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pes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3 Imagen" descr="espesador.jpg"/>
          <p:cNvPicPr/>
          <p:nvPr/>
        </p:nvPicPr>
        <p:blipFill>
          <a:blip r:embed="rId1"/>
          <a:stretch/>
        </p:blipFill>
        <p:spPr>
          <a:xfrm>
            <a:off x="3200400" y="1828800"/>
            <a:ext cx="5587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concent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Fil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ec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ovimiento desde stockp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stos generales de la planta de concen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mortización y depreci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p ≈ 6 US$/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fundición y refi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del concent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stos generales de fundición y refine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3 Imagen" descr="fundición.jpg"/>
          <p:cNvPicPr/>
          <p:nvPr/>
        </p:nvPicPr>
        <p:blipFill>
          <a:blip r:embed="rId1"/>
          <a:stretch/>
        </p:blipFill>
        <p:spPr>
          <a:xfrm>
            <a:off x="2514600" y="2819520"/>
            <a:ext cx="441972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fundición y refi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mortización y deprec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erdidas de la fundición y refine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del cobre bl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réditos y cargos de la fund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fr ≈ 0.35 US$/l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alorización de blo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valor debe ser calculado asumiendo que el bloque está descubier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valor debe ser calculado suponiendo que será explot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Un bloque puede tener 2 valoriza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stino planta (Cm + 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stino botadero (Cm, analizar si B &lt;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alorización de blo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costo de mina es el costo de mover un bloque. Todo el resto de los costos involucrados en la extracción se deben asignar al costo de pla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mencl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m, costo mina [US$/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p, costo planta [US$/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fr, costo de refinación y fundición [US$/lb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, recuperación del proceso minero y metalúrgico [%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m, ley media [%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, precio [US$/lb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, tonelaje [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Valorización de bloques a plan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ormul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Beneficio = Ingreso – Cos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B = {(P – Cfr)* R * 2204.6 * Lm – (Cm + Cp)} * T    [US$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arámetros económic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P = 1.7 US$/l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m = 1.86 + 0.07 * d US$/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p = 6 US$/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fr = 0.35 US$/l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R = 8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Valorización de bloques a plan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lvl="1" marL="557280" indent="-21420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alorizar los siguientes bloques (10 x 10 x 15 metros) de acuerdo a las leyes presentadas y los parámetros económicos señalados anteriormente. Considere que los bloques tienen una densidad promedio de 2.7 t/m3, y que la distancia a planta es de 2 Km y a botadero 3 K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4 CuadroTexto"/>
          <p:cNvSpPr/>
          <p:nvPr/>
        </p:nvSpPr>
        <p:spPr>
          <a:xfrm>
            <a:off x="1306440" y="495288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y de cobre [%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3352680" y="4419720"/>
            <a:ext cx="38991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Valorización de bloques a plan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álculo de Ingr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 = (P – Cfr) * R/100 * 2204.6 * Lm/100 *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 = (1.7 – 0.35) * 0.85 * 2204.6 * 0.0029 * 4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 = 29,712 [US$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álculo de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 = (Cm + Cp) *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 = {(1.86 + 0.07 * 2) + 6} * 4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 = 32,400 [US$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Beneficio = 29,712 – 32,400 = - 2,688 [US$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Valorización de bloques a botad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álculo de Ingr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álculo de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 = Cm *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 = (1.86 + 0.07 * 3) * 4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 = 8,884 [US$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Beneficio = 0 – 8,884 = - 8,884 [US$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alorización econó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gres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onela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e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cup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ecio del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s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s de mine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s de proces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s de metalur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s ge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3 CuadroTexto"/>
          <p:cNvSpPr/>
          <p:nvPr/>
        </p:nvSpPr>
        <p:spPr>
          <a:xfrm>
            <a:off x="5334120" y="297180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enefic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gresos -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Valorización de bloques a plan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2879640" cy="1069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1066680" y="3124080"/>
            <a:ext cx="2880000" cy="1069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3"/>
          <a:stretch/>
        </p:blipFill>
        <p:spPr>
          <a:xfrm>
            <a:off x="4952880" y="3124080"/>
            <a:ext cx="2880000" cy="1069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4"/>
          <a:stretch/>
        </p:blipFill>
        <p:spPr>
          <a:xfrm>
            <a:off x="3124080" y="4876920"/>
            <a:ext cx="2880000" cy="1069920"/>
          </a:xfrm>
          <a:prstGeom prst="rect">
            <a:avLst/>
          </a:prstGeom>
          <a:ln w="0">
            <a:noFill/>
          </a:ln>
        </p:spPr>
      </p:pic>
      <p:sp>
        <p:nvSpPr>
          <p:cNvPr id="98" name="7 CuadroTexto"/>
          <p:cNvSpPr/>
          <p:nvPr/>
        </p:nvSpPr>
        <p:spPr>
          <a:xfrm>
            <a:off x="2213280" y="510552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8 CuadroTexto"/>
          <p:cNvSpPr/>
          <p:nvPr/>
        </p:nvSpPr>
        <p:spPr>
          <a:xfrm>
            <a:off x="4269240" y="33526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9 CuadroTexto"/>
          <p:cNvSpPr/>
          <p:nvPr/>
        </p:nvSpPr>
        <p:spPr>
          <a:xfrm>
            <a:off x="849240" y="175248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y de cobre [%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0 CuadroTexto"/>
          <p:cNvSpPr/>
          <p:nvPr/>
        </p:nvSpPr>
        <p:spPr>
          <a:xfrm>
            <a:off x="1533960" y="274320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gresos [US$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1 CuadroTexto"/>
          <p:cNvSpPr/>
          <p:nvPr/>
        </p:nvSpPr>
        <p:spPr>
          <a:xfrm>
            <a:off x="5495400" y="274320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stos [US$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2 CuadroTexto"/>
          <p:cNvSpPr/>
          <p:nvPr/>
        </p:nvSpPr>
        <p:spPr>
          <a:xfrm>
            <a:off x="3700080" y="44197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eneficio[US$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erfo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05 – 0.08 US$/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3 Imagen" descr="perforación.jpg"/>
          <p:cNvPicPr/>
          <p:nvPr/>
        </p:nvPicPr>
        <p:blipFill>
          <a:blip r:embed="rId1"/>
          <a:stretch/>
        </p:blipFill>
        <p:spPr>
          <a:xfrm>
            <a:off x="3962520" y="1371600"/>
            <a:ext cx="31255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onad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05 – 0.10 US$/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4 Imagen" descr="tronadura.jpg"/>
          <p:cNvPicPr/>
          <p:nvPr/>
        </p:nvPicPr>
        <p:blipFill>
          <a:blip r:embed="rId1"/>
          <a:stretch/>
        </p:blipFill>
        <p:spPr>
          <a:xfrm>
            <a:off x="4114800" y="1676520"/>
            <a:ext cx="487692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arguí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05 – 0.30 US$/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07 – 0.25  US$/t/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3 Imagen" descr="carguío.jpg"/>
          <p:cNvPicPr/>
          <p:nvPr/>
        </p:nvPicPr>
        <p:blipFill>
          <a:blip r:embed="rId1"/>
          <a:stretch/>
        </p:blipFill>
        <p:spPr>
          <a:xfrm>
            <a:off x="4452840" y="1447920"/>
            <a:ext cx="4572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antención de los cam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Botad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Bombeo de agu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stos general de la 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0.04 -0.08 US$/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per + Ctro + Ccar + Ctra + C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0.4 – 2.0 US$/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concent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oli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3 Imagen" descr="molienda.jpg"/>
          <p:cNvPicPr/>
          <p:nvPr/>
        </p:nvPicPr>
        <p:blipFill>
          <a:blip r:embed="rId1"/>
          <a:stretch/>
        </p:blipFill>
        <p:spPr>
          <a:xfrm>
            <a:off x="2514600" y="1600200"/>
            <a:ext cx="611964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concent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Flo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3 Imagen" descr="flotación.jpg"/>
          <p:cNvPicPr/>
          <p:nvPr/>
        </p:nvPicPr>
        <p:blipFill>
          <a:blip r:embed="rId1"/>
          <a:stretch/>
        </p:blipFill>
        <p:spPr>
          <a:xfrm>
            <a:off x="2666880" y="1600200"/>
            <a:ext cx="60674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7:53:56Z</dcterms:created>
  <dc:creator>Enrique Rubio</dc:creator>
  <dc:description/>
  <dc:language>en-US</dc:language>
  <cp:lastModifiedBy>Camilo</cp:lastModifiedBy>
  <dcterms:modified xsi:type="dcterms:W3CDTF">2009-04-01T01:49:12Z</dcterms:modified>
  <cp:revision>62</cp:revision>
  <dc:subject/>
  <dc:title>Design and Planning of Block Caving Operations</dc:title>
</cp:coreProperties>
</file>