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07D-3C4F-4EB8-A49C-8E5FE292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E74-DEFA-4247-9D4B-BAACD4E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DB1-6028-4F09-A3B3-72473BD2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3DD-F837-4F4D-8905-72FA629E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59C-BD6A-4D91-B42B-45C02FF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9E6-BC05-43C5-A18C-8D993BDE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B70-A7DC-43D9-8EB6-4B56AA0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888-9725-4625-85E3-D83E08A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349-318F-41AD-B29B-59177112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37C-577E-4C63-83B3-7F3CE02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195-0933-44FA-8815-C780B3FF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250-90B0-4566-8393-7EA05669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62DC-93DF-4C82-84A4-9F34D7B6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1DFF84C0-BD81-4ACD-A2EC-732D7B6A2CD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Valorización Económic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31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s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espesador.jpg"/>
          <p:cNvPicPr/>
          <p:nvPr/>
        </p:nvPicPr>
        <p:blipFill>
          <a:blip r:embed="rId1"/>
          <a:stretch/>
        </p:blipFill>
        <p:spPr>
          <a:xfrm>
            <a:off x="3200400" y="18288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vimiento desde stock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 generales de la planta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 ≈ 6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ncent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es de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fundición.jpg"/>
          <p:cNvPicPr/>
          <p:nvPr/>
        </p:nvPicPr>
        <p:blipFill>
          <a:blip r:embed="rId1"/>
          <a:stretch/>
        </p:blipFill>
        <p:spPr>
          <a:xfrm>
            <a:off x="2514600" y="2819520"/>
            <a:ext cx="4419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didas de la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bre bl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éditos y cargos de la fu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fr ≈ 0.35 US$/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asumiendo que el bloque está descu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suponiendo que será explo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 bloque puede tener 2 valoriz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planta (Cm + 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botadero (Cm, analizar si B &l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mina es el costo de mover un bloque. Todo el resto de los costos involucrados en la extracción se deben asignar al costo de pl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, costo min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p, costo plant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fr, costo de refinación y fundición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, recuperación del proceso minero y metalúrgico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m, ley media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, precio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, tonelaje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u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o = Ingreso –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 = {(P – Cfr)* R * 2204.6 * Lm – (Cm + Cp)} * T    [US$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 = 1.7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m = 1.86 + 0.07 * d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p = 6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fr = 0.35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 = 8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izar los siguientes bloques (10 x 10 x 15 metros) de acuerdo a las leyes presentadas y los parámetros económicos señalados anteriormente. Considere que los bloques tienen una densidad promedio de 2.7 t/m3, y que la distancia a planta es de 2 Km y a botadero 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1306440" y="4952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3899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P – Cfr) * R/100 * 2204.6 * Lm/100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1.7 – 0.35) * 0.85 * 2204.6 * 0.0029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29,712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Cm + Cp)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{(1.86 + 0.07 * 2) + 6}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32,400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29,712 – 32,400 = - 2,688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bot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Cm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1.86 + 0.07 * 3)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8,884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0 – 8,884 = - 8,884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gr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nel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u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etal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5334120" y="2971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 -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79640" cy="10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2880000" cy="106992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13280" y="5105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426924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849240" y="17524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CuadroTexto"/>
          <p:cNvSpPr/>
          <p:nvPr/>
        </p:nvSpPr>
        <p:spPr>
          <a:xfrm>
            <a:off x="1533960" y="2743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495400" y="2743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3700080" y="441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f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perforación.jpg"/>
          <p:cNvPicPr/>
          <p:nvPr/>
        </p:nvPicPr>
        <p:blipFill>
          <a:blip r:embed="rId1"/>
          <a:stretch/>
        </p:blipFill>
        <p:spPr>
          <a:xfrm>
            <a:off x="3962520" y="1371600"/>
            <a:ext cx="3125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1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Imagen" descr="tronadura.jpg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3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7 – 0.25  US$/t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Imagen" descr="carguío.jpg"/>
          <p:cNvPicPr/>
          <p:nvPr/>
        </p:nvPicPr>
        <p:blipFill>
          <a:blip r:embed="rId1"/>
          <a:stretch/>
        </p:blipFill>
        <p:spPr>
          <a:xfrm>
            <a:off x="4452840" y="14479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ción de los ca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tad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mbeo de 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.04 -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per + Ctro + Ccar + Ctra + C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0.4 – 2.0 US$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molienda.jpg"/>
          <p:cNvPicPr/>
          <p:nvPr/>
        </p:nvPicPr>
        <p:blipFill>
          <a:blip r:embed="rId1"/>
          <a:stretch/>
        </p:blipFill>
        <p:spPr>
          <a:xfrm>
            <a:off x="2514600" y="1600200"/>
            <a:ext cx="6119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3 Imagen" descr="flotación.jpg"/>
          <p:cNvPicPr/>
          <p:nvPr/>
        </p:nvPicPr>
        <p:blipFill>
          <a:blip r:embed="rId1"/>
          <a:stretch/>
        </p:blipFill>
        <p:spPr>
          <a:xfrm>
            <a:off x="2666880" y="16002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4-01T01:49:12Z</dcterms:modified>
  <cp:revision>62</cp:revision>
  <dc:subject/>
  <dc:title>Design and Planning of Block Caving Operations</dc:title>
</cp:coreProperties>
</file>