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8E7-67D5-445E-A5C2-1822FD99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FCD-88D6-4A6E-8D54-19D6E206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514-9027-4B3A-8ED3-F116F4B5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A3E-0CEF-4173-B01C-9A34A783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57F-CC7F-43BD-8D90-AF92C959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BBC-084B-4939-99BB-CFC4585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FDE-0414-4524-B740-AEA2DD7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CC4-3D0D-48CE-A6BF-3338322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A8E-0BF3-401A-8B6F-A931D74F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177-0F45-4F31-A403-60AA099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630-1690-4E22-B1C1-B0C2024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E0C-1FC5-4167-975D-22FF8B1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797F-816D-4D3D-AE50-AAC273CA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93C669A-471A-4243-AA73-9D344EED572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Modelo de bloques y volúmene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24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ock"/>
          <p:cNvPicPr/>
          <p:nvPr/>
        </p:nvPicPr>
        <p:blipFill>
          <a:blip r:embed="rId1"/>
          <a:stretch/>
        </p:blipFill>
        <p:spPr>
          <a:xfrm>
            <a:off x="5638680" y="1676520"/>
            <a:ext cx="31417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572800" y="50292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5574600" y="5029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422" t="75725" r="82921" b="4314"/>
          <a:stretch/>
        </p:blipFill>
        <p:spPr>
          <a:xfrm>
            <a:off x="4648320" y="167652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ONDAJES 3D"/>
          <p:cNvPicPr/>
          <p:nvPr/>
        </p:nvPicPr>
        <p:blipFill>
          <a:blip r:embed="rId2"/>
          <a:srcRect l="27022" t="0" r="23515" b="0"/>
          <a:stretch/>
        </p:blipFill>
        <p:spPr>
          <a:xfrm>
            <a:off x="838080" y="1523880"/>
            <a:ext cx="320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6258240" y="52578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d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5 Imagen" descr="Checking the core samp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5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856080" y="518148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elo de blo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lo"/>
          <p:cNvPicPr/>
          <p:nvPr/>
        </p:nvPicPr>
        <p:blipFill>
          <a:blip r:embed="rId1"/>
          <a:srcRect l="0" t="6243" r="0" b="0"/>
          <a:stretch/>
        </p:blipFill>
        <p:spPr>
          <a:xfrm>
            <a:off x="5715000" y="1447920"/>
            <a:ext cx="3048120" cy="19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0" t="7736" r="0" b="1101"/>
          <a:stretch/>
        </p:blipFill>
        <p:spPr>
          <a:xfrm>
            <a:off x="152280" y="1752480"/>
            <a:ext cx="519444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rcRect l="33545" t="11456" r="6433" b="0"/>
          <a:stretch/>
        </p:blipFill>
        <p:spPr>
          <a:xfrm>
            <a:off x="6248520" y="3733920"/>
            <a:ext cx="2346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bo"/>
          <p:cNvSpPr/>
          <p:nvPr/>
        </p:nvSpPr>
        <p:spPr>
          <a:xfrm>
            <a:off x="1600200" y="1752480"/>
            <a:ext cx="1676520" cy="16765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90944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CuadroTexto"/>
          <p:cNvSpPr/>
          <p:nvPr/>
        </p:nvSpPr>
        <p:spPr>
          <a:xfrm>
            <a:off x="76644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3357000" y="312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onector recto"/>
          <p:cNvSpPr/>
          <p:nvPr/>
        </p:nvSpPr>
        <p:spPr>
          <a:xfrm flipV="1">
            <a:off x="3078000" y="2971800"/>
            <a:ext cx="516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Conector recto"/>
          <p:cNvSpPr/>
          <p:nvPr/>
        </p:nvSpPr>
        <p:spPr>
          <a:xfrm>
            <a:off x="1676520" y="3581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 recto"/>
          <p:cNvSpPr/>
          <p:nvPr/>
        </p:nvSpPr>
        <p:spPr>
          <a:xfrm flipV="1">
            <a:off x="1445400" y="213516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 Forma libre"/>
          <p:cNvSpPr/>
          <p:nvPr/>
        </p:nvSpPr>
        <p:spPr>
          <a:xfrm>
            <a:off x="3124080" y="2057400"/>
            <a:ext cx="1219320" cy="50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514760" y="1905120"/>
            <a:ext cx="24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= 2.7 ton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= 1.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sénico =  160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1013400" y="3886200"/>
            <a:ext cx="59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das de cobre y arsénico contenidas en 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n un banco hay 246 blo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y arsénico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ajoNoche"/>
          <p:cNvPicPr/>
          <p:nvPr/>
        </p:nvPicPr>
        <p:blipFill>
          <a:blip r:embed="rId1"/>
          <a:stretch/>
        </p:blipFill>
        <p:spPr>
          <a:xfrm>
            <a:off x="914400" y="304920"/>
            <a:ext cx="74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3-30T16:06:39Z</dcterms:modified>
  <cp:revision>44</cp:revision>
  <dc:subject/>
  <dc:title>Design and Planning of Block Caving Operations</dc:title>
</cp:coreProperties>
</file>