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963-557B-4E05-A496-C66478B0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132-2839-4A44-BF13-36CD0B25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56F-741F-4F55-A771-B3617E5D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8DF-8FC9-4F4E-BE8A-89EB323A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1FF-3E4E-4509-A51A-29F5BD8F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F33-3576-40D5-A10C-725164BE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42E-32D0-42DB-B799-BCB8D55E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71E-DB4E-4135-86FD-EE1ABC9D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F35-536F-4E87-A1A8-D20E1B6F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550-66F7-4632-999D-401821E6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068-B0C2-4111-9CE8-569F1074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D11-7260-4535-9E37-FD22C12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4CFE-3ED6-4D55-9E0D-9DAC76F91E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energy.org/" TargetMode="External"/><Relationship Id="rId2" Type="http://schemas.openxmlformats.org/officeDocument/2006/relationships/hyperlink" Target="http://www.rise.org.au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nergía de las O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nergía de las olas es limpia, renovable y eficiente. Pero no se explota, a pesar, que Chile es uno de los países que podría producir la mayor cantidad de esta energ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51847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o se aprovecha la energia de las o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distintos tipos, los mas usados y conocido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Columna de agua oscilante (OW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- Dragon de la onda (Wave Drag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- TAPC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- The Pendu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muchos m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lumna de agua oscilante (OW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 como se ve en la figura, la ola acarrea masa de aire la cual gracias a una Turbina Wells, es posible que siempre gire en el mismo sentido, generando ene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ave Dr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19640" y="4724280"/>
            <a:ext cx="2857680" cy="11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097440" cy="232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50760" y="1647720"/>
            <a:ext cx="3621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 como sale en el dibujo, gracias al poder ascendente de la ola, esta sube a un tonel en el cual, en el fondo tiene una turbina que se hace girar mientras el agua va caye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ppered Channel (TAPCH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cias al movimiento de la ola, el agua puede subirse hasta una caja que en el fondo tiene un orificio, en el cual pasa a una turbina, generando electricidad, para después ser devuelta al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Pendu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iste en una caja rectangular, la cual esta abierta hacia el mar en un costado. Una aleta se abisagra sobre la abertura y la acción de las ondas hace que la aleta pivotee hacia adelante y hacia atrás. El movimiento acciona una bomba hidráulica y un generad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48320" y="2655720"/>
          <a:ext cx="4038480" cy="24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55720"/>
                    <a:ext cx="403848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orldenerg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ise.org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ww.eere.energy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20:54:37Z</dcterms:created>
  <dc:creator>Constanza</dc:creator>
  <dc:description/>
  <dc:language>en-US</dc:language>
  <cp:lastModifiedBy>fbeas</cp:lastModifiedBy>
  <dcterms:modified xsi:type="dcterms:W3CDTF">2007-03-09T22:21:24Z</dcterms:modified>
  <cp:revision>5</cp:revision>
  <dc:subject/>
  <dc:title>Energía de las Olas</dc:title>
</cp:coreProperties>
</file>