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30B4-3AE9-4125-AF10-B5454BDAD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779A-8053-468E-8366-896501A6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1A7E-7988-4B38-8F23-4AAAD092D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2D5B-5137-4C8C-A2A6-BF92224CB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2AE7-1320-4D8D-87A4-6DAC24B6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4D88-B76C-43D2-8A60-7B520C2E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D21D-E65B-4F9F-8846-80C984A0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B012-45DF-467F-AB4A-C30A3269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D122-93E7-4114-B165-9927A71B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02C5-EB59-4AB4-A628-508C3529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76C7-0FC0-4484-ADE2-1B8A6874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4805-CE6D-47BE-BCF5-013B2431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4320-71D9-4D23-B48A-9E96E5E3EB5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orldenergy.org/" TargetMode="External"/><Relationship Id="rId2" Type="http://schemas.openxmlformats.org/officeDocument/2006/relationships/hyperlink" Target="http://www.rise.org.au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nergía de las O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energía de las olas es limpia, renovable y eficiente. Pero no se explota, a pesar, que Chile es uno de los países que podría producir la mayor cantidad de esta energí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35280" y="3357720"/>
            <a:ext cx="518472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mo se aprovecha la energia de las o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y distintos tipos, los mas usados y conocidos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- Columna de agua oscilante (OW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.- Dragon de la onda (Wave Drag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3.- TAPC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4.- The Pendu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Y muchos mas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lumna de agua oscilante (OW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al como se ve en la figura, la ola acarrea masa de aire la cual gracias a una Turbina Wells, es posible que siempre gire en el mismo sentido, generando energ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Wave Drag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219640" y="4724280"/>
            <a:ext cx="2857680" cy="1152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003640" y="1700280"/>
            <a:ext cx="3097440" cy="2320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50760" y="1647720"/>
            <a:ext cx="36212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 como sale en el dibujo, gracias al poder ascendente de la ola, esta sube a un tonel en el cual, en el fondo tiene una turbina que se hace girar mientras el agua va caye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appered Channel (TAPCH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cias al movimiento de la ola, el agua puede subirse hasta una caja que en el fondo tiene un orificio, en el cual pasa a una turbina, generando electricidad, para después ser devuelta al ag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648320" y="1600200"/>
            <a:ext cx="4038480" cy="4525920"/>
            <a:chOff x="4648320" y="1600200"/>
            <a:chExt cx="4038480" cy="452592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4648320" y="1600200"/>
              <a:ext cx="403848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 txBox="1"/>
            <p:nvPr/>
          </p:nvSpPr>
          <p:spPr>
            <a:xfrm>
              <a:off x="4648320" y="1600200"/>
              <a:ext cx="403848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he Pendu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nsiste en una caja rectangular, la cual esta abierta hacia el mar en un costado. Una aleta se abisagra sobre la abertura y la acción de las ondas hace que la aleta pivotee hacia adelante y hacia atrás. El movimiento acciona una bomba hidráulica y un generado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648320" y="2655720"/>
          <a:ext cx="4038480" cy="24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655720"/>
                    <a:ext cx="4038480" cy="24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worldenergy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rise.org.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www.eere.energy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20:54:37Z</dcterms:created>
  <dc:creator>Constanza</dc:creator>
  <dc:description/>
  <dc:language>en-US</dc:language>
  <cp:lastModifiedBy>fbeas</cp:lastModifiedBy>
  <dcterms:modified xsi:type="dcterms:W3CDTF">2007-03-09T22:21:24Z</dcterms:modified>
  <cp:revision>5</cp:revision>
  <dc:subject/>
  <dc:title>Energía de las Olas</dc:title>
</cp:coreProperties>
</file>