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AE9-DAFB-46B2-A908-A824EB42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FB1-09CA-441A-9D5B-3C2A4C25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F3E-ED0D-43C7-8943-7FBB94E8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D3F-01B6-4A9B-8B3A-35834FBB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1E8-FA78-430A-BE05-1BECC62E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AD6-A254-412C-B3A8-B3C5E8BD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BEB-F47A-4CE6-A330-DF6FD3B3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DD6-EA56-4B58-AE53-B0E9F5B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C8B-94B6-4491-80A0-F6062D1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07E-3A96-4EA2-9533-878ED0A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7F7-5CBE-4938-B551-BBF54E32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994-A5A4-41E3-886C-7B7CD47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4625-5A46-4F15-AFD2-B2308AEF6A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energy.org/" TargetMode="External"/><Relationship Id="rId2" Type="http://schemas.openxmlformats.org/officeDocument/2006/relationships/hyperlink" Target="http://www.rise.org.a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ergía de las O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nergía de las olas es limpia, renovable y eficiente. Pero no se explota, a pesar, que Chile es uno de los países que podría producir la mayor cantidad de esta ener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1847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o se aprovecha la energia de las o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distintos tipos, los mas usados y conoci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Columna de agua oscilante (OW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Dragon de la onda (Wave Drag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TAPC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The Pendu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muchos m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lumna de agua oscilante (OW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 como se ve en la figura, la ola acarrea masa de aire la cual gracias a una Turbina Wells, es posible que siempre gire en el mismo sentido, generando ene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ave Dr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19640" y="4724280"/>
            <a:ext cx="285768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7440" cy="232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50760" y="1647720"/>
            <a:ext cx="3621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 como sale en el dibujo, gracias al poder ascendente de la ola, esta sube a un tonel en el cual, en el fondo tiene una turbina que se hace girar mientras el agua va cay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ppered Channel (TAPCH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cias al movimiento de la ola, el agua puede subirse hasta una caja que en el fondo tiene un orificio, en el cual pasa a una turbina, generando electricidad, para después ser devuelta a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Pendu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iste en una caja rectangular, la cual esta abierta hacia el mar en un costado. Una aleta se abisagra sobre la abertura y la acción de las ondas hace que la aleta pivotee hacia adelante y hacia atrás. El movimiento acciona una bomba hidráulica y un generad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48320" y="2655720"/>
          <a:ext cx="403848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55720"/>
                    <a:ext cx="403848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energ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ise.org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eere.energy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20:54:37Z</dcterms:created>
  <dc:creator>Constanza</dc:creator>
  <dc:description/>
  <dc:language>en-US</dc:language>
  <cp:lastModifiedBy>fbeas</cp:lastModifiedBy>
  <dcterms:modified xsi:type="dcterms:W3CDTF">2007-03-09T22:21:24Z</dcterms:modified>
  <cp:revision>5</cp:revision>
  <dc:subject/>
  <dc:title>Energía de las Olas</dc:title>
</cp:coreProperties>
</file>