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C25-C37D-428F-8B2D-E3D179E2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D9F-72B5-4C0E-8D33-82247232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3F4A-2D03-4CEE-9EB1-EB9AB7AC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BAD-B00F-4ABA-8468-A361A9E1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418-7017-4D07-8DF2-E3F5E355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38E-8676-4571-BF71-549F102E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0B72-D01C-4071-9EB1-08CDC58B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B695-F836-41F4-97F7-FF7FD8F2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35B-8E77-4404-B239-14F52EB1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D6A-E655-42C5-8A94-9CE456F1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E85-5B33-417D-BE59-ABC92F0C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635C-1CE0-4417-9ACB-6CE23E6B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0A8A-999B-4FAE-B151-EDA4DDE92B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orldenergy.org/" TargetMode="External"/><Relationship Id="rId2" Type="http://schemas.openxmlformats.org/officeDocument/2006/relationships/hyperlink" Target="http://www.rise.org.au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nergía de las O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energía de las olas es limpia, renovable y eficiente. Pero no se explota, a pesar, que Chile es uno de los países que podría producir la mayor cantidad de esta energ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51847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o se aprovecha la energia de las o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distintos tipos, los mas usados y conocido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- Columna de agua oscilante (OW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2.- Dragon de la onda (Wave Drag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- TAPC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- The Pendu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muchos m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lumna de agua oscilante (OW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al como se ve en la figura, la ola acarrea masa de aire la cual gracias a una Turbina Wells, es posible que siempre gire en el mismo sentido, generando ener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Wave Dr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219640" y="4724280"/>
            <a:ext cx="2857680" cy="1152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097440" cy="2320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50760" y="1647720"/>
            <a:ext cx="36212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 como sale en el dibujo, gracias al poder ascendente de la ola, esta sube a un tonel en el cual, en el fondo tiene una turbina que se hace girar mientras el agua va caye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ppered Channel (TAPCH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cias al movimiento de la ola, el agua puede subirse hasta una caja que en el fondo tiene un orificio, en el cual pasa a una turbina, generando electricidad, para después ser devuelta al a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648320" y="1600200"/>
            <a:ext cx="4038480" cy="4525920"/>
            <a:chOff x="4648320" y="1600200"/>
            <a:chExt cx="4038480" cy="45259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648320" y="1600200"/>
              <a:ext cx="403848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4648320" y="1600200"/>
              <a:ext cx="403848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he Pendu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iste en una caja rectangular, la cual esta abierta hacia el mar en un costado. Una aleta se abisagra sobre la abertura y la acción de las ondas hace que la aleta pivotee hacia adelante y hacia atrás. El movimiento acciona una bomba hidráulica y un generad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648320" y="2655720"/>
          <a:ext cx="4038480" cy="24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55720"/>
                    <a:ext cx="403848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orldenergy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ise.org.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www.eere.energy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20:54:37Z</dcterms:created>
  <dc:creator>Constanza</dc:creator>
  <dc:description/>
  <dc:language>en-US</dc:language>
  <cp:lastModifiedBy>fbeas</cp:lastModifiedBy>
  <dcterms:modified xsi:type="dcterms:W3CDTF">2007-03-09T22:21:24Z</dcterms:modified>
  <cp:revision>5</cp:revision>
  <dc:subject/>
  <dc:title>Energía de las Olas</dc:title>
</cp:coreProperties>
</file>