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2B2A-3F6B-4012-9958-17A72290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D48A-A769-4771-BC35-10B7E678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7E0B-CE82-43E1-A656-A2D2D57C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F8D-AAA9-4131-B7CF-6BCD6385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90D1-0966-4580-A0CD-4F9870B3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B732-79AD-43EE-B20C-5F26ED8C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5B1E-6C56-420B-8D36-15FC4D73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5910-878F-4D20-8CCA-C3664D62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FAE0-5241-4300-9FAD-F44CA071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9854-26F2-4DA7-B3F6-B2BEC712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0033-87F0-42A0-B884-8282659B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28B-9DCD-463F-87CB-BC4A669A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06B8-51A5-4F14-9E28-BB30A8EE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9EB9-7AC9-4370-8584-DF9DEC62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1605-6074-4731-8AA3-ECEC048A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124B-589C-4577-9A2D-DF88785A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70A1-0E9F-4A01-B50D-092A016F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B65-4580-4EA6-97F9-6893C0A0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5858-7EDB-4905-9CFC-6630B80C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ECFB-DD8E-4729-BF50-52FFEABB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DE1-74F5-47A2-8AB1-23F98EC8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C7E-81D1-4F88-94DA-F6F836B3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9A0-BB7C-475C-B1BA-7E83CEAD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B5B-0E9E-49CB-A64D-65B026B1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913A-4EAB-4BD1-9757-597437CCB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6291-3022-4894-BB4D-82422E8B4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Palatino Linotype"/>
              </a:rPr>
              <a:t>Biodigestor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4103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Universidad de Ch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Departamento de Ingeniería Eléct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4365720"/>
            <a:ext cx="3600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Curso :           SD20A-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Integrantes :  Vanja Demet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Consuelo Medei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Francisco Nah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Auxiliares :    Leonardo Sta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Carlos Sánch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Profesor :       Rodrigo Palm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Palatino Linotype"/>
              </a:rPr>
              <a:t>Motiv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Palatino Linotype"/>
              </a:rPr>
              <a:t>Objetiv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946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Palatino Linotype"/>
              </a:rPr>
              <a:t>Objetivo Gen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Palatino Linotype"/>
              </a:rPr>
              <a:t>Construir un aparato o instrumento que permita producir biogás a través de la descomposición anaeróbica desechos orgánicos, para posteriormente realizar la combustión de este gas y generar energía con un motor Stirl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Palatino Linotype"/>
              </a:rPr>
              <a:t>Objetivos Especí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Palatino Linotype"/>
              </a:rPr>
              <a:t>Fabricar un Biodigestor de dimensiones apropiadas para la finalidad del curso, y de fácil utilización y manten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Palatino Linotype"/>
              </a:rPr>
              <a:t>Utilizar en el Biodigestor el tipo de biomasa óptimo para generar biogá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Palatino Linotype"/>
              </a:rPr>
              <a:t>Permitir la salida del biogás minimizando las pérdidas o fugas de éste en su conducción hacia el mech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Palatino Linotype"/>
              </a:rPr>
              <a:t>Generar una llama suficiente, en la combustión del metano, para poder alcanzar la diferencia de temperatura necesaria para el funcionamiento del motor Stirling y así obtener energía mecán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7:48:33Z</dcterms:created>
  <dc:creator>p</dc:creator>
  <dc:description/>
  <dc:language>en-US</dc:language>
  <cp:lastModifiedBy>p</cp:lastModifiedBy>
  <dcterms:modified xsi:type="dcterms:W3CDTF">2007-12-05T00:41:54Z</dcterms:modified>
  <cp:revision>4</cp:revision>
  <dc:subject/>
  <dc:title>Biodigestor</dc:title>
</cp:coreProperties>
</file>