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177-9D83-4ED5-9EAF-1AB271CB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49D-31AF-499C-A521-44938FBF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E46-64E3-4B7A-9FF3-D4388A5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B85-C32E-47FE-A3E3-88A84949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040-FBC9-45C3-9D9B-5F3BD4AD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5F7-B312-4DCF-ADAF-EB17EF7C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E09-690F-4A11-9444-93069E0A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FBB-DDB6-4BD8-AE33-A84CDEA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D8C8-DF82-48DE-AE84-640689C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4FE-0705-4F2D-8354-B4AE452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10C-CABA-45FE-B1BD-70F5D57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C94-0BDC-4730-8E41-442260BD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217-487A-471C-9DB1-1AE1925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EB3D-8D23-471A-BFB3-8B64887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20FF-05ED-4D5D-84B5-4037357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3E62-32EB-46CE-9548-25C85E82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999-CE25-497C-ABD7-5DBE640B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D1E-869D-48A7-B8A7-86DCD419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C6E-E3CD-454A-A793-F94178A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D2B-A450-44AB-9965-CAD39FD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31C-8D54-46A2-9D4F-EC61F17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F9D-25AC-4089-BE39-828653E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99A-F94F-41AA-9882-3072B4B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D78-C6E8-4502-A0E8-60F39FA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F43B-39B4-4A9A-9C20-426F3D49A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D9D-37CD-49CA-A86E-6C5D6544F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Palatino Linotype"/>
              </a:rPr>
              <a:t>Biodigestor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4103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Departamento de Ingeniería Eléc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365720"/>
            <a:ext cx="360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urso :           SD20A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Integrantes :  Vanja Demet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onsuelo Medei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Francisco Nah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Auxiliares :    Leonardo St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Carlos Sánch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latino Linotype"/>
              </a:rPr>
              <a:t>Profesor :       Rodrigo Palm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alatino Linotype"/>
              </a:rPr>
              <a:t>Motiv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alatino Linotype"/>
              </a:rPr>
              <a:t>Objetiv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Objetiv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Construir un aparato o instrumento que permita producir biogás a través de la descomposición anaeróbica desechos orgánicos, para posteriormente realizar la combustión de este gas y generar energía con un motor Stir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Objetivo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Fabricar un Biodigestor de dimensiones apropiadas para la finalidad del curso, y de fácil utilización y man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Utilizar en el Biodigestor el tipo de biomasa óptimo para generar biog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Permitir la salida del biogás minimizando las pérdidas o fugas de éste en su conducción hacia el mech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Generar una llama suficiente, en la combustión del metano, para poder alcanzar la diferencia de temperatura necesaria para el funcionamiento del motor Stirling y así obtener energía mec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48:33Z</dcterms:created>
  <dc:creator>p</dc:creator>
  <dc:description/>
  <dc:language>en-US</dc:language>
  <cp:lastModifiedBy>p</cp:lastModifiedBy>
  <dcterms:modified xsi:type="dcterms:W3CDTF">2007-12-05T00:41:54Z</dcterms:modified>
  <cp:revision>4</cp:revision>
  <dc:subject/>
  <dc:title>Biodigestor</dc:title>
</cp:coreProperties>
</file>