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6FC-1055-49F9-BF94-D48DEC81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E3EF-CC1C-42BB-8D43-8B3DCF28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2DBF-B7FE-4338-9F29-68FDF954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14D3-49BD-4F48-B46B-678B0EA2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CF4-CD4E-42F6-BF8B-A8F5BD01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EE2-2447-4340-9768-624CC819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7C43-EBBC-49B9-9C04-6FB31503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FB7-0CAE-4172-A1FA-C7C2D8C1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A4B-66D7-4AAC-85EF-1B60AC6E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388-D910-4EA3-9091-C8DDF983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673-DBB6-4CE5-AA63-28F934EE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0B8-6332-4AB5-A35A-C0C8FD8E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18F5-7D11-49B3-AE5F-26365845B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8480" y="75888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24480" y="758880"/>
            <a:ext cx="0" cy="29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24480" y="371628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84480" y="461628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84120" y="615960"/>
            <a:ext cx="269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6592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23336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10880" y="1881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34640" y="3932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0640" y="666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28840" y="46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02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84120" y="758880"/>
            <a:ext cx="305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85920" y="220032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356000" y="747720"/>
            <a:ext cx="0" cy="296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284120" y="758520"/>
            <a:ext cx="0" cy="143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4480" y="4433760"/>
            <a:ext cx="90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19400" y="3716280"/>
            <a:ext cx="90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84480" y="371772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083040" y="2548080"/>
            <a:ext cx="0" cy="44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24120" y="2200320"/>
            <a:ext cx="36036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365200" y="2997000"/>
            <a:ext cx="71928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5200" y="371628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84480" y="299736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984480" y="371772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984480" y="747720"/>
            <a:ext cx="0" cy="2968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02120" y="37162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84480" y="1461960"/>
            <a:ext cx="522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84480" y="399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62480" y="399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40120" y="5446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362120" y="5446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60040" y="255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2997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5780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8360" y="254808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57800" y="25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57800" y="220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32000" y="1071720"/>
            <a:ext cx="0" cy="23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108900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43592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349416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83664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33512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8160" y="20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9080" y="3782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4520" y="33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4160" y="1890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932000" y="476280"/>
            <a:ext cx="431640" cy="2160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14160" y="1872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47628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9080" y="45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11640" y="52228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4880" y="5294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522288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1800" y="529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96960" y="3170160"/>
            <a:ext cx="841320" cy="3240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16000" y="34225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116000" y="34956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32781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187280" y="34952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1080" y="327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34520" y="36752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3927600"/>
            <a:ext cx="612720" cy="6476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5135040" y="1096920"/>
            <a:ext cx="900360" cy="23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11640" y="1096560"/>
            <a:ext cx="0" cy="2428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09480" y="1095480"/>
            <a:ext cx="9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 rot="10800000">
            <a:off x="4220640" y="630360"/>
            <a:ext cx="900360" cy="900000"/>
          </a:xfrm>
          <a:prstGeom prst="blockArc">
            <a:avLst>
              <a:gd name="adj1" fmla="val 10834232"/>
              <a:gd name="adj2" fmla="val 21565768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 rot="10800000">
            <a:off x="2400480" y="632160"/>
            <a:ext cx="900000" cy="900360"/>
          </a:xfrm>
          <a:prstGeom prst="blockArc">
            <a:avLst>
              <a:gd name="adj1" fmla="val 10834232"/>
              <a:gd name="adj2" fmla="val 21565768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09840" y="1052640"/>
            <a:ext cx="90000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12360" y="3422520"/>
            <a:ext cx="269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300480" y="1082520"/>
            <a:ext cx="0" cy="23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 rot="16200000">
            <a:off x="4630320" y="1038960"/>
            <a:ext cx="55800" cy="5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 rot="16200000">
            <a:off x="2808360" y="10605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211280" y="353052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35400" y="765000"/>
            <a:ext cx="84168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977080" y="765000"/>
            <a:ext cx="90000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211640" y="3422520"/>
            <a:ext cx="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048360" y="3428640"/>
            <a:ext cx="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968360" y="439596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366720" y="4395960"/>
            <a:ext cx="1528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48000" y="439560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348000" y="5114880"/>
            <a:ext cx="16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47280" y="3536640"/>
            <a:ext cx="86364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035040" y="3105000"/>
            <a:ext cx="84132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36920" y="1736640"/>
            <a:ext cx="630360" cy="179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967280" y="439560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60680" y="500868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60680" y="454032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911760" y="455760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6000" y="453780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40360" y="39276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8880" y="9810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x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32000" y="1233360"/>
            <a:ext cx="1152720" cy="4669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702040" y="1781640"/>
            <a:ext cx="947880" cy="1534680"/>
            <a:chOff x="5702040" y="1781640"/>
            <a:chExt cx="947880" cy="1534680"/>
          </a:xfrm>
        </p:grpSpPr>
        <p:sp>
          <p:nvSpPr>
            <p:cNvPr id="137" name=""/>
            <p:cNvSpPr/>
            <p:nvPr/>
          </p:nvSpPr>
          <p:spPr>
            <a:xfrm flipH="1" flipV="1">
              <a:off x="5973840" y="2664360"/>
              <a:ext cx="18252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6411960" y="2496240"/>
              <a:ext cx="18252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158520" y="2985840"/>
              <a:ext cx="421200" cy="16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337000">
              <a:off x="5951160" y="1812960"/>
              <a:ext cx="449280" cy="1471680"/>
            </a:xfrm>
            <a:prstGeom prst="blockArc">
              <a:avLst>
                <a:gd name="adj1" fmla="val 10800000"/>
                <a:gd name="adj2" fmla="val 0"/>
                <a:gd name="adj3" fmla="val 4920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490880" y="30322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6659640" y="2997000"/>
            <a:ext cx="936720" cy="2156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85080" y="2816280"/>
            <a:ext cx="108000" cy="27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108900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6720" y="1557360"/>
            <a:ext cx="468360" cy="12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58520" y="2701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4880" y="198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3440" y="123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85840" y="72864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5840" y="1628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5840" y="267336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05880" y="364500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512640"/>
            <a:ext cx="6297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0360" y="10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640" y="1982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640" y="292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80760" y="393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95240" y="38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38880" y="26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705440" y="62064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29440" y="350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7632360" y="3429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7280" y="26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96760" y="549360"/>
            <a:ext cx="505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" y="38908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041480" y="353232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08360" y="468936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73080" y="765000"/>
            <a:ext cx="539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5360"/>
            <a:ext cx="6297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3480" y="3608280"/>
            <a:ext cx="0" cy="9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18900000">
            <a:off x="1402920" y="764640"/>
            <a:ext cx="900000" cy="90036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 rot="2700000">
            <a:off x="1402920" y="2706840"/>
            <a:ext cx="898560" cy="90036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197000"/>
            <a:ext cx="0" cy="19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87440" y="2708280"/>
            <a:ext cx="62974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4520" y="3608280"/>
            <a:ext cx="4318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8000" y="3608280"/>
            <a:ext cx="0" cy="9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48000" y="4508640"/>
            <a:ext cx="4317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06400" y="10875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81280" y="31417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32720" y="360828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71640" y="360828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04000" y="1198440"/>
            <a:ext cx="0" cy="19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11620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19800" y="3178080"/>
            <a:ext cx="525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700000">
            <a:off x="6821640" y="772200"/>
            <a:ext cx="900000" cy="86364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 rot="18900000">
            <a:off x="6804360" y="2706840"/>
            <a:ext cx="898560" cy="90000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00360" y="3825720"/>
            <a:ext cx="790560" cy="468360"/>
            <a:chOff x="2700360" y="3825720"/>
            <a:chExt cx="790560" cy="468360"/>
          </a:xfrm>
        </p:grpSpPr>
        <p:sp>
          <p:nvSpPr>
            <p:cNvPr id="188" name=""/>
            <p:cNvSpPr/>
            <p:nvPr/>
          </p:nvSpPr>
          <p:spPr>
            <a:xfrm rot="16200000">
              <a:off x="2640600" y="3893040"/>
              <a:ext cx="449280" cy="3301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040200" y="42940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040200" y="382572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490920" y="384336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448000" y="4689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27280" y="4689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8160" y="4724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5080" y="476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7800" y="476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02880" y="58053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103640" y="4328640"/>
            <a:ext cx="50472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468936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1036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48560" y="468936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8256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247640" y="3824280"/>
            <a:ext cx="1621080" cy="468360"/>
            <a:chOff x="4247640" y="3824280"/>
            <a:chExt cx="1621080" cy="468360"/>
          </a:xfrm>
        </p:grpSpPr>
        <p:sp>
          <p:nvSpPr>
            <p:cNvPr id="204" name=""/>
            <p:cNvSpPr/>
            <p:nvPr/>
          </p:nvSpPr>
          <p:spPr>
            <a:xfrm>
              <a:off x="4584600" y="38242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84600" y="429264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4600" y="382428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5400000">
              <a:off x="4833360" y="3238200"/>
              <a:ext cx="449280" cy="1621080"/>
            </a:xfrm>
            <a:prstGeom prst="blockArc">
              <a:avLst>
                <a:gd name="adj1" fmla="val 10800000"/>
                <a:gd name="adj2" fmla="val 0"/>
                <a:gd name="adj3" fmla="val 4920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608360" y="5049720"/>
            <a:ext cx="134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4520" y="5078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69228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32000" y="159228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0200" y="252900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47628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6520" y="10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7800" y="19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6360" y="27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10880" y="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080" y="26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54936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4720" y="3716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185840" y="335772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17400" y="3675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81800" y="1936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948360" y="5540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10160" y="199404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876720" y="235440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06520" y="44737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16000" y="692280"/>
            <a:ext cx="449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71760" y="1592280"/>
            <a:ext cx="4948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rot="18900000">
            <a:off x="1547280" y="691920"/>
            <a:ext cx="900000" cy="900360"/>
          </a:xfrm>
          <a:prstGeom prst="blockArc">
            <a:avLst>
              <a:gd name="adj1" fmla="val 13445121"/>
              <a:gd name="adj2" fmla="val 18954879"/>
              <a:gd name="adj3" fmla="val 1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 rot="2700000">
            <a:off x="1547280" y="2490840"/>
            <a:ext cx="898560" cy="90036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50880" y="116064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50880" y="2492280"/>
            <a:ext cx="4948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16000" y="3390840"/>
            <a:ext cx="4481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79640" y="3392640"/>
            <a:ext cx="0" cy="80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79640" y="4221000"/>
            <a:ext cx="448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27080" y="1050840"/>
            <a:ext cx="525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43280" y="2924280"/>
            <a:ext cx="522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80000" y="1592280"/>
            <a:ext cx="0" cy="90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6048360" y="691920"/>
            <a:ext cx="900000" cy="900000"/>
          </a:xfrm>
          <a:prstGeom prst="blockArc">
            <a:avLst>
              <a:gd name="adj1" fmla="val 10878095"/>
              <a:gd name="adj2" fmla="val 21521905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047640" y="2491560"/>
            <a:ext cx="898560" cy="900000"/>
          </a:xfrm>
          <a:prstGeom prst="blockArc">
            <a:avLst>
              <a:gd name="adj1" fmla="val 10834232"/>
              <a:gd name="adj2" fmla="val 21565768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54880" y="10573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37240" y="2855880"/>
            <a:ext cx="525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77080" y="339264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80000" y="3392640"/>
            <a:ext cx="0" cy="80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652720" y="4113000"/>
            <a:ext cx="11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72000" y="4510080"/>
            <a:ext cx="98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79640" y="451008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74520" y="4653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79240" y="46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479920" y="3608280"/>
            <a:ext cx="784440" cy="468360"/>
            <a:chOff x="5479920" y="3608280"/>
            <a:chExt cx="784440" cy="468360"/>
          </a:xfrm>
        </p:grpSpPr>
        <p:sp>
          <p:nvSpPr>
            <p:cNvPr id="252" name=""/>
            <p:cNvSpPr/>
            <p:nvPr/>
          </p:nvSpPr>
          <p:spPr>
            <a:xfrm flipH="1" rot="5400000">
              <a:off x="5877000" y="3678120"/>
              <a:ext cx="449280" cy="32544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79920" y="407664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79920" y="36082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481720" y="362592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5:58:56Z</dcterms:created>
  <dc:creator>Uchile</dc:creator>
  <dc:description/>
  <dc:language>en-US</dc:language>
  <cp:lastModifiedBy>Uchile</cp:lastModifiedBy>
  <dcterms:modified xsi:type="dcterms:W3CDTF">2009-06-09T17:43:43Z</dcterms:modified>
  <cp:revision>1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72232958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Planos del brazo</vt:lpwstr>
  </property>
</Properties>
</file>