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488-DBB4-4CE2-ADD2-E56D6175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E0E-83A8-42DE-9DBA-7374AB1F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6FB-9511-4BAD-A11A-41C9A056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519-0841-4F07-8A7F-09020314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55C-2795-48F0-9A2F-95D79498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324-370A-4279-9342-9A58D2E7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D46-2FB5-499D-9BA8-3DF1B93B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D726-BDAF-4290-B7D6-1E38FE7F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B57-9AD3-4670-8651-0075D211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663-9606-42BF-BD8C-3B31A129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972-105E-4239-8777-B92BD713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8CEC-AF52-4B1E-AA18-8A4E85BE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D5C9-2236-4D45-A8C3-DEEDA4946D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1337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16000" y="1484280"/>
          <a:ext cx="6481800" cy="32907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tón Pluma (Poliestireno FOAM) 60x60 cms, 5mm 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dad de traba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 resis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52360" y="549360"/>
            <a:ext cx="95774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920" y="549360"/>
            <a:ext cx="9074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63640" y="1989000"/>
          <a:ext cx="5329080" cy="3670200"/>
        </p:xfrm>
        <a:graphic>
          <a:graphicData uri="http://schemas.openxmlformats.org/drawingml/2006/table">
            <a:tbl>
              <a:tblPr/>
              <a:tblGrid>
                <a:gridCol w="865080"/>
                <a:gridCol w="446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uvia de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quej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lase extr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tipo en Catón Plu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bora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ement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esta en Marcha / Prueba F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71640" y="4437000"/>
            <a:ext cx="1235160" cy="1050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132000" y="2355840"/>
            <a:ext cx="56167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79640" y="4221000"/>
            <a:ext cx="5616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7678200">
            <a:off x="4187160" y="7920"/>
            <a:ext cx="150840" cy="33289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3328920"/>
              <a:gd name="textAreaBottom" fmla="*/ 3306960 h 3328920"/>
            </a:gdLst>
            <a:ahLst/>
            <a:rect l="textAreaLeft" t="textAreaTop" r="textAreaRight" b="textAreaBottom"/>
            <a:pathLst>
              <a:path w="21600" h="475611">
                <a:moveTo>
                  <a:pt x="10800" y="0"/>
                </a:moveTo>
                <a:arcTo wR="10800" hR="10800" stAng="16200000" swAng="-5400000"/>
                <a:lnTo>
                  <a:pt x="0" y="464811"/>
                </a:lnTo>
                <a:arcTo wR="10800" hR="10800" stAng="10800000" swAng="-5400000"/>
                <a:lnTo>
                  <a:pt x="10800" y="4756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2b2b2">
                  <a:alpha val="35294"/>
                </a:srgbClr>
              </a:gs>
            </a:gsLst>
            <a:lin ang="1932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51800">
            <a:off x="2598480" y="739800"/>
            <a:ext cx="152280" cy="2976480"/>
          </a:xfrm>
          <a:custGeom>
            <a:avLst/>
            <a:gdLst>
              <a:gd name="textAreaLeft" fmla="*/ 22320 w 152280"/>
              <a:gd name="textAreaRight" fmla="*/ 129960 w 15228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1251">
                <a:moveTo>
                  <a:pt x="10800" y="0"/>
                </a:moveTo>
                <a:arcTo wR="10800" hR="10800" stAng="16200000" swAng="-5400000"/>
                <a:lnTo>
                  <a:pt x="0" y="410451"/>
                </a:lnTo>
                <a:arcTo wR="10800" hR="10800" stAng="10800000" swAng="-5400000"/>
                <a:lnTo>
                  <a:pt x="10800" y="42125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2b2b2">
                  <a:alpha val="35294"/>
                </a:srgbClr>
              </a:gs>
            </a:gsLst>
            <a:lin ang="345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4201200">
            <a:off x="3102120" y="1192680"/>
            <a:ext cx="152640" cy="297684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840"/>
              <a:gd name="textAreaBottom" fmla="*/ 2954520 h 2976840"/>
            </a:gdLst>
            <a:ahLst/>
            <a:rect l="textAreaLeft" t="textAreaTop" r="textAreaRight" b="textAreaBottom"/>
            <a:pathLst>
              <a:path w="21600" h="420311">
                <a:moveTo>
                  <a:pt x="10800" y="0"/>
                </a:moveTo>
                <a:arcTo wR="10800" hR="10800" stAng="16200000" swAng="-5400000"/>
                <a:lnTo>
                  <a:pt x="0" y="409511"/>
                </a:lnTo>
                <a:arcTo wR="10800" hR="10800" stAng="10800000" swAng="-5400000"/>
                <a:lnTo>
                  <a:pt x="10800" y="4203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94040" y="3462480"/>
            <a:ext cx="559728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44800" y="3009960"/>
            <a:ext cx="150840" cy="4525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452520"/>
              <a:gd name="textAreaBottom" fmla="*/ 430560 h 452520"/>
            </a:gdLst>
            <a:ahLst/>
            <a:rect l="textAreaLeft" t="textAreaTop" r="textAreaRight" b="textAreaBottom"/>
            <a:pathLst>
              <a:path w="21600" h="64697">
                <a:moveTo>
                  <a:pt x="10800" y="0"/>
                </a:moveTo>
                <a:arcTo wR="10800" hR="10800" stAng="16200000" swAng="-5400000"/>
                <a:lnTo>
                  <a:pt x="0" y="53897"/>
                </a:lnTo>
                <a:arcTo wR="10800" hR="10800" stAng="10800000" swAng="-5400000"/>
                <a:lnTo>
                  <a:pt x="10800" y="646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93760" y="3059280"/>
            <a:ext cx="5112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06680" y="1042920"/>
            <a:ext cx="5076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97600" y="2352600"/>
            <a:ext cx="605520" cy="70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96080" y="879480"/>
            <a:ext cx="605880" cy="6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77" y="16159"/>
                </a:moveTo>
                <a:arcTo wR="10800" hR="10800" stAng="1785019" swAng="6500294"/>
                <a:lnTo>
                  <a:pt x="10800" y="10800"/>
                </a:lnTo>
                <a:close/>
              </a:path>
              <a:path fill="none" w="21600" h="21600">
                <a:moveTo>
                  <a:pt x="20177" y="16159"/>
                </a:moveTo>
                <a:arcTo wR="10800" hR="10800" stAng="1785019" swAng="6500294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6042000">
            <a:off x="5496840" y="763560"/>
            <a:ext cx="152640" cy="333036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3330360"/>
              <a:gd name="textAreaBottom" fmla="*/ 3308040 h 3330360"/>
            </a:gdLst>
            <a:ahLst/>
            <a:rect l="textAreaLeft" t="textAreaTop" r="textAreaRight" b="textAreaBottom"/>
            <a:pathLst>
              <a:path w="21600" h="470219">
                <a:moveTo>
                  <a:pt x="10800" y="0"/>
                </a:moveTo>
                <a:arcTo wR="10800" hR="10800" stAng="16200000" swAng="-5400000"/>
                <a:lnTo>
                  <a:pt x="0" y="459419"/>
                </a:lnTo>
                <a:arcTo wR="10800" hR="10800" stAng="10800000" swAng="-5400000"/>
                <a:lnTo>
                  <a:pt x="10800" y="47021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65800" y="217980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5589720"/>
            <a:ext cx="14436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6560" y="5445000"/>
            <a:ext cx="26654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5589720"/>
            <a:ext cx="295272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5373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8920" y="5445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5157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498560" y="515772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87640" y="4724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4724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5013360"/>
            <a:ext cx="1008000" cy="93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8118" y="1978"/>
                </a:moveTo>
                <a:arcTo wR="-9221" hR="-9221" stAng="-6414489" swAng="-9031838"/>
                <a:lnTo>
                  <a:pt x="13149" y="259"/>
                </a:lnTo>
                <a:arcTo wR="10800" hR="10800" stAng="-4646327" swAng="9031838"/>
                <a:lnTo>
                  <a:pt x="14726" y="23716"/>
                </a:lnTo>
                <a:lnTo>
                  <a:pt x="10373" y="21393"/>
                </a:lnTo>
                <a:lnTo>
                  <a:pt x="12697" y="1703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265800" cy="4597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19280" y="57942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STEMA MOTRIZ  (5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682000">
            <a:off x="1547640" y="162864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7919600">
            <a:off x="7092720" y="242028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77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5148360" y="1557360"/>
            <a:ext cx="2200320" cy="4467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59280" y="3284640"/>
            <a:ext cx="0" cy="2449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436572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28000" y="40766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96360" y="1700280"/>
            <a:ext cx="0" cy="403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grupo deberá realizar un “lluvia de ideas” de cómo resolver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comienda investigar de sistemas reales que tengan una función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09-06-01T17:55:11Z</dcterms:modified>
  <cp:revision>73</cp:revision>
  <dc:subject/>
  <dc:title>EL63A-Taller de Proyecto en Control II</dc:title>
</cp:coreProperties>
</file>