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738-2E1E-4874-BD5D-5D3F6557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756-C190-4CEF-91CB-A3027285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43B-DE8C-48C6-A6FF-D18082D9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354-E910-41BC-9349-42D4E340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CD5-3D3F-4479-A6F2-37B682F9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D80-72AA-4313-946F-CF6D4D0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A4B-367F-43EA-B583-C68A465E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05B-C84C-4651-86DC-7BDF1B7B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B28-0C3E-4C80-B3ED-DEDDB18E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F2C-6A44-4A9B-9FC7-8E44071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0E6-0B5A-49BE-8505-7F18FE2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505-293F-40EB-937B-5493C7E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B728-7687-4E0F-92C9-E32E04BC46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1337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52360" y="549360"/>
            <a:ext cx="95774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9074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63640" y="1989000"/>
          <a:ext cx="5329080" cy="3670200"/>
        </p:xfrm>
        <a:graphic>
          <a:graphicData uri="http://schemas.openxmlformats.org/drawingml/2006/table">
            <a:tbl>
              <a:tblPr/>
              <a:tblGrid>
                <a:gridCol w="865080"/>
                <a:gridCol w="446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 de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lase extr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tipo en Catón Plu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esta en Marcha / Prueba F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1235160" cy="105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32000" y="2355840"/>
            <a:ext cx="5616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9640" y="422100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7678200">
            <a:off x="4187160" y="792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51800">
            <a:off x="2598480" y="739800"/>
            <a:ext cx="152280" cy="297648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1251">
                <a:moveTo>
                  <a:pt x="10800" y="0"/>
                </a:moveTo>
                <a:arcTo wR="10800" hR="10800" stAng="16200000" swAng="-5400000"/>
                <a:lnTo>
                  <a:pt x="0" y="410451"/>
                </a:lnTo>
                <a:arcTo wR="10800" hR="10800" stAng="10800000" swAng="-5400000"/>
                <a:lnTo>
                  <a:pt x="10800" y="4212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4201200">
            <a:off x="3102120" y="1192680"/>
            <a:ext cx="152640" cy="297684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840"/>
              <a:gd name="textAreaBottom" fmla="*/ 2954520 h 2976840"/>
            </a:gdLst>
            <a:ahLst/>
            <a:rect l="textAreaLeft" t="textAreaTop" r="textAreaRight" b="textAreaBottom"/>
            <a:pathLst>
              <a:path w="21600" h="420311">
                <a:moveTo>
                  <a:pt x="10800" y="0"/>
                </a:moveTo>
                <a:arcTo wR="10800" hR="10800" stAng="16200000" swAng="-5400000"/>
                <a:lnTo>
                  <a:pt x="0" y="409511"/>
                </a:lnTo>
                <a:arcTo wR="10800" hR="10800" stAng="10800000" swAng="-5400000"/>
                <a:lnTo>
                  <a:pt x="10800" y="4203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94040" y="3462480"/>
            <a:ext cx="559728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44800" y="3009960"/>
            <a:ext cx="150840" cy="4525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452520"/>
              <a:gd name="textAreaBottom" fmla="*/ 430560 h 452520"/>
            </a:gdLst>
            <a:ahLst/>
            <a:rect l="textAreaLeft" t="textAreaTop" r="textAreaRight" b="textAreaBottom"/>
            <a:pathLst>
              <a:path w="21600" h="64697">
                <a:moveTo>
                  <a:pt x="10800" y="0"/>
                </a:moveTo>
                <a:arcTo wR="10800" hR="10800" stAng="16200000" swAng="-5400000"/>
                <a:lnTo>
                  <a:pt x="0" y="53897"/>
                </a:lnTo>
                <a:arcTo wR="10800" hR="10800" stAng="10800000" swAng="-5400000"/>
                <a:lnTo>
                  <a:pt x="10800" y="646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93760" y="3059280"/>
            <a:ext cx="51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06680" y="104292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7600" y="2352600"/>
            <a:ext cx="605520" cy="70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96080" y="879480"/>
            <a:ext cx="605880" cy="6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77" y="16159"/>
                </a:moveTo>
                <a:arcTo wR="10800" hR="10800" stAng="1785019" swAng="6500294"/>
                <a:lnTo>
                  <a:pt x="10800" y="10800"/>
                </a:lnTo>
                <a:close/>
              </a:path>
              <a:path fill="none" w="21600" h="21600">
                <a:moveTo>
                  <a:pt x="20177" y="16159"/>
                </a:moveTo>
                <a:arcTo wR="10800" hR="10800" stAng="1785019" swAng="6500294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6042000">
            <a:off x="5496840" y="763560"/>
            <a:ext cx="152640" cy="333036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360"/>
              <a:gd name="textAreaBottom" fmla="*/ 3308040 h 3330360"/>
            </a:gdLst>
            <a:ahLst/>
            <a:rect l="textAreaLeft" t="textAreaTop" r="textAreaRight" b="textAreaBottom"/>
            <a:pathLst>
              <a:path w="21600" h="470219">
                <a:moveTo>
                  <a:pt x="10800" y="0"/>
                </a:moveTo>
                <a:arcTo wR="10800" hR="10800" stAng="16200000" swAng="-5400000"/>
                <a:lnTo>
                  <a:pt x="0" y="459419"/>
                </a:lnTo>
                <a:arcTo wR="10800" hR="10800" stAng="10800000" swAng="-5400000"/>
                <a:lnTo>
                  <a:pt x="10800" y="47021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65800" y="217980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5589720"/>
            <a:ext cx="14436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5445000"/>
            <a:ext cx="26654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589720"/>
            <a:ext cx="295272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5373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8920" y="544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157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498560" y="51577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5013360"/>
            <a:ext cx="1008000" cy="93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8118" y="1978"/>
                </a:moveTo>
                <a:arcTo wR="-9221" hR="-9221" stAng="-6414489" swAng="-9031838"/>
                <a:lnTo>
                  <a:pt x="13149" y="259"/>
                </a:lnTo>
                <a:arcTo wR="10800" hR="10800" stAng="-4646327" swAng="9031838"/>
                <a:lnTo>
                  <a:pt x="14726" y="23716"/>
                </a:lnTo>
                <a:lnTo>
                  <a:pt x="10373" y="21393"/>
                </a:lnTo>
                <a:lnTo>
                  <a:pt x="12697" y="1703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09-06-01T17:55:11Z</dcterms:modified>
  <cp:revision>73</cp:revision>
  <dc:subject/>
  <dc:title>EL63A-Taller de Proyecto en Control II</dc:title>
</cp:coreProperties>
</file>