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6787-0FF3-4274-BCCC-F6B276E8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5F5-4905-42FD-91FC-E3280834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CAB-EB46-49CE-B930-8667B035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A54D-CC58-4844-8E34-2B87C681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DF6-8064-4DA0-BEE2-C0666245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78BB-18B2-4BF1-81E9-28BE40B7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0B5-9CF9-4F2F-9808-5763F501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F591-AC34-4F53-B73E-D38CE900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06F4-2731-460B-8F9C-C91BE049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C45-AAB3-49DD-A80A-C6E55913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CE9-C92A-46F9-8195-17E7D6BB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27F-DDEC-411C-A6DC-20F7E516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F925-20F1-453C-81EE-4BF19FA0D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1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entaciones Or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3400" y="517680"/>
            <a:ext cx="801720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557360"/>
            <a:ext cx="806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gir bien tipo de gráf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n aportar información claramente,    si requiere demasiada explicación no si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ítulos, escalas deben ser legi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 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276640"/>
            <a:ext cx="7488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el trabajo (conciso, objetiv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l Examen de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234936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º Lectura-Corrección de 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º Presentación (máx. 20 min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º Deliberación de Com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4653000"/>
            <a:ext cx="2810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8: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4:AaBbCc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8425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: malos 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93800" y="1052640"/>
            <a:ext cx="58579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7600" y="657360"/>
            <a:ext cx="83073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5960" y="503280"/>
            <a:ext cx="79106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pc1</cp:lastModifiedBy>
  <dcterms:modified xsi:type="dcterms:W3CDTF">2009-05-14T03:00:38Z</dcterms:modified>
  <cp:revision>14</cp:revision>
  <dc:subject/>
  <dc:title>Diapositiva 1</dc:title>
</cp:coreProperties>
</file>