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7FB-C40A-444E-9914-37983285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6AB-A253-463E-8DB5-2BACBAD5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74C-5AD8-4BDE-A40C-13D43A77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255-7F0D-441B-BFFE-D0EBA110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A3E-8867-4026-B8B9-32546F39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1EE-91B8-42FA-8557-33E1C10A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F52-0B31-4E18-B764-0B8F8E62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4AF-9D27-4DFC-ABCD-96F2C195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CE6-8777-4D7B-BF38-385A563F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689-8DE6-4640-9DF7-CA31C4FB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062-232F-4E45-A35E-4733E7F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411-54A6-4C0B-B5DA-DBD80FA6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72FB-4349-45B3-9C41-4C082785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pc1</cp:lastModifiedBy>
  <dcterms:modified xsi:type="dcterms:W3CDTF">2009-05-14T03:00:38Z</dcterms:modified>
  <cp:revision>14</cp:revision>
  <dc:subject/>
  <dc:title>Diapositiva 1</dc:title>
</cp:coreProperties>
</file>