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216-EF49-495E-AAFF-85CDA3E6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846-876A-480B-AFDE-2F13BBF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D4E-989A-4D51-A355-74A24A43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4DD-3104-4E40-AE1D-6550ABD5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682-01CA-4202-8D27-E051DE6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09C-84AF-40D3-A45D-F802579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7A5-7D19-4F6B-AAE6-8B2FB355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5D5-729B-4DF4-B993-6F4D557B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040-1E2E-4667-9251-6AA38FCD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95-EA33-4A33-8030-E178EDB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B7F-E2EA-4482-BC6B-BD1C3B4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B53-64F9-47C9-8C6C-73CD826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EE36-6A6E-4069-8994-C861186A1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pc1</cp:lastModifiedBy>
  <dcterms:modified xsi:type="dcterms:W3CDTF">2009-05-14T03:00:38Z</dcterms:modified>
  <cp:revision>14</cp:revision>
  <dc:subject/>
  <dc:title>Diapositiva 1</dc:title>
</cp:coreProperties>
</file>