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61B-E014-4F68-AA27-336E44EA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785-9957-4F50-8913-C47619B3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2C1-F66C-4C73-85E1-DE73B786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E8F-5153-4C73-AAB1-3F75C27E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4E0-CE46-44CD-8281-33D72483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EAA-DB52-4326-B561-EC270D1B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215F-D3DF-4EDC-B022-4AD01785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E69-B25A-431E-8514-E0F0D270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0CB-768E-49BB-B9AF-B3C836E3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894-D603-44A9-99A6-D48FD4C1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E94-AC92-4086-B719-D9551BF9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857-9DD4-424F-B287-4DD96CC5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5F35-14A7-4801-B73D-0E4CAFCA7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1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400" y="517680"/>
            <a:ext cx="80172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55736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gir bien tipo de gráf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n aportar información claramente,    si requiere demasiada explicación no si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ítulos, escalas deben ser le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 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276640"/>
            <a:ext cx="748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el trabajo (conciso, objeti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l Examen de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234936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º Lectura-Corrección de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º Presentación (máx. 20 min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º Deliberación de Co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4653000"/>
            <a:ext cx="2810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8: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4:AaBbCc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42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: malos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93800" y="1052640"/>
            <a:ext cx="5857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7600" y="657360"/>
            <a:ext cx="83073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5960" y="503280"/>
            <a:ext cx="79106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pc1</cp:lastModifiedBy>
  <dcterms:modified xsi:type="dcterms:W3CDTF">2009-05-14T03:00:38Z</dcterms:modified>
  <cp:revision>14</cp:revision>
  <dc:subject/>
  <dc:title>Diapositiva 1</dc:title>
</cp:coreProperties>
</file>