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2E06-90FB-49E7-8B41-B6D3A173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D538-0EC3-4FD6-A72D-8C80CCAF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9BF6-1FDD-45CE-94AB-3E50D975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441-44E4-41FE-9249-B95B108C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A40-768A-4ECE-886C-D4F98B83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5BB-54CE-4B7C-B6E4-D207310F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9CDE-B6A1-40A9-B347-59B75F15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94EE-1F02-4B9D-B3FD-15AA4E77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81F-1879-4AC5-931E-F714DE0F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1409-8312-4174-8978-FFA41118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7AE-D04E-4D68-BEF7-D3583289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11A-3DDC-4BF7-BEEC-B45910DF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B925-2907-49EE-B19D-106DB5ACF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8480" y="7588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24480" y="758880"/>
            <a:ext cx="0" cy="296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24480" y="371628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84480" y="46162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84120" y="615960"/>
            <a:ext cx="269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6592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23336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0880" y="1881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34640" y="3932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0640" y="666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28840" y="46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0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84120" y="758880"/>
            <a:ext cx="305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85920" y="220032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35600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284120" y="758520"/>
            <a:ext cx="0" cy="143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4480" y="443376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19400" y="3716280"/>
            <a:ext cx="9000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0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083040" y="2548080"/>
            <a:ext cx="0" cy="44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24120" y="2200320"/>
            <a:ext cx="360360" cy="36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365200" y="2997000"/>
            <a:ext cx="71928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5200" y="37162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84480" y="299736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984480" y="371772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3984480" y="747720"/>
            <a:ext cx="0" cy="2968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002120" y="37162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84480" y="146196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84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362480" y="3999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40120" y="54468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62120" y="5446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60040" y="255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68360" y="299736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57800" y="321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68360" y="254808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57800" y="252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220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57800" y="2205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1071720"/>
            <a:ext cx="0" cy="23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87280" y="1089000"/>
            <a:ext cx="0" cy="53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332000" y="435924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32000" y="34941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83664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88000" y="33512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8160" y="20606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9080" y="37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4520" y="3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294160" y="1890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4932000" y="476280"/>
            <a:ext cx="43164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14160" y="18720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24000" y="476280"/>
            <a:ext cx="505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9080" y="45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52228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4880" y="5294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5222880"/>
            <a:ext cx="90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21800" y="529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096960" y="3170160"/>
            <a:ext cx="841320" cy="3240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16000" y="34225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116000" y="34956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32781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187280" y="349524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1080" y="327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234520" y="367524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3927600"/>
            <a:ext cx="612720" cy="647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5135040" y="1096920"/>
            <a:ext cx="90036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211640" y="1096560"/>
            <a:ext cx="0" cy="242892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309480" y="1095480"/>
            <a:ext cx="90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 rot="10800000">
            <a:off x="4220640" y="630360"/>
            <a:ext cx="9003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 rot="10800000">
            <a:off x="2400480" y="632160"/>
            <a:ext cx="900000" cy="90036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509840" y="105264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512360" y="3422520"/>
            <a:ext cx="269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300480" y="1082520"/>
            <a:ext cx="0" cy="2340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 rot="16200000">
            <a:off x="4630320" y="1038960"/>
            <a:ext cx="55800" cy="558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 rot="16200000">
            <a:off x="2808360" y="1060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211280" y="3530520"/>
            <a:ext cx="1800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135400" y="765000"/>
            <a:ext cx="84168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5977080" y="765000"/>
            <a:ext cx="900000" cy="234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211640" y="3422520"/>
            <a:ext cx="0" cy="90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048360" y="3428640"/>
            <a:ext cx="0" cy="98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4968360" y="4395960"/>
            <a:ext cx="107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366720" y="4395960"/>
            <a:ext cx="15289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4800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348000" y="51148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347280" y="3536640"/>
            <a:ext cx="86364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035040" y="3105000"/>
            <a:ext cx="841320" cy="324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36920" y="1736640"/>
            <a:ext cx="630360" cy="179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967280" y="4395600"/>
            <a:ext cx="0" cy="718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3460680" y="500868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460680" y="454032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911760" y="455760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6000" y="4537800"/>
            <a:ext cx="0" cy="4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0360" y="392760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8880" y="98100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x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32000" y="1233360"/>
            <a:ext cx="1152720" cy="46692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702040" y="1781640"/>
            <a:ext cx="947880" cy="1534680"/>
            <a:chOff x="5702040" y="1781640"/>
            <a:chExt cx="947880" cy="1534680"/>
          </a:xfrm>
        </p:grpSpPr>
        <p:sp>
          <p:nvSpPr>
            <p:cNvPr id="137" name=""/>
            <p:cNvSpPr/>
            <p:nvPr/>
          </p:nvSpPr>
          <p:spPr>
            <a:xfrm flipH="1" flipV="1">
              <a:off x="5973840" y="266436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6411960" y="2496240"/>
              <a:ext cx="18252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6158520" y="2985840"/>
              <a:ext cx="421200" cy="16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20337000">
              <a:off x="5951160" y="1812960"/>
              <a:ext cx="449280" cy="14716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7490880" y="303228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659640" y="2997000"/>
            <a:ext cx="936720" cy="21564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85080" y="2816280"/>
            <a:ext cx="108000" cy="27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1089000"/>
            <a:ext cx="0" cy="234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516720" y="1557360"/>
            <a:ext cx="468360" cy="12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58520" y="2701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34880" y="1989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3440" y="123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85840" y="72864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5840" y="16286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85840" y="267336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05880" y="3645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3280" y="512640"/>
            <a:ext cx="6297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036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11640" y="198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1640" y="292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80760" y="3933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395240" y="381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388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7705440" y="6206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9440" y="350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7632360" y="3429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72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96760" y="549360"/>
            <a:ext cx="5050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" y="38908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041480" y="35323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08360" y="468936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73080" y="765000"/>
            <a:ext cx="53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5360"/>
            <a:ext cx="62978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348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18900000">
            <a:off x="1402920" y="764640"/>
            <a:ext cx="90000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 rot="2700000">
            <a:off x="1402920" y="2706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19700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87440" y="2708280"/>
            <a:ext cx="62974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414520" y="3608280"/>
            <a:ext cx="431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48000" y="3608280"/>
            <a:ext cx="0" cy="900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48000" y="4508640"/>
            <a:ext cx="4317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06400" y="108756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81280" y="31417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73272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71640" y="3608280"/>
            <a:ext cx="53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704000" y="1198440"/>
            <a:ext cx="0" cy="197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116208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219800" y="31780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700000">
            <a:off x="6821640" y="772200"/>
            <a:ext cx="900000" cy="86364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 rot="18900000">
            <a:off x="6804360" y="2706840"/>
            <a:ext cx="898560" cy="90000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700360" y="3825720"/>
            <a:ext cx="790560" cy="468360"/>
            <a:chOff x="2700360" y="3825720"/>
            <a:chExt cx="790560" cy="468360"/>
          </a:xfrm>
        </p:grpSpPr>
        <p:sp>
          <p:nvSpPr>
            <p:cNvPr id="188" name=""/>
            <p:cNvSpPr/>
            <p:nvPr/>
          </p:nvSpPr>
          <p:spPr>
            <a:xfrm rot="16200000">
              <a:off x="2640600" y="3893040"/>
              <a:ext cx="449280" cy="33012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3040200" y="42940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040200" y="382572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490920" y="384336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448000" y="468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27280" y="4689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438160" y="4724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508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7800" y="476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2880" y="580536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4103640" y="4328640"/>
            <a:ext cx="5047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103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748560" y="4689360"/>
            <a:ext cx="98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9825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247640" y="3824280"/>
            <a:ext cx="1621080" cy="468360"/>
            <a:chOff x="4247640" y="3824280"/>
            <a:chExt cx="1621080" cy="468360"/>
          </a:xfrm>
        </p:grpSpPr>
        <p:sp>
          <p:nvSpPr>
            <p:cNvPr id="204" name=""/>
            <p:cNvSpPr/>
            <p:nvPr/>
          </p:nvSpPr>
          <p:spPr>
            <a:xfrm>
              <a:off x="4584600" y="3824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84600" y="4292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84600" y="382428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5400000">
              <a:off x="4833360" y="3238200"/>
              <a:ext cx="449280" cy="1621080"/>
            </a:xfrm>
            <a:prstGeom prst="blockArc">
              <a:avLst>
                <a:gd name="adj1" fmla="val 10800000"/>
                <a:gd name="adj2" fmla="val 0"/>
                <a:gd name="adj3" fmla="val 49208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608360" y="5049720"/>
            <a:ext cx="134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4520" y="5078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332000" y="6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159228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30200" y="2529000"/>
            <a:ext cx="0" cy="9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47628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6520" y="1052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7800" y="19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636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10880" y="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33080" y="260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54936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4720" y="37162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185840" y="3357720"/>
            <a:ext cx="50472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17400" y="3675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81800" y="19368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948360" y="554040"/>
            <a:ext cx="432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310160" y="1994040"/>
            <a:ext cx="70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=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6876720" y="2354400"/>
            <a:ext cx="431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06520" y="4473720"/>
            <a:ext cx="8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x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016000" y="692280"/>
            <a:ext cx="449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571760" y="15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 rot="18900000">
            <a:off x="1547280" y="691920"/>
            <a:ext cx="900000" cy="900360"/>
          </a:xfrm>
          <a:prstGeom prst="blockArc">
            <a:avLst>
              <a:gd name="adj1" fmla="val 13445121"/>
              <a:gd name="adj2" fmla="val 18954879"/>
              <a:gd name="adj3" fmla="val 1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 rot="2700000">
            <a:off x="1547280" y="2490840"/>
            <a:ext cx="898560" cy="900360"/>
          </a:xfrm>
          <a:prstGeom prst="blockArc">
            <a:avLst>
              <a:gd name="adj1" fmla="val 13566613"/>
              <a:gd name="adj2" fmla="val 18833387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50880" y="1160640"/>
            <a:ext cx="0" cy="18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50880" y="2492280"/>
            <a:ext cx="494820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16000" y="339084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97964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79640" y="4221000"/>
            <a:ext cx="448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27080" y="105084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43280" y="2924280"/>
            <a:ext cx="522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80000" y="1592280"/>
            <a:ext cx="0" cy="900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5400000">
            <a:off x="6048360" y="691920"/>
            <a:ext cx="900000" cy="900000"/>
          </a:xfrm>
          <a:prstGeom prst="blockArc">
            <a:avLst>
              <a:gd name="adj1" fmla="val 10878095"/>
              <a:gd name="adj2" fmla="val 21521905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6047640" y="2491560"/>
            <a:ext cx="898560" cy="900000"/>
          </a:xfrm>
          <a:prstGeom prst="blockArc">
            <a:avLst>
              <a:gd name="adj1" fmla="val 10834232"/>
              <a:gd name="adj2" fmla="val 21565768"/>
              <a:gd name="adj3" fmla="val 0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554880" y="1057320"/>
            <a:ext cx="5400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37240" y="2855880"/>
            <a:ext cx="52560" cy="54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77080" y="339264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480000" y="3392640"/>
            <a:ext cx="0" cy="809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652720" y="4113000"/>
            <a:ext cx="11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72000" y="451008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979640" y="4510080"/>
            <a:ext cx="350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74520" y="4653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979240" y="46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5479920" y="3608280"/>
            <a:ext cx="784440" cy="468360"/>
            <a:chOff x="5479920" y="3608280"/>
            <a:chExt cx="784440" cy="468360"/>
          </a:xfrm>
        </p:grpSpPr>
        <p:sp>
          <p:nvSpPr>
            <p:cNvPr id="252" name=""/>
            <p:cNvSpPr/>
            <p:nvPr/>
          </p:nvSpPr>
          <p:spPr>
            <a:xfrm flipH="1" rot="5400000">
              <a:off x="5877000" y="3678120"/>
              <a:ext cx="449280" cy="32544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79920" y="407664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79920" y="3608280"/>
              <a:ext cx="44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481720" y="3625920"/>
              <a:ext cx="0" cy="449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5:58:56Z</dcterms:created>
  <dc:creator>Uchile</dc:creator>
  <dc:description/>
  <dc:language>en-US</dc:language>
  <cp:lastModifiedBy>Uchile</cp:lastModifiedBy>
  <dcterms:modified xsi:type="dcterms:W3CDTF">2009-06-09T17:43:43Z</dcterms:modified>
  <cp:revision>1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72232958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Planos del brazo</vt:lpwstr>
  </property>
</Properties>
</file>