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735-8306-4FA6-9290-6F5ABA4F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F80-B8CB-4B20-B4D4-641433CD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14C-F76E-48A3-BA70-D8EFEB76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710-469D-4A55-BB5B-DA80C211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D7C-E0A1-4014-9F8D-09E1D844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81D-CDED-409F-BC9F-2A35ACC1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082-0756-4EF8-BCBE-2443859C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B10-1CDB-44C1-8935-26A416F1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829-042E-4C57-A139-026A12D2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048-2239-4F30-9BC2-B8FDEC72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DC5-A300-47AB-9967-73D34C9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43E-FACA-409A-BC4B-015867E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107C-DD93-49C0-A645-3D35C94EC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480" y="7588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24480" y="758880"/>
            <a:ext cx="0" cy="29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24480" y="3716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84480" y="46162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84120" y="615960"/>
            <a:ext cx="269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592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23336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0880" y="1881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34640" y="393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0640" y="66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28840" y="46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0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84120" y="758880"/>
            <a:ext cx="305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220032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84120" y="75852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4480" y="443376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9400" y="371628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083040" y="2548080"/>
            <a:ext cx="0" cy="44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24120" y="220032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365200" y="2997000"/>
            <a:ext cx="71928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5200" y="3716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84480" y="299736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9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8448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02120" y="3716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84480" y="146196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84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2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40120" y="544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62120" y="544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60040" y="25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5780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254808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57800" y="25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7800" y="220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107172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1089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3592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34941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83664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33512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8160" y="20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9080" y="37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4520" y="3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4160" y="1890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932000" y="476280"/>
            <a:ext cx="43164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4160" y="1872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47628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9080" y="45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52228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4880" y="529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52228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1800" y="529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96960" y="3170160"/>
            <a:ext cx="841320" cy="3240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16000" y="3422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116000" y="349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3278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187280" y="34952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1080" y="327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34520" y="36752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927600"/>
            <a:ext cx="612720" cy="647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135040" y="1096920"/>
            <a:ext cx="90036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1096560"/>
            <a:ext cx="0" cy="242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09480" y="1095480"/>
            <a:ext cx="9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10800000">
            <a:off x="4220640" y="630360"/>
            <a:ext cx="9003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0800000">
            <a:off x="2400480" y="632160"/>
            <a:ext cx="900000" cy="90036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09840" y="105264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12360" y="3422520"/>
            <a:ext cx="269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00480" y="1082520"/>
            <a:ext cx="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16200000">
            <a:off x="4630320" y="1038960"/>
            <a:ext cx="5580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 rot="16200000">
            <a:off x="2808360" y="1060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11280" y="35305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35400" y="765000"/>
            <a:ext cx="84168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977080" y="76500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11640" y="3422520"/>
            <a:ext cx="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48360" y="3428640"/>
            <a:ext cx="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68360" y="4395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366720" y="4395960"/>
            <a:ext cx="1528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4800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348000" y="51148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47280" y="3536640"/>
            <a:ext cx="863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35040" y="3105000"/>
            <a:ext cx="84132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36920" y="1736640"/>
            <a:ext cx="630360" cy="179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6728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60680" y="50086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60680" y="454032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11760" y="455760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6000" y="45378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0360" y="39276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8880" y="98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x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32000" y="1233360"/>
            <a:ext cx="1152720" cy="466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702040" y="1781640"/>
            <a:ext cx="947880" cy="1534680"/>
            <a:chOff x="5702040" y="1781640"/>
            <a:chExt cx="947880" cy="1534680"/>
          </a:xfrm>
        </p:grpSpPr>
        <p:sp>
          <p:nvSpPr>
            <p:cNvPr id="137" name=""/>
            <p:cNvSpPr/>
            <p:nvPr/>
          </p:nvSpPr>
          <p:spPr>
            <a:xfrm flipH="1" flipV="1">
              <a:off x="5973840" y="266436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411960" y="249624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158520" y="2985840"/>
              <a:ext cx="421200" cy="16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337000">
              <a:off x="5951160" y="1812960"/>
              <a:ext cx="449280" cy="14716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490880" y="3032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659640" y="2997000"/>
            <a:ext cx="936720" cy="215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5080" y="2816280"/>
            <a:ext cx="108000" cy="27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108900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557360"/>
            <a:ext cx="468360" cy="12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58520" y="2701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880" y="19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3440" y="12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85840" y="728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5840" y="1628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5840" y="2673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05880" y="3645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512640"/>
            <a:ext cx="629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36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640" y="19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640" y="292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8076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95240" y="38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388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705440" y="620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9440" y="350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632360" y="3429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6760" y="54936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" y="3890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041480" y="35323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08360" y="468936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3080" y="765000"/>
            <a:ext cx="53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5360"/>
            <a:ext cx="6297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348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18900000">
            <a:off x="1402920" y="764640"/>
            <a:ext cx="90000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700000">
            <a:off x="1402920" y="2706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19700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87440" y="2708280"/>
            <a:ext cx="6297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4520" y="3608280"/>
            <a:ext cx="431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800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48000" y="4508640"/>
            <a:ext cx="4317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06400" y="1087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81280" y="3141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3272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7164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04000" y="119844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162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19800" y="31780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700000">
            <a:off x="6821640" y="772200"/>
            <a:ext cx="900000" cy="86364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 rot="18900000">
            <a:off x="6804360" y="2706840"/>
            <a:ext cx="898560" cy="90000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00360" y="3825720"/>
            <a:ext cx="790560" cy="468360"/>
            <a:chOff x="2700360" y="3825720"/>
            <a:chExt cx="790560" cy="468360"/>
          </a:xfrm>
        </p:grpSpPr>
        <p:sp>
          <p:nvSpPr>
            <p:cNvPr id="188" name=""/>
            <p:cNvSpPr/>
            <p:nvPr/>
          </p:nvSpPr>
          <p:spPr>
            <a:xfrm rot="16200000">
              <a:off x="2640600" y="3893040"/>
              <a:ext cx="449280" cy="3301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40200" y="4294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40200" y="382572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490920" y="384336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448000" y="468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27280" y="468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8160" y="472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508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780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2880" y="58053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03640" y="4328640"/>
            <a:ext cx="504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103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485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825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247640" y="3824280"/>
            <a:ext cx="1621080" cy="468360"/>
            <a:chOff x="4247640" y="3824280"/>
            <a:chExt cx="1621080" cy="468360"/>
          </a:xfrm>
        </p:grpSpPr>
        <p:sp>
          <p:nvSpPr>
            <p:cNvPr id="204" name=""/>
            <p:cNvSpPr/>
            <p:nvPr/>
          </p:nvSpPr>
          <p:spPr>
            <a:xfrm>
              <a:off x="4584600" y="3824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84600" y="4292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4600" y="382428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4833360" y="3238200"/>
              <a:ext cx="449280" cy="16210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608360" y="504972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4520" y="5078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6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15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0200" y="2529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4762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52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7800" y="19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636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10880" y="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0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4936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720" y="3716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185840" y="33577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17400" y="3675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81800" y="1936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948360" y="5540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10160" y="19940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876720" y="23544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06520" y="4473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16000" y="692280"/>
            <a:ext cx="44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71760" y="15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18900000">
            <a:off x="1547280" y="691920"/>
            <a:ext cx="900000" cy="900360"/>
          </a:xfrm>
          <a:prstGeom prst="blockArc">
            <a:avLst>
              <a:gd name="adj1" fmla="val 13445121"/>
              <a:gd name="adj2" fmla="val 18954879"/>
              <a:gd name="adj3" fmla="val 1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 rot="2700000">
            <a:off x="1547280" y="2490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50880" y="1160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0880" y="24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16000" y="339084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964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422100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27080" y="105084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43280" y="292428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80000" y="1592280"/>
            <a:ext cx="0" cy="9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6048360" y="691920"/>
            <a:ext cx="900000" cy="900000"/>
          </a:xfrm>
          <a:prstGeom prst="blockArc">
            <a:avLst>
              <a:gd name="adj1" fmla="val 10878095"/>
              <a:gd name="adj2" fmla="val 21521905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047640" y="2491560"/>
            <a:ext cx="8985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54880" y="1057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37240" y="28558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7080" y="339264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8000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652720" y="4113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72000" y="451008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9640" y="451008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74520" y="465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79240" y="46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79920" y="3608280"/>
            <a:ext cx="784440" cy="468360"/>
            <a:chOff x="5479920" y="3608280"/>
            <a:chExt cx="784440" cy="468360"/>
          </a:xfrm>
        </p:grpSpPr>
        <p:sp>
          <p:nvSpPr>
            <p:cNvPr id="252" name=""/>
            <p:cNvSpPr/>
            <p:nvPr/>
          </p:nvSpPr>
          <p:spPr>
            <a:xfrm flipH="1" rot="5400000">
              <a:off x="5877000" y="3678120"/>
              <a:ext cx="449280" cy="3254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79920" y="4076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9920" y="3608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81720" y="362592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58:56Z</dcterms:created>
  <dc:creator>Uchile</dc:creator>
  <dc:description/>
  <dc:language>en-US</dc:language>
  <cp:lastModifiedBy>Uchile</cp:lastModifiedBy>
  <dcterms:modified xsi:type="dcterms:W3CDTF">2009-06-09T17:43:43Z</dcterms:modified>
  <cp:revision>1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72232958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Planos del brazo</vt:lpwstr>
  </property>
</Properties>
</file>