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B971-86B2-41CE-AA73-E75748006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69CE-F466-4D74-BEB2-C8435C8B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6E8B-7150-4B32-8480-38EAB503C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8C41-E1AD-469B-9D3F-CDCD55B5F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0D39-CCFA-4B0C-B568-037A429E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F08C-627F-4FDC-A683-5C8F2317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6E0A-F231-48DC-A5BB-46D51E06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C452-9675-40D6-B544-7A0E128C2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5073-4AC0-497F-9857-A373F344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6AC0-B85B-4016-A534-4C95E2E9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48D0-A599-4B46-834B-A45BEC3F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D934-42D6-4E03-A3D5-B374DAD0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0F44-519C-4431-8DDF-049BD7261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2133720"/>
            <a:ext cx="8915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Proyecto de Ingeniería 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1116000" y="1484280"/>
          <a:ext cx="6481800" cy="3290760"/>
        </p:xfrm>
        <a:graphic>
          <a:graphicData uri="http://schemas.openxmlformats.org/drawingml/2006/table">
            <a:tbl>
              <a:tblPr/>
              <a:tblGrid>
                <a:gridCol w="6481800"/>
              </a:tblGrid>
              <a:tr h="72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rial B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7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tón Pluma (Poliestireno FOAM) 60x60 cms, 5mm espes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cilidad de trabaj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ta resistenc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252360" y="549360"/>
            <a:ext cx="957744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4920" y="549360"/>
            <a:ext cx="90741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763640" y="1989000"/>
          <a:ext cx="5329080" cy="3670200"/>
        </p:xfrm>
        <a:graphic>
          <a:graphicData uri="http://schemas.openxmlformats.org/drawingml/2006/table">
            <a:tbl>
              <a:tblPr/>
              <a:tblGrid>
                <a:gridCol w="865080"/>
                <a:gridCol w="446400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átedr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luvia de ide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squej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totipo en Catón Plu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aboración de Pla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mplementa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uesta en Marcha / Prueba Fi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71640" y="4437000"/>
            <a:ext cx="1235160" cy="10508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132000" y="2355840"/>
            <a:ext cx="5616720" cy="36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79640" y="4221000"/>
            <a:ext cx="5616720" cy="230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7678200">
            <a:off x="4187160" y="7920"/>
            <a:ext cx="150840" cy="3328920"/>
          </a:xfrm>
          <a:custGeom>
            <a:avLst/>
            <a:gdLst>
              <a:gd name="textAreaLeft" fmla="*/ 21960 w 150840"/>
              <a:gd name="textAreaRight" fmla="*/ 128880 w 150840"/>
              <a:gd name="textAreaTop" fmla="*/ 21960 h 3328920"/>
              <a:gd name="textAreaBottom" fmla="*/ 3306960 h 3328920"/>
            </a:gdLst>
            <a:ahLst/>
            <a:rect l="textAreaLeft" t="textAreaTop" r="textAreaRight" b="textAreaBottom"/>
            <a:pathLst>
              <a:path w="21600" h="475611">
                <a:moveTo>
                  <a:pt x="10800" y="0"/>
                </a:moveTo>
                <a:arcTo wR="10800" hR="10800" stAng="16200000" swAng="-5400000"/>
                <a:lnTo>
                  <a:pt x="0" y="464811"/>
                </a:lnTo>
                <a:arcTo wR="10800" hR="10800" stAng="10800000" swAng="-5400000"/>
                <a:lnTo>
                  <a:pt x="10800" y="47561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b2b2b2">
                  <a:alpha val="33333"/>
                </a:srgbClr>
              </a:gs>
              <a:gs pos="100000">
                <a:srgbClr val="b2b2b2">
                  <a:alpha val="35294"/>
                </a:srgbClr>
              </a:gs>
            </a:gsLst>
            <a:lin ang="1932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951800">
            <a:off x="2598480" y="739800"/>
            <a:ext cx="152280" cy="2976480"/>
          </a:xfrm>
          <a:custGeom>
            <a:avLst/>
            <a:gdLst>
              <a:gd name="textAreaLeft" fmla="*/ 22320 w 152280"/>
              <a:gd name="textAreaRight" fmla="*/ 129960 w 152280"/>
              <a:gd name="textAreaTop" fmla="*/ 22320 h 2976480"/>
              <a:gd name="textAreaBottom" fmla="*/ 2954160 h 2976480"/>
            </a:gdLst>
            <a:ahLst/>
            <a:rect l="textAreaLeft" t="textAreaTop" r="textAreaRight" b="textAreaBottom"/>
            <a:pathLst>
              <a:path w="21600" h="421251">
                <a:moveTo>
                  <a:pt x="10800" y="0"/>
                </a:moveTo>
                <a:arcTo wR="10800" hR="10800" stAng="16200000" swAng="-5400000"/>
                <a:lnTo>
                  <a:pt x="0" y="410451"/>
                </a:lnTo>
                <a:arcTo wR="10800" hR="10800" stAng="10800000" swAng="-5400000"/>
                <a:lnTo>
                  <a:pt x="10800" y="42125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gradFill rotWithShape="0">
            <a:gsLst>
              <a:gs pos="0">
                <a:srgbClr val="b2b2b2">
                  <a:alpha val="33333"/>
                </a:srgbClr>
              </a:gs>
              <a:gs pos="100000">
                <a:srgbClr val="b2b2b2">
                  <a:alpha val="35294"/>
                </a:srgbClr>
              </a:gs>
            </a:gsLst>
            <a:lin ang="3450000"/>
          </a:gra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4201200">
            <a:off x="3102120" y="1192680"/>
            <a:ext cx="152640" cy="2976840"/>
          </a:xfrm>
          <a:custGeom>
            <a:avLst/>
            <a:gdLst>
              <a:gd name="textAreaLeft" fmla="*/ 22320 w 152640"/>
              <a:gd name="textAreaRight" fmla="*/ 130320 w 152640"/>
              <a:gd name="textAreaTop" fmla="*/ 22320 h 2976840"/>
              <a:gd name="textAreaBottom" fmla="*/ 2954520 h 2976840"/>
            </a:gdLst>
            <a:ahLst/>
            <a:rect l="textAreaLeft" t="textAreaTop" r="textAreaRight" b="textAreaBottom"/>
            <a:pathLst>
              <a:path w="21600" h="420311">
                <a:moveTo>
                  <a:pt x="10800" y="0"/>
                </a:moveTo>
                <a:arcTo wR="10800" hR="10800" stAng="16200000" swAng="-5400000"/>
                <a:lnTo>
                  <a:pt x="0" y="409511"/>
                </a:lnTo>
                <a:arcTo wR="10800" hR="10800" stAng="10800000" swAng="-5400000"/>
                <a:lnTo>
                  <a:pt x="10800" y="420311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94040" y="3462480"/>
            <a:ext cx="5597280" cy="203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44800" y="3009960"/>
            <a:ext cx="150840" cy="452520"/>
          </a:xfrm>
          <a:custGeom>
            <a:avLst/>
            <a:gdLst>
              <a:gd name="textAreaLeft" fmla="*/ 21960 w 150840"/>
              <a:gd name="textAreaRight" fmla="*/ 128880 w 150840"/>
              <a:gd name="textAreaTop" fmla="*/ 21960 h 452520"/>
              <a:gd name="textAreaBottom" fmla="*/ 430560 h 452520"/>
            </a:gdLst>
            <a:ahLst/>
            <a:rect l="textAreaLeft" t="textAreaTop" r="textAreaRight" b="textAreaBottom"/>
            <a:pathLst>
              <a:path w="21600" h="64697">
                <a:moveTo>
                  <a:pt x="10800" y="0"/>
                </a:moveTo>
                <a:arcTo wR="10800" hR="10800" stAng="16200000" swAng="-5400000"/>
                <a:lnTo>
                  <a:pt x="0" y="53897"/>
                </a:lnTo>
                <a:arcTo wR="10800" hR="10800" stAng="10800000" swAng="-5400000"/>
                <a:lnTo>
                  <a:pt x="10800" y="64697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093760" y="3059280"/>
            <a:ext cx="5112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06680" y="1042920"/>
            <a:ext cx="50760" cy="49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97600" y="2352600"/>
            <a:ext cx="605520" cy="708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908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96080" y="879480"/>
            <a:ext cx="605880" cy="66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177" y="16159"/>
                </a:moveTo>
                <a:arcTo wR="10800" hR="10800" stAng="1785019" swAng="6500294"/>
                <a:lnTo>
                  <a:pt x="10800" y="10800"/>
                </a:lnTo>
                <a:close/>
              </a:path>
              <a:path fill="none" w="21600" h="21600">
                <a:moveTo>
                  <a:pt x="20177" y="16159"/>
                </a:moveTo>
                <a:arcTo wR="10800" hR="10800" stAng="1785019" swAng="6500294"/>
              </a:path>
            </a:pathLst>
          </a:custGeom>
          <a:noFill/>
          <a:ln w="1908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6042000">
            <a:off x="5496840" y="763560"/>
            <a:ext cx="152640" cy="3330360"/>
          </a:xfrm>
          <a:custGeom>
            <a:avLst/>
            <a:gdLst>
              <a:gd name="textAreaLeft" fmla="*/ 22320 w 152640"/>
              <a:gd name="textAreaRight" fmla="*/ 130320 w 152640"/>
              <a:gd name="textAreaTop" fmla="*/ 22320 h 3330360"/>
              <a:gd name="textAreaBottom" fmla="*/ 3308040 h 3330360"/>
            </a:gdLst>
            <a:ahLst/>
            <a:rect l="textAreaLeft" t="textAreaTop" r="textAreaRight" b="textAreaBottom"/>
            <a:pathLst>
              <a:path w="21600" h="470219">
                <a:moveTo>
                  <a:pt x="10800" y="0"/>
                </a:moveTo>
                <a:arcTo wR="10800" hR="10800" stAng="16200000" swAng="-5400000"/>
                <a:lnTo>
                  <a:pt x="0" y="459419"/>
                </a:lnTo>
                <a:arcTo wR="10800" hR="10800" stAng="10800000" swAng="-5400000"/>
                <a:lnTo>
                  <a:pt x="10800" y="470219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65800" y="2179800"/>
            <a:ext cx="50760" cy="50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124000" y="5589720"/>
            <a:ext cx="144360" cy="144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6560" y="5445000"/>
            <a:ext cx="2665440" cy="144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5589720"/>
            <a:ext cx="2952720" cy="144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95640" y="53737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98920" y="544500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5157720"/>
            <a:ext cx="2303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498560" y="5157720"/>
            <a:ext cx="2592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87640" y="472428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219640" y="472428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5013360"/>
            <a:ext cx="1008000" cy="9349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8118" y="1978"/>
                </a:moveTo>
                <a:arcTo wR="-9221" hR="-9221" stAng="-6414489" swAng="-9031838"/>
                <a:lnTo>
                  <a:pt x="13149" y="259"/>
                </a:lnTo>
                <a:arcTo wR="10800" hR="10800" stAng="-4646327" swAng="9031838"/>
                <a:lnTo>
                  <a:pt x="14726" y="23716"/>
                </a:lnTo>
                <a:lnTo>
                  <a:pt x="10373" y="21393"/>
                </a:lnTo>
                <a:lnTo>
                  <a:pt x="12697" y="17039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6265800" cy="4597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619280" y="579420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STEMA MOTRIZ  (5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5682000">
            <a:off x="1547640" y="1628640"/>
            <a:ext cx="1150920" cy="433440"/>
          </a:xfrm>
          <a:prstGeom prst="leftArrow">
            <a:avLst>
              <a:gd name="adj1" fmla="val 44324"/>
              <a:gd name="adj2" fmla="val 791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7919600">
            <a:off x="7092720" y="2420280"/>
            <a:ext cx="1150920" cy="433440"/>
          </a:xfrm>
          <a:prstGeom prst="leftArrow">
            <a:avLst>
              <a:gd name="adj1" fmla="val 44324"/>
              <a:gd name="adj2" fmla="val 791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1773360"/>
            <a:ext cx="42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idera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5148360" y="1557360"/>
            <a:ext cx="2200320" cy="44672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859280" y="3284640"/>
            <a:ext cx="0" cy="2449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80000" y="4365720"/>
            <a:ext cx="93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2,5 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028000" y="4076640"/>
            <a:ext cx="9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0,5 c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96360" y="1700280"/>
            <a:ext cx="0" cy="4033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yecto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da grupo deberá realizar un “lluvia de ideas” de cómo resolver el probl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recomienda investigar de sistemas reales que tengan una función simi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Laboratorio de Fluidos</cp:lastModifiedBy>
  <dcterms:modified xsi:type="dcterms:W3CDTF">2009-06-01T18:00:19Z</dcterms:modified>
  <cp:revision>74</cp:revision>
  <dc:subject/>
  <dc:title>EL63A-Taller de Proyecto en Control II</dc:title>
</cp:coreProperties>
</file>