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B01-9E52-4FA9-B528-23D3F5DD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60E-B4EA-4197-88BE-30C4CF05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E1F-272C-4F58-9E13-8F7E6CEB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AD9-98BC-4B6C-9A14-1EAF220C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7AE-295D-48C9-B44C-623F664B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7AA-1A86-4A57-A835-5D5FF58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C69-AB38-4699-BB0B-67354FA9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709-F89B-4845-81BC-2844691D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E6-4920-4ED5-90FD-9200760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5F5-E9B9-4963-957A-D496FD9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270-39B9-450B-BDD6-E85F24D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29B-7795-4608-87DF-24576D4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5FC3-0402-4DF0-898D-E27B7D84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1337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957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074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3640" y="1989000"/>
          <a:ext cx="5329080" cy="3670200"/>
        </p:xfrm>
        <a:graphic>
          <a:graphicData uri="http://schemas.openxmlformats.org/drawingml/2006/table">
            <a:tbl>
              <a:tblPr/>
              <a:tblGrid>
                <a:gridCol w="865080"/>
                <a:gridCol w="446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 de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ipo en Catón Pl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esta en Marcha / Prueba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123516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2355840"/>
            <a:ext cx="5616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422100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678200">
            <a:off x="4187160" y="792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1800">
            <a:off x="2598480" y="739800"/>
            <a:ext cx="152280" cy="2976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1251">
                <a:moveTo>
                  <a:pt x="10800" y="0"/>
                </a:moveTo>
                <a:arcTo wR="10800" hR="10800" stAng="16200000" swAng="-5400000"/>
                <a:lnTo>
                  <a:pt x="0" y="410451"/>
                </a:lnTo>
                <a:arcTo wR="10800" hR="10800" stAng="10800000" swAng="-5400000"/>
                <a:lnTo>
                  <a:pt x="10800" y="4212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4201200">
            <a:off x="3102120" y="1192680"/>
            <a:ext cx="152640" cy="297684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840"/>
              <a:gd name="textAreaBottom" fmla="*/ 2954520 h 2976840"/>
            </a:gdLst>
            <a:ahLst/>
            <a:rect l="textAreaLeft" t="textAreaTop" r="textAreaRight" b="textAreaBottom"/>
            <a:pathLst>
              <a:path w="21600" h="420311">
                <a:moveTo>
                  <a:pt x="10800" y="0"/>
                </a:moveTo>
                <a:arcTo wR="10800" hR="10800" stAng="16200000" swAng="-5400000"/>
                <a:lnTo>
                  <a:pt x="0" y="409511"/>
                </a:lnTo>
                <a:arcTo wR="10800" hR="10800" stAng="10800000" swAng="-5400000"/>
                <a:lnTo>
                  <a:pt x="10800" y="420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4040" y="3462480"/>
            <a:ext cx="559728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4800" y="3009960"/>
            <a:ext cx="150840" cy="4525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452520"/>
              <a:gd name="textAreaBottom" fmla="*/ 430560 h 452520"/>
            </a:gdLst>
            <a:ahLst/>
            <a:rect l="textAreaLeft" t="textAreaTop" r="textAreaRight" b="textAreaBottom"/>
            <a:pathLst>
              <a:path w="21600" h="64697">
                <a:moveTo>
                  <a:pt x="10800" y="0"/>
                </a:moveTo>
                <a:arcTo wR="10800" hR="10800" stAng="16200000" swAng="-5400000"/>
                <a:lnTo>
                  <a:pt x="0" y="53897"/>
                </a:lnTo>
                <a:arcTo wR="10800" hR="10800" stAng="10800000" swAng="-5400000"/>
                <a:lnTo>
                  <a:pt x="10800" y="646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93760" y="3059280"/>
            <a:ext cx="51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6680" y="104292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7600" y="2352600"/>
            <a:ext cx="60552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6080" y="879480"/>
            <a:ext cx="605880" cy="6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7" y="16159"/>
                </a:moveTo>
                <a:arcTo wR="10800" hR="10800" stAng="1785019" swAng="6500294"/>
                <a:lnTo>
                  <a:pt x="10800" y="10800"/>
                </a:lnTo>
                <a:close/>
              </a:path>
              <a:path fill="none" w="21600" h="21600">
                <a:moveTo>
                  <a:pt x="20177" y="16159"/>
                </a:moveTo>
                <a:arcTo wR="10800" hR="10800" stAng="1785019" swAng="650029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042000">
            <a:off x="5496840" y="763560"/>
            <a:ext cx="152640" cy="333036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360"/>
              <a:gd name="textAreaBottom" fmla="*/ 3308040 h 3330360"/>
            </a:gdLst>
            <a:ahLst/>
            <a:rect l="textAreaLeft" t="textAreaTop" r="textAreaRight" b="textAreaBottom"/>
            <a:pathLst>
              <a:path w="21600" h="470219">
                <a:moveTo>
                  <a:pt x="10800" y="0"/>
                </a:moveTo>
                <a:arcTo wR="10800" hR="10800" stAng="16200000" swAng="-5400000"/>
                <a:lnTo>
                  <a:pt x="0" y="459419"/>
                </a:lnTo>
                <a:arcTo wR="10800" hR="10800" stAng="10800000" swAng="-5400000"/>
                <a:lnTo>
                  <a:pt x="10800" y="4702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5800" y="217980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589720"/>
            <a:ext cx="144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5445000"/>
            <a:ext cx="26654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589720"/>
            <a:ext cx="2952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7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544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157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856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01336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8118" y="1978"/>
                </a:moveTo>
                <a:arcTo wR="-9221" hR="-9221" stAng="-6414489" swAng="-9031838"/>
                <a:lnTo>
                  <a:pt x="13149" y="259"/>
                </a:lnTo>
                <a:arcTo wR="10800" hR="10800" stAng="-4646327" swAng="9031838"/>
                <a:lnTo>
                  <a:pt x="14726" y="23716"/>
                </a:lnTo>
                <a:lnTo>
                  <a:pt x="10373" y="21393"/>
                </a:lnTo>
                <a:lnTo>
                  <a:pt x="12697" y="1703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09-06-01T18:00:19Z</dcterms:modified>
  <cp:revision>74</cp:revision>
  <dc:subject/>
  <dc:title>EL63A-Taller de Proyecto en Control II</dc:title>
</cp:coreProperties>
</file>