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8E7-4835-49A1-B9AC-3D70C0F4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145-5177-48B0-9873-57E860EF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DF0-36F8-4B4F-A798-ED50D8F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5B1-2B98-46AD-812F-96C5F68F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328-47BC-45C2-AE19-F21D255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6A6-CBBE-4746-878A-73C98D29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88E-102E-4148-A6B4-DA3C954A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136-13E7-4D9D-BAFC-A448E0B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E48-5B71-4572-A0FD-92A62CF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82C-26CE-4E7C-B648-6012B27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271-04AC-43EC-AC75-D0BB0AA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3B4-7466-40E8-9BF4-BA13E04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09D-D497-47F7-98C8-8AED50A0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1337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2360" y="549360"/>
            <a:ext cx="9577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9074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3640" y="1989000"/>
          <a:ext cx="5329080" cy="3670200"/>
        </p:xfrm>
        <a:graphic>
          <a:graphicData uri="http://schemas.openxmlformats.org/drawingml/2006/table">
            <a:tbl>
              <a:tblPr/>
              <a:tblGrid>
                <a:gridCol w="865080"/>
                <a:gridCol w="446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 de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tipo en Catón Plu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esta en Marcha / Prueba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1235160" cy="105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32000" y="2355840"/>
            <a:ext cx="5616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422100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678200">
            <a:off x="4187160" y="792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51800">
            <a:off x="2598480" y="739800"/>
            <a:ext cx="152280" cy="29764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1251">
                <a:moveTo>
                  <a:pt x="10800" y="0"/>
                </a:moveTo>
                <a:arcTo wR="10800" hR="10800" stAng="16200000" swAng="-5400000"/>
                <a:lnTo>
                  <a:pt x="0" y="410451"/>
                </a:lnTo>
                <a:arcTo wR="10800" hR="10800" stAng="10800000" swAng="-5400000"/>
                <a:lnTo>
                  <a:pt x="10800" y="4212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4201200">
            <a:off x="3102120" y="1192680"/>
            <a:ext cx="152640" cy="297684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840"/>
              <a:gd name="textAreaBottom" fmla="*/ 2954520 h 2976840"/>
            </a:gdLst>
            <a:ahLst/>
            <a:rect l="textAreaLeft" t="textAreaTop" r="textAreaRight" b="textAreaBottom"/>
            <a:pathLst>
              <a:path w="21600" h="420311">
                <a:moveTo>
                  <a:pt x="10800" y="0"/>
                </a:moveTo>
                <a:arcTo wR="10800" hR="10800" stAng="16200000" swAng="-5400000"/>
                <a:lnTo>
                  <a:pt x="0" y="409511"/>
                </a:lnTo>
                <a:arcTo wR="10800" hR="10800" stAng="10800000" swAng="-5400000"/>
                <a:lnTo>
                  <a:pt x="10800" y="420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94040" y="3462480"/>
            <a:ext cx="559728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4800" y="3009960"/>
            <a:ext cx="150840" cy="4525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452520"/>
              <a:gd name="textAreaBottom" fmla="*/ 430560 h 452520"/>
            </a:gdLst>
            <a:ahLst/>
            <a:rect l="textAreaLeft" t="textAreaTop" r="textAreaRight" b="textAreaBottom"/>
            <a:pathLst>
              <a:path w="21600" h="64697">
                <a:moveTo>
                  <a:pt x="10800" y="0"/>
                </a:moveTo>
                <a:arcTo wR="10800" hR="10800" stAng="16200000" swAng="-5400000"/>
                <a:lnTo>
                  <a:pt x="0" y="53897"/>
                </a:lnTo>
                <a:arcTo wR="10800" hR="10800" stAng="10800000" swAng="-5400000"/>
                <a:lnTo>
                  <a:pt x="10800" y="646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93760" y="3059280"/>
            <a:ext cx="51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06680" y="104292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7600" y="2352600"/>
            <a:ext cx="605520" cy="7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6080" y="879480"/>
            <a:ext cx="605880" cy="6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77" y="16159"/>
                </a:moveTo>
                <a:arcTo wR="10800" hR="10800" stAng="1785019" swAng="6500294"/>
                <a:lnTo>
                  <a:pt x="10800" y="10800"/>
                </a:lnTo>
                <a:close/>
              </a:path>
              <a:path fill="none" w="21600" h="21600">
                <a:moveTo>
                  <a:pt x="20177" y="16159"/>
                </a:moveTo>
                <a:arcTo wR="10800" hR="10800" stAng="1785019" swAng="6500294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6042000">
            <a:off x="5496840" y="763560"/>
            <a:ext cx="152640" cy="333036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360"/>
              <a:gd name="textAreaBottom" fmla="*/ 3308040 h 3330360"/>
            </a:gdLst>
            <a:ahLst/>
            <a:rect l="textAreaLeft" t="textAreaTop" r="textAreaRight" b="textAreaBottom"/>
            <a:pathLst>
              <a:path w="21600" h="470219">
                <a:moveTo>
                  <a:pt x="10800" y="0"/>
                </a:moveTo>
                <a:arcTo wR="10800" hR="10800" stAng="16200000" swAng="-5400000"/>
                <a:lnTo>
                  <a:pt x="0" y="459419"/>
                </a:lnTo>
                <a:arcTo wR="10800" hR="10800" stAng="10800000" swAng="-5400000"/>
                <a:lnTo>
                  <a:pt x="10800" y="4702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65800" y="217980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589720"/>
            <a:ext cx="144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5445000"/>
            <a:ext cx="26654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589720"/>
            <a:ext cx="295272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5373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8920" y="544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157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856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5013360"/>
            <a:ext cx="1008000" cy="93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8118" y="1978"/>
                </a:moveTo>
                <a:arcTo wR="-9221" hR="-9221" stAng="-6414489" swAng="-9031838"/>
                <a:lnTo>
                  <a:pt x="13149" y="259"/>
                </a:lnTo>
                <a:arcTo wR="10800" hR="10800" stAng="-4646327" swAng="9031838"/>
                <a:lnTo>
                  <a:pt x="14726" y="23716"/>
                </a:lnTo>
                <a:lnTo>
                  <a:pt x="10373" y="21393"/>
                </a:lnTo>
                <a:lnTo>
                  <a:pt x="12697" y="1703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09-06-01T18:00:19Z</dcterms:modified>
  <cp:revision>74</cp:revision>
  <dc:subject/>
  <dc:title>EL63A-Taller de Proyecto en Control II</dc:title>
</cp:coreProperties>
</file>