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TIGO.WAV" ContentType="audio/x-wav"/>
  <Override PartName="/ppt/media/DIAPO.WAV" ContentType="audio/x-wav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A785-4671-409A-9866-7A6CF920FB7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EE2-5CDC-4B85-BF65-FB47D827645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6ABB-CFBC-4BF7-9613-10E76E929E0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186-93E9-49F4-A186-DDDDF8EBB5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891-5A0B-43DB-9B3A-6330318C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268-F497-4B1F-9282-C42DC8F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7BD-CFF1-49D1-A022-6102B837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D54-4C33-4930-95C7-AF7ABFDE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639A-01FB-427B-91E9-920F3B68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6607-D4AD-432A-AC31-2B7A21B2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F1F-AD1E-43A1-9BBE-3FBAE576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2A03-2A18-49B8-A89E-00694411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D323-1504-4654-8715-29F640A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93C2-4D69-43FE-8D16-67E73B2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C30-AB34-446C-9ACD-DD8A228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63F-46EE-435C-B80E-A5AA794F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475-BF0D-42BC-A3F5-B1857E1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A893-91C5-4E5F-87CB-4913488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736-BDFB-409F-B64B-B1DE72C4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BBEE-45F1-44CE-B666-5E0A7011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341-E603-450C-B5BA-F644F742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899C7-492C-4F55-AB62-DF1506B2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D19CB-69CE-40C8-83FF-D6910DBD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71799-52EB-48F5-94A4-A2B8243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6CC4F-6DC1-4773-9FDE-0A5EC62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70ADA-F8E5-43CC-82AA-E71F810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D97-CF47-4DEB-BB24-7639D72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02334-4EC7-4FDB-B127-8E24919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BF11C-CCB0-4E0F-8595-67F3039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9A5F7-5456-46C8-932C-75D3C847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813B4-92C0-4029-8B40-2AE2528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53554-EC63-4326-8AE6-5326551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6704D-C67D-448B-A0D3-FCA6822C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594D6-BDD4-4D1A-A902-90D9ED1D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B75E-0722-41F9-A36F-BE5A25C5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CA23-8D90-4CE7-B591-0936FCA7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F7CAE-DEEF-4A80-887C-6754E95A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FF6-D5DA-4965-B7BD-E92B47C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5F9A-E970-4623-ABAC-C4DC4EA4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294C-8612-4DA2-9DE3-558D7D37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365A-22A9-48DF-8944-A3B4CB5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8E98-FD86-4D94-A026-7CA4BDF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9701-DA59-4983-967D-8C15ABF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35A0-4DFF-47EB-8982-B699616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1AF6-7C86-452A-8F48-430317F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452E-FE50-4D80-A362-D4116EF5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B845-78D1-4546-819D-931E137C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7EE0E-5544-4D6B-85D6-2C65C930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AA6-1E50-48CC-92F5-A199B43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5E234-2385-4204-BFF6-5141841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37B2A-7F14-4FA2-9C91-BE65356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830FA-730E-46D7-8686-EBCAE02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45E6E-861D-410F-98CE-7684A1E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2C46C-F8D2-41D2-B55C-C531E9CF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12684-7293-4170-B8EB-E2E9B70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0FD95-F5DA-46EA-9DE6-2354D7E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54B5E-B33B-4E3F-A860-B0BEBCD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18F84-B876-4CA9-A1A7-8B56F8EB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BC2A3-B427-440E-86D3-624A5781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3C7-0EF9-4A40-A05A-9B51AAA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03804-7EA2-4E2C-B0B5-9BA35774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4EA55-C661-442A-B631-C50EDD52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1B465-663E-4A89-A91E-8D5E2CB5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83B3D-E289-43BB-A02B-B50FBCDF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92942-3E9E-47C2-8D89-DFE64973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AC213-FB85-4A60-AA5A-14B7130D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AA5C3-2CD3-42D0-8059-9804805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907D4-1C0B-46C5-A773-F01625CF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7A8EA-27E9-497D-AA67-694EA59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1A918-9C17-4DCA-AE9A-1F805EF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44A-F109-4211-9AAF-17F4F0A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F8769-01FD-4F7F-8CA8-461E147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10F48-8317-45BE-AF6E-A0326AD6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84CAC-548B-45C5-ABA8-F8E9FA47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FCC8D-4405-4A33-A71D-D0EBE02E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552F9-25C6-4E8B-921B-84798EB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4F1F4-F613-46E8-A74B-225A07D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0C25D-9820-4058-84B8-95467F9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6CC4F-2937-4BAB-8761-B0CC9E1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C42F0-D4F0-4C4E-A94A-CC53A76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A6B98-6979-4CBE-AE7F-DAE49C1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527-A839-49DD-B62C-4FC0B006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B5296-180A-4490-AD98-E8B7655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CE934-63D7-4787-AC80-D79690B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3C7C7-04C6-4A57-A05E-E61B0E3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C81FB-230E-4424-89AF-711C4A14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75999-F871-4D5C-9390-BFB32DF8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FF-7449-4AAF-8F95-87AA656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426-22AC-42E1-829C-2F578DB0E9C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logo fcfm"/>
          <p:cNvPicPr/>
          <p:nvPr/>
        </p:nvPicPr>
        <p:blipFill>
          <a:blip r:embed="rId4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logo cms"/>
          <p:cNvPicPr/>
          <p:nvPr/>
        </p:nvPicPr>
        <p:blipFill>
          <a:blip r:embed="rId5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88B-67BE-4786-8CA2-15C73108260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logo cms"/>
          <p:cNvPicPr/>
          <p:nvPr/>
        </p:nvPicPr>
        <p:blipFill>
          <a:blip r:embed="rId4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logo fcfm"/>
          <p:cNvPicPr/>
          <p:nvPr/>
        </p:nvPicPr>
        <p:blipFill>
          <a:blip r:embed="rId5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DE45-E9A4-49E9-B442-B1AC57242FF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3FE-7869-4931-9A43-A2E49836830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DCA-46E1-409A-B22E-342539C56FE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3D67-B251-4F9F-B6F2-D62D365A97A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A006-E6DB-4698-9EDF-9FBDFD2FE5A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14360" y="17856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r>
              <a:rPr b="1" lang="es-ES" sz="3200" spc="-1" strike="noStrike">
                <a:solidFill>
                  <a:srgbClr val="1f497d"/>
                </a:solidFill>
                <a:latin typeface="Trebuchet MS"/>
              </a:rPr>
              <a:t>ESTRATEGIA Y ANALISIS FODA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49992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46c0a"/>
                </a:solidFill>
                <a:latin typeface="Trebuchet MS"/>
              </a:rPr>
              <a:t>CAPACITACIÓN 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4f81bd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4f81bd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cisiones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 estratégic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laves en la definición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4f81bd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4f81bd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395280" y="1484280"/>
            <a:ext cx="84978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¿Qué necesidades satisfac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46c0a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29" descr=""/>
          <p:cNvPicPr/>
          <p:nvPr/>
        </p:nvPicPr>
        <p:blipFill>
          <a:blip r:embed="rId1"/>
          <a:stretch/>
        </p:blipFill>
        <p:spPr>
          <a:xfrm>
            <a:off x="480960" y="1627200"/>
            <a:ext cx="818208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f81bd"/>
                </a:solidFill>
                <a:latin typeface="Century Schoolbook"/>
              </a:rPr>
              <a:t>ANALISIS FODA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8" name="3 Marcador de contenido" descr=""/>
          <p:cNvPicPr/>
          <p:nvPr/>
        </p:nvPicPr>
        <p:blipFill>
          <a:blip r:embed="rId1"/>
          <a:stretch/>
        </p:blipFill>
        <p:spPr>
          <a:xfrm>
            <a:off x="401760" y="1809720"/>
            <a:ext cx="839448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52" name="AutoShape 4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5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455" name="AutoShape 6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460" name="AutoShape 5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6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463" name="AutoShape 8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1f497d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f81bd"/>
                </a:solidFill>
                <a:latin typeface="Trebuchet MS"/>
              </a:rPr>
              <a:t>5 FUERZAS DE PORTE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46c0a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6c0a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6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81bd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500040" y="64296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é aprenderemos? </a:t>
            </a: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Misión y Visión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se define un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las oportunidades y amenazas del mercado (análisis ex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46c0a"/>
                </a:solidFill>
                <a:latin typeface="Trebuchet MS"/>
              </a:rPr>
              <a:t>Como descubrir nuestras fortalezas y debilidades (análisis inte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COMPRA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1" name="AutoShape 3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2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f81bd"/>
                </a:solidFill>
                <a:latin typeface="Trebuchet MS"/>
              </a:rPr>
              <a:t>PODER NEGOCIACIÓN DE LOS PROVEEDORE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5aa55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d6d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0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2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as las fuerzas son igualmente importantes</a:t>
            </a:r>
            <a:br>
              <a:rPr sz="3300"/>
            </a:b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tener en cuenta las tendencias futura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5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3300" spc="-1" strike="noStrike">
                <a:solidFill>
                  <a:srgbClr val="e46c0a"/>
                </a:solidFill>
                <a:latin typeface="Trebuchet MS"/>
              </a:rPr>
              <a:t>Hay que ver que muchas veces es mejor crear alianz</a:t>
            </a: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as que competir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928880"/>
            <a:ext cx="822960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46c0a"/>
                </a:solidFill>
                <a:latin typeface="Century Schoolbook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4f81bd"/>
                </a:solidFill>
                <a:latin typeface="Century Schoolbook"/>
              </a:rPr>
              <a:t>CADENA DE VALOR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In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Operacione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ogística externa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Marketing y Venta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Servicio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0" lang="es-ES_tradnl" sz="1900" spc="-1" strike="noStrike">
                <a:solidFill>
                  <a:srgbClr val="e46c0a"/>
                </a:solidFill>
                <a:latin typeface="Trebuchet MS"/>
              </a:rPr>
              <a:t>valor agregado al client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f81bd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85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e46c0a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7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6c0a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f81bd"/>
                </a:solidFill>
                <a:latin typeface="Trebuchet MS"/>
              </a:rPr>
              <a:t>ESTRATEGIAS COMPETITIVAS </a:t>
            </a:r>
            <a:r>
              <a:rPr b="0" lang="es-CL" sz="3000" spc="-1" strike="noStrike">
                <a:solidFill>
                  <a:srgbClr val="ffffff"/>
                </a:solidFill>
                <a:latin typeface="Trebuchet MS"/>
              </a:rPr>
              <a:t>GENER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e46c0a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e46c0a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4f81bd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6c0a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78596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5400000"/>
          </a:gradFill>
          <a:ln w="19080">
            <a:solidFill>
              <a:srgbClr val="4f81bd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46c0a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376" name="AutoShape 6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3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379" name="AutoShape 12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4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382" name="AutoShape 9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7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385" name="AutoShape 14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944d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6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388" name="AutoShape 18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44d94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25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391" name="AutoShape 20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dc5c5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1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f81bd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f81bd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f81bd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4f81bd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4f81bd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f81bd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4f81bd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408" name="AutoShape 3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d6d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1258920" y="69336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2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1" name="AutoShape 6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414" name="AutoShape 15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5aa55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>
              <a:off x="1258920" y="2811600"/>
              <a:ext cx="69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428920" y="785880"/>
            <a:ext cx="4952880" cy="1143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571840" y="85716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modo de conseguir un liderazgo competitivo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11280" y="2068560"/>
            <a:ext cx="365760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57160" y="2143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5143680" y="2000160"/>
            <a:ext cx="3504960" cy="19051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5357880" y="2071800"/>
            <a:ext cx="31431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2786040" y="4286160"/>
            <a:ext cx="3733920" cy="99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214800" y="428616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4f81bd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4f81bd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2928960" y="5335560"/>
            <a:ext cx="3504960" cy="860400"/>
            <a:chOff x="2928960" y="5335560"/>
            <a:chExt cx="3504960" cy="860400"/>
          </a:xfrm>
        </p:grpSpPr>
        <p:sp>
          <p:nvSpPr>
            <p:cNvPr id="426" name="Rectangle 12"/>
            <p:cNvSpPr/>
            <p:nvPr/>
          </p:nvSpPr>
          <p:spPr>
            <a:xfrm>
              <a:off x="2928960" y="5357880"/>
              <a:ext cx="3504960" cy="8380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4f81bd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4f81bd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4726080" y="5335560"/>
              <a:ext cx="0" cy="74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429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f81bd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"/>
          <p:cNvGrpSpPr/>
          <p:nvPr/>
        </p:nvGrpSpPr>
        <p:grpSpPr>
          <a:xfrm>
            <a:off x="2571840" y="2071800"/>
            <a:ext cx="4417920" cy="2208240"/>
            <a:chOff x="2571840" y="2071800"/>
            <a:chExt cx="4417920" cy="2208240"/>
          </a:xfrm>
        </p:grpSpPr>
        <p:sp>
          <p:nvSpPr>
            <p:cNvPr id="432" name="Line 18"/>
            <p:cNvSpPr/>
            <p:nvPr/>
          </p:nvSpPr>
          <p:spPr>
            <a:xfrm>
              <a:off x="4703760" y="2071800"/>
              <a:ext cx="0" cy="2208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571840" y="4052880"/>
              <a:ext cx="205560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 flipH="1">
              <a:off x="4781520" y="4052880"/>
              <a:ext cx="2208240" cy="150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rcela Paz Zepeda</cp:lastModifiedBy>
  <dcterms:modified xsi:type="dcterms:W3CDTF">2009-05-07T03:54:59Z</dcterms:modified>
  <cp:revision>11</cp:revision>
  <dc:subject/>
  <dc:title>Diapositiva 1</dc:title>
</cp:coreProperties>
</file>