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LATIGO.WAV" ContentType="audio/x-wav"/>
  <Override PartName="/ppt/media/DIAPO.WAV" ContentType="audio/x-wav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322B-A2DD-42FD-9268-CB080C408FA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39E-AAE5-4A02-A4A3-E7B1A88A4ED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19F-5029-4481-911B-80DAC6FDD07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5B89-F3D3-4668-8F36-61185CCEB15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D5B-AA8B-400F-820B-BB109C2B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0DF-E0A5-4EBD-A2D8-84E2E56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8F2-E796-4E00-8BDD-00238310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110-A198-4C35-8238-D900B2BB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C0C-EB81-49E8-863F-2CBC06E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FECA-5B8E-4F5E-B94C-C6F4B8A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3F1F-BB9E-416F-9FD3-513DE41D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3B4D-5803-4D75-82E7-D971F1B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D46F-6BEF-4A48-A612-DE13B256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F254-785A-4679-86A7-8065DE37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C8A0-820E-48B8-B2C8-4A1E6C6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06D-411E-4B61-A7DB-964FD65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72EA-A03B-41E7-B4B2-CED663F7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0689-607B-4BB4-ACE3-06CC8F5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3DD5-937B-4550-A2F1-0F263D76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E3DB-245C-42FF-BFCE-7D31A801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C18F-748A-47BF-B09D-D0CE685E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FA05B-6444-4C44-9FD6-50B23AE5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7B0E3-1F83-41CA-ABF1-05CC9AE3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19054-6617-4B62-8B60-987830D6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CBFE8-5B79-4C10-BC45-95795A72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B0D9E-F735-4AEF-AC3B-72FCF4B7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D15-32FA-4FD3-8A82-B226536C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7E5DB-71CE-4F4A-84E7-22855A40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266A5-3EF6-407C-9543-7499913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CD99A-D15C-4DFA-8540-644A7A8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58141-D4A5-45DA-946C-38555F1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18D95-D1FB-4C4D-9EB4-C3253D3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73A95-2C93-4601-A3BA-0FF6D0F1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90827-6FC9-4D68-8FBB-0394A1BD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CB44-AA98-412E-AE94-05FA0D87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27AE-4D93-40E2-AFB0-B9B7C57F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997F-D099-43AF-8B51-E41A565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64F-AE4A-43E5-829E-1793BE79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1A02-623E-4F15-A09A-C3E6CE6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203C-5AEE-4F52-A4D4-5FDE42D9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4B24-A5B6-424E-86D3-50D79A78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8983-0990-4DD8-B382-F31E49D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9F93-4D6F-44E3-8443-F29D5E5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C976-1BE2-4A18-9228-C76308EF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6AE6-0516-4801-AD59-8706141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C538-46E3-45B9-B654-2A62A763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2CD9-2B06-44A0-BDF2-2169410E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B2B42-6A10-4D32-AA00-72AA5F29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726-6424-4E0C-A66D-FE63B32B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1BD30-8BBA-4F21-A26A-E1BA35DF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6FFDC-7D84-4F9A-B762-D2EB0F24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C264C-2C69-4BD8-97A4-EF4BBD7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95586-114A-423A-B469-EA5575A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4C4AE-A410-44CF-B54D-54A2075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3293C-C646-4FDE-A0D0-387A70CD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F5C84-4877-4019-832C-D8E911E9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3CEAA-A9D3-45AD-A47F-50BB8A4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65886-AD85-4C78-B2A0-E68D044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F18C4-1E65-4548-AC13-0DE69381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6D1-4B74-47C4-B313-E757FBF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B22E2-9BEE-4470-8675-CE95B8A5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F02BC-B310-4C36-A832-8D283F96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51E63-8951-417B-8D58-FE6EEBA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646EE-3162-4173-A717-15EC22E2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FDD24-B3B6-405D-B601-60EEE6D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6B490-BD9F-4C0A-B3F2-E1ADCEF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4AE96-D86D-4CA4-BB35-A1021B7A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F4BAB-29EE-43BE-A4B7-2978A5B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37BA0-A8FF-4735-82A3-0B98EE50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31A28-F3AE-46FF-B2EF-520F286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4DF-2A65-4516-BE8D-95492F2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5635D-6A2C-42BB-A3DA-8C3F457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DB5E6-17C1-4CB6-9386-D80612D5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AEB87-83D3-41CC-B00A-DDD7D222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5FA27-2776-4912-85A2-CE95CB98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A7F14-D196-45AA-8AE7-10CC2C41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2A653-8AF9-408C-8530-60DA0E39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1E993-56B0-4B28-B792-F6860E1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C365D-1DBC-4FA0-87BD-51A44BD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B00A3-ADC2-435F-A41B-7103181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4B345-AFA5-4484-9CC6-76DAD63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128-40E3-4909-80D0-87594BC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56436-7163-4D6F-B3E8-7AA9B2A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6064C-3264-4563-B822-B014242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73B55-1053-4B15-8E30-0DF258F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6CEFE-449F-4CC3-9E98-8F56DC0A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13AC3-DF69-4BEE-BC8E-67508BE9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8D1-62D6-486B-98C1-D557DDA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CD1-0956-42D9-A7AF-9A7D061EC34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logo fcfm"/>
          <p:cNvPicPr/>
          <p:nvPr/>
        </p:nvPicPr>
        <p:blipFill>
          <a:blip r:embed="rId4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logo cms"/>
          <p:cNvPicPr/>
          <p:nvPr/>
        </p:nvPicPr>
        <p:blipFill>
          <a:blip r:embed="rId5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00EB-3336-4E90-9A82-7F5BF8C8808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logo cms"/>
          <p:cNvPicPr/>
          <p:nvPr/>
        </p:nvPicPr>
        <p:blipFill>
          <a:blip r:embed="rId4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logo fcfm"/>
          <p:cNvPicPr/>
          <p:nvPr/>
        </p:nvPicPr>
        <p:blipFill>
          <a:blip r:embed="rId5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5C9-DE2C-4C34-8A22-F5EAAC38138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1CD1-6AC1-4E3C-BD6F-5105FCE8E28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E620-5031-4BE2-A1A5-6927EDCE772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557-EEB9-4C9D-8548-8FB831AE23B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805-1F37-4228-860D-709B283E9B0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14360" y="17856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r>
              <a:rPr b="1" lang="es-ES" sz="3200" spc="-1" strike="noStrike">
                <a:solidFill>
                  <a:srgbClr val="1f497d"/>
                </a:solidFill>
                <a:latin typeface="Trebuchet MS"/>
              </a:rPr>
              <a:t>ESTRATEGIA Y ANALISIS FODA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499920" y="4000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46c0a"/>
                </a:solidFill>
                <a:latin typeface="Trebuchet MS"/>
              </a:rPr>
              <a:t>CAPACITACIÓN 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4f81bd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4f81bd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cisiones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 estratégicas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laves en la definición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f81bd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395280" y="1484280"/>
            <a:ext cx="84978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¿Qué necesidades satisfac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f81bd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29" descr=""/>
          <p:cNvPicPr/>
          <p:nvPr/>
        </p:nvPicPr>
        <p:blipFill>
          <a:blip r:embed="rId1"/>
          <a:stretch/>
        </p:blipFill>
        <p:spPr>
          <a:xfrm>
            <a:off x="480960" y="1627200"/>
            <a:ext cx="818208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f81bd"/>
                </a:solidFill>
                <a:latin typeface="Century Schoolbook"/>
              </a:rPr>
              <a:t>ANALISIS FODA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8" name="3 Marcador de contenido" descr=""/>
          <p:cNvPicPr/>
          <p:nvPr/>
        </p:nvPicPr>
        <p:blipFill>
          <a:blip r:embed="rId1"/>
          <a:stretch/>
        </p:blipFill>
        <p:spPr>
          <a:xfrm>
            <a:off x="401760" y="1809720"/>
            <a:ext cx="839448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452" name="AutoShape 4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5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7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455" name="AutoShape 6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460" name="AutoShape 5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6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7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463" name="AutoShape 8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9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1f497d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f81bd"/>
                </a:solidFill>
                <a:latin typeface="Trebuchet MS"/>
              </a:rPr>
              <a:t>5 FUERZAS DE PORTE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81bd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6c0a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6c0a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5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6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81bd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500040" y="64296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4f81bd"/>
                </a:solidFill>
                <a:latin typeface="Trebuchet MS"/>
              </a:rPr>
              <a:t>Qué aprenderemos? </a:t>
            </a: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Misión y Visión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se define un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descubrir las oportunidades y amenazas del mercado (análisis exte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descubrir nuestras fortalezas y debilidades (análisis inte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f81bd"/>
                </a:solidFill>
                <a:latin typeface="Trebuchet MS"/>
              </a:rPr>
              <a:t>PODER NEGOCIACIÓN DE LOS COMPRADORE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1" name="AutoShape 3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2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f81bd"/>
                </a:solidFill>
                <a:latin typeface="Trebuchet MS"/>
              </a:rPr>
              <a:t>PODER NEGOCIACIÓN DE LOS PROVEEDORE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0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2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No todas las fuerzas son igualmente importantes</a:t>
            </a:r>
            <a:br>
              <a:rPr sz="3300"/>
            </a:b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Hay que tener en cuenta las tendencias futura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Hay que ver que muchas veces es mejor crear alianz</a:t>
            </a: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as que competir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928880"/>
            <a:ext cx="8229600" cy="16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46c0a"/>
                </a:solidFill>
                <a:latin typeface="Century Schoolbook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4f81bd"/>
                </a:solidFill>
                <a:latin typeface="Century Schoolbook"/>
              </a:rPr>
              <a:t>CADENA DE VALOR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ogística Interna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Operacione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ogística externa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Marketing y Venta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Servicio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valor agregado al client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7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f81bd"/>
                </a:solidFill>
                <a:latin typeface="Trebuchet MS"/>
              </a:rPr>
              <a:t>ESTRATEGIAS COMPETITIVAS GENER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f81bd"/>
                </a:solidFill>
                <a:latin typeface="Trebuchet MS"/>
              </a:rPr>
              <a:t>ESTRATEGIAS COMPETITIVAS </a:t>
            </a:r>
            <a:r>
              <a:rPr b="0" lang="es-CL" sz="3000" spc="-1" strike="noStrike">
                <a:solidFill>
                  <a:srgbClr val="ffffff"/>
                </a:solidFill>
                <a:latin typeface="Trebuchet MS"/>
              </a:rPr>
              <a:t>GENER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4f81bd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785960"/>
          </a:xfrm>
          <a:prstGeom prst="rect">
            <a:avLst/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5400000"/>
          </a:gradFill>
          <a:ln w="19080">
            <a:solidFill>
              <a:srgbClr val="4f81bd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46c0a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376" name="AutoShape 6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3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379" name="AutoShape 12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4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382" name="AutoShape 9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6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27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385" name="AutoShape 14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944d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6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388" name="AutoShape 18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44d94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25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391" name="AutoShape 20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dc5c5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1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f81bd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f81bd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f81bd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4f81bd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4f81bd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f81bd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4f81bd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408" name="AutoShape 3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1258920" y="69336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2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411" name="AutoShape 6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7"/>
            <p:cNvSpPr/>
            <p:nvPr/>
          </p:nvSpPr>
          <p:spPr>
            <a:xfrm>
              <a:off x="1258920" y="2811600"/>
              <a:ext cx="69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414" name="AutoShape 15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>
              <a:off x="1258920" y="2811600"/>
              <a:ext cx="69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428920" y="785880"/>
            <a:ext cx="4952880" cy="1143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571840" y="85716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modo de conseguir un liderazgo competitivo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11280" y="2068560"/>
            <a:ext cx="3657600" cy="1905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857160" y="2143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5143680" y="2000160"/>
            <a:ext cx="3504960" cy="1905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5357880" y="2071800"/>
            <a:ext cx="3143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2786040" y="4286160"/>
            <a:ext cx="3733920" cy="99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3214800" y="428616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2928960" y="5335560"/>
            <a:ext cx="3504960" cy="860400"/>
            <a:chOff x="2928960" y="5335560"/>
            <a:chExt cx="3504960" cy="860400"/>
          </a:xfrm>
        </p:grpSpPr>
        <p:sp>
          <p:nvSpPr>
            <p:cNvPr id="426" name="Rectangle 12"/>
            <p:cNvSpPr/>
            <p:nvPr/>
          </p:nvSpPr>
          <p:spPr>
            <a:xfrm>
              <a:off x="2928960" y="5357880"/>
              <a:ext cx="3504960" cy="83808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4f81bd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4f81bd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4f81bd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4726080" y="5335560"/>
              <a:ext cx="0" cy="74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429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f81bd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"/>
          <p:cNvGrpSpPr/>
          <p:nvPr/>
        </p:nvGrpSpPr>
        <p:grpSpPr>
          <a:xfrm>
            <a:off x="2571840" y="2071800"/>
            <a:ext cx="4417920" cy="2208240"/>
            <a:chOff x="2571840" y="2071800"/>
            <a:chExt cx="4417920" cy="2208240"/>
          </a:xfrm>
        </p:grpSpPr>
        <p:sp>
          <p:nvSpPr>
            <p:cNvPr id="432" name="Line 18"/>
            <p:cNvSpPr/>
            <p:nvPr/>
          </p:nvSpPr>
          <p:spPr>
            <a:xfrm>
              <a:off x="4703760" y="2071800"/>
              <a:ext cx="0" cy="2208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571840" y="4052880"/>
              <a:ext cx="2055600" cy="150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 flipH="1">
              <a:off x="4781520" y="4052880"/>
              <a:ext cx="2208240" cy="150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rcela Paz Zepeda</cp:lastModifiedBy>
  <dcterms:modified xsi:type="dcterms:W3CDTF">2009-05-07T03:54:59Z</dcterms:modified>
  <cp:revision>11</cp:revision>
  <dc:subject/>
  <dc:title>Diapositiva 1</dc:title>
</cp:coreProperties>
</file>