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A182-1DA1-47F5-93A6-56720C93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0B30-F00C-4C78-88D9-2E8D20B3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0656-8096-47B9-A255-A0058E0F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A0E8-39AF-48F9-ABF1-6B5CAC9DE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1D31-D53F-4FDE-8831-647FAE87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4887-6D8F-4498-8718-5E2F7306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990F-04BD-433A-AF03-4B58AF27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73BC-3435-4666-99C4-FE8766A9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3F03-DA8B-4FDD-88FE-CFB940DB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2E80-0870-40A6-86FD-F6B979A9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CC65-1943-48AB-BC4B-12A3489E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3F68-9F60-4458-8FBE-0DF15DBE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2693-F80C-4538-B475-CBEAED2B4D9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5"/>
          <p:cNvGrpSpPr/>
          <p:nvPr/>
        </p:nvGrpSpPr>
        <p:grpSpPr>
          <a:xfrm>
            <a:off x="179280" y="189000"/>
            <a:ext cx="1150920" cy="1006560"/>
            <a:chOff x="179280" y="189000"/>
            <a:chExt cx="1150920" cy="1006560"/>
          </a:xfrm>
        </p:grpSpPr>
        <p:sp>
          <p:nvSpPr>
            <p:cNvPr id="42" name="Rectangle 35"/>
            <p:cNvSpPr/>
            <p:nvPr/>
          </p:nvSpPr>
          <p:spPr>
            <a:xfrm>
              <a:off x="826920" y="18900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37"/>
            <p:cNvSpPr/>
            <p:nvPr/>
          </p:nvSpPr>
          <p:spPr>
            <a:xfrm>
              <a:off x="179280" y="18900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39"/>
            <p:cNvSpPr/>
            <p:nvPr/>
          </p:nvSpPr>
          <p:spPr>
            <a:xfrm>
              <a:off x="179280" y="7635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Group 47"/>
          <p:cNvGrpSpPr/>
          <p:nvPr/>
        </p:nvGrpSpPr>
        <p:grpSpPr>
          <a:xfrm>
            <a:off x="7740720" y="5589720"/>
            <a:ext cx="1152360" cy="1008000"/>
            <a:chOff x="7740720" y="5589720"/>
            <a:chExt cx="1152360" cy="1008000"/>
          </a:xfrm>
        </p:grpSpPr>
        <p:sp>
          <p:nvSpPr>
            <p:cNvPr id="46" name="Rectangle 42"/>
            <p:cNvSpPr/>
            <p:nvPr/>
          </p:nvSpPr>
          <p:spPr>
            <a:xfrm>
              <a:off x="7740720" y="616572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4"/>
            <p:cNvSpPr/>
            <p:nvPr/>
          </p:nvSpPr>
          <p:spPr>
            <a:xfrm>
              <a:off x="8388360" y="616572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46"/>
            <p:cNvSpPr/>
            <p:nvPr/>
          </p:nvSpPr>
          <p:spPr>
            <a:xfrm>
              <a:off x="8389800" y="55897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51"/>
          <p:cNvSpPr/>
          <p:nvPr/>
        </p:nvSpPr>
        <p:spPr>
          <a:xfrm>
            <a:off x="971640" y="2276640"/>
            <a:ext cx="7894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rebuchet MS"/>
              </a:rPr>
              <a:t>Redes y Capital Soci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042920" y="452520"/>
            <a:ext cx="77058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COMPONENTES CAPITAL 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55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59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apital humano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, capacidad de las personas para producir valor en coordinación con o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apital relacional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, la capacidad de las organizaciones de producir y mantener las redes de colaboración para de producir va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apital ambiental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, calidad de los contextos sociales disponibles para que los individuos y organizaciones interactúen en función de la producción de va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apital direccional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, alineamiento de las personas y la organización con un propósito comú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QUE QUEREMOS LOGR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67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71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Asociativ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Relaciones de Conf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003399"/>
                </a:solidFill>
                <a:latin typeface="Trebuchet MS"/>
              </a:rPr>
              <a:t>Valores de cooperación, reciprocidad, respeto, aceptación, sincerida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EN CHILE (PNU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79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8"/>
          <p:cNvGrpSpPr/>
          <p:nvPr/>
        </p:nvGrpSpPr>
        <p:grpSpPr>
          <a:xfrm>
            <a:off x="7956720" y="5877000"/>
            <a:ext cx="1078920" cy="936360"/>
            <a:chOff x="7956720" y="5877000"/>
            <a:chExt cx="1078920" cy="936360"/>
          </a:xfrm>
        </p:grpSpPr>
        <p:sp>
          <p:nvSpPr>
            <p:cNvPr id="183" name="Rectangle 9"/>
            <p:cNvSpPr/>
            <p:nvPr/>
          </p:nvSpPr>
          <p:spPr>
            <a:xfrm>
              <a:off x="7956720" y="6411960"/>
              <a:ext cx="471240" cy="4014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0"/>
            <p:cNvSpPr/>
            <p:nvPr/>
          </p:nvSpPr>
          <p:spPr>
            <a:xfrm>
              <a:off x="8562960" y="6411960"/>
              <a:ext cx="471240" cy="4014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1"/>
            <p:cNvSpPr/>
            <p:nvPr/>
          </p:nvSpPr>
          <p:spPr>
            <a:xfrm>
              <a:off x="8564400" y="5877000"/>
              <a:ext cx="471240" cy="4010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468360" y="1413000"/>
            <a:ext cx="867564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El 14% de los chilenos cree que se puede confiar en la mayoría de las perso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El 69% de los chilenos cree que una persona se aprovecharía de ellos si tuviera la oportun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Índices de Confianz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3933720"/>
            <a:ext cx="504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Carabineros de Chile (5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Televisión(5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Radio(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Banco Central y Iglesia Católica (48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Marina y Fach (4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Ejercito (4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3889440"/>
            <a:ext cx="4572000" cy="26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Policía Investigaciones (37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Diarios  (36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Senado (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Poder Judicial (19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Cámara Diputados (18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rebuchet MS"/>
              </a:rPr>
              <a:t>Partidos Políticos (9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buClr>
                <a:srgbClr val="003399"/>
              </a:buClr>
              <a:buFont typeface="Trebuchet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EN CHILE (CER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93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8"/>
          <p:cNvGrpSpPr/>
          <p:nvPr/>
        </p:nvGrpSpPr>
        <p:grpSpPr>
          <a:xfrm>
            <a:off x="7956720" y="5877000"/>
            <a:ext cx="1078920" cy="936360"/>
            <a:chOff x="7956720" y="5877000"/>
            <a:chExt cx="1078920" cy="936360"/>
          </a:xfrm>
        </p:grpSpPr>
        <p:sp>
          <p:nvSpPr>
            <p:cNvPr id="197" name="Rectangle 9"/>
            <p:cNvSpPr/>
            <p:nvPr/>
          </p:nvSpPr>
          <p:spPr>
            <a:xfrm>
              <a:off x="7956720" y="6411960"/>
              <a:ext cx="471240" cy="4014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8562960" y="6411960"/>
              <a:ext cx="471240" cy="4014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8564400" y="5877000"/>
              <a:ext cx="471240" cy="4010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468360" y="1413000"/>
            <a:ext cx="867564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La desconfianza entre los chilenos constituye un poderoso obstáculo a la superación del desarrollo económ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Los países desarrollados tienen altos índices de confianza interpersonal. El estudio mundial de valores del 2000 muestra que en Chile solo un 22,2% tenia confianza en los demás. En Suecia era el triple (63,7%), Holanda un 59,7% ; Finlandia un 56,2% ; India 38,9%, EE.UU. 35,5% ; Irlanda 35,3%; España 32,7% e Italia 31,8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FACTORES CLA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205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209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395280" y="1341360"/>
            <a:ext cx="8280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ultivar confi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La confianza vista como acto lingüístico pertenece al mundo de los juic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Afecta el espacio de posibil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Es temporal (por lo tanto se puede construi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Depende del observ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Se restringe a determinados ámbi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rebuchet MS"/>
              </a:rPr>
              <a:t>Puede ser fundada o infundada. (los juicios se fundan en acciones recurrentes del pasado observables por cualquier observad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CONFIA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217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221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4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Sinceridad: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cimos que alguien es sincero cuando su conversación privada es coherente con la conversación o discurso público y las acciones emprendidas son coherentes con el, discurs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ompetencia: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cimos que alguien es competente cuando tiene la capacidad o destreza para cumplir con los estándares acordados o acep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Responsabilidad: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cimos que alguien es responsable cuando tiene la capacidad de cumplir el conjunto de compromisos asumidos en los tiempos establec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CONFIA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229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233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84360" y="1413000"/>
          <a:ext cx="8002440" cy="3870360"/>
        </p:xfrm>
        <a:graphic>
          <a:graphicData uri="http://schemas.openxmlformats.org/drawingml/2006/table">
            <a:tbl>
              <a:tblPr/>
              <a:tblGrid>
                <a:gridCol w="2666880"/>
                <a:gridCol w="2668680"/>
                <a:gridCol w="266688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minios de Observ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ipo de Juic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ncer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mpet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esponsa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sincer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compet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rresponsa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fund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Sin acciones ni estándares de comparació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und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con acciones y estándares de comparació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Line 44"/>
          <p:cNvSpPr/>
          <p:nvPr/>
        </p:nvSpPr>
        <p:spPr>
          <a:xfrm>
            <a:off x="684360" y="1484280"/>
            <a:ext cx="266364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9"/>
          <p:cNvSpPr/>
          <p:nvPr/>
        </p:nvSpPr>
        <p:spPr>
          <a:xfrm>
            <a:off x="3780000" y="304308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gen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0"/>
          <p:cNvSpPr/>
          <p:nvPr/>
        </p:nvSpPr>
        <p:spPr>
          <a:xfrm>
            <a:off x="3780000" y="4437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onfi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1"/>
          <p:cNvSpPr/>
          <p:nvPr/>
        </p:nvSpPr>
        <p:spPr>
          <a:xfrm>
            <a:off x="6372360" y="3068640"/>
            <a:ext cx="208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confi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2"/>
          <p:cNvSpPr/>
          <p:nvPr/>
        </p:nvSpPr>
        <p:spPr>
          <a:xfrm>
            <a:off x="6372360" y="443700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u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IDENT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246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250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38"/>
          <p:cNvGrpSpPr/>
          <p:nvPr/>
        </p:nvGrpSpPr>
        <p:grpSpPr>
          <a:xfrm>
            <a:off x="324000" y="1773360"/>
            <a:ext cx="9072360" cy="3740040"/>
            <a:chOff x="324000" y="1773360"/>
            <a:chExt cx="9072360" cy="3740040"/>
          </a:xfrm>
        </p:grpSpPr>
        <p:grpSp>
          <p:nvGrpSpPr>
            <p:cNvPr id="256" name="Group 39"/>
            <p:cNvGrpSpPr/>
            <p:nvPr/>
          </p:nvGrpSpPr>
          <p:grpSpPr>
            <a:xfrm>
              <a:off x="324000" y="1773360"/>
              <a:ext cx="7200360" cy="3450960"/>
              <a:chOff x="324000" y="1773360"/>
              <a:chExt cx="7200360" cy="3450960"/>
            </a:xfrm>
          </p:grpSpPr>
          <p:grpSp>
            <p:nvGrpSpPr>
              <p:cNvPr id="257" name="Group 40"/>
              <p:cNvGrpSpPr/>
              <p:nvPr/>
            </p:nvGrpSpPr>
            <p:grpSpPr>
              <a:xfrm>
                <a:off x="1320840" y="1773360"/>
                <a:ext cx="6203520" cy="2232000"/>
                <a:chOff x="1320840" y="1773360"/>
                <a:chExt cx="6203520" cy="2232000"/>
              </a:xfrm>
            </p:grpSpPr>
            <p:sp>
              <p:nvSpPr>
                <p:cNvPr id="258" name="Oval 41"/>
                <p:cNvSpPr/>
                <p:nvPr/>
              </p:nvSpPr>
              <p:spPr>
                <a:xfrm>
                  <a:off x="3619800" y="1773360"/>
                  <a:ext cx="3904560" cy="2232000"/>
                </a:xfrm>
                <a:prstGeom prst="ellipse">
                  <a:avLst/>
                </a:prstGeom>
                <a:noFill/>
                <a:ln w="255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666699"/>
                      </a:solidFill>
                      <a:latin typeface="Arial"/>
                    </a:rPr>
                    <a:t>YO          Imagen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Oval 42"/>
                <p:cNvSpPr/>
                <p:nvPr/>
              </p:nvSpPr>
              <p:spPr>
                <a:xfrm>
                  <a:off x="1320840" y="1773360"/>
                  <a:ext cx="3904920" cy="2232000"/>
                </a:xfrm>
                <a:prstGeom prst="ellipse">
                  <a:avLst/>
                </a:prstGeom>
                <a:noFill/>
                <a:ln w="255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666699"/>
                      </a:solidFill>
                      <a:latin typeface="Arial"/>
                    </a:rPr>
                    <a:t>Identidad         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Line 43"/>
              <p:cNvSpPr/>
              <p:nvPr/>
            </p:nvSpPr>
            <p:spPr>
              <a:xfrm flipH="1">
                <a:off x="1331640" y="3645000"/>
                <a:ext cx="863640" cy="574560"/>
              </a:xfrm>
              <a:prstGeom prst="line">
                <a:avLst/>
              </a:prstGeom>
              <a:ln w="38160">
                <a:solidFill>
                  <a:srgbClr val="66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44"/>
              <p:cNvSpPr/>
              <p:nvPr/>
            </p:nvSpPr>
            <p:spPr>
              <a:xfrm>
                <a:off x="324000" y="4294080"/>
                <a:ext cx="3240000" cy="93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Century Gothic"/>
                  </a:rPr>
                  <a:t>“</a:t>
                </a:r>
                <a:r>
                  <a:rPr b="1" i="1" lang="en-US" sz="1800" spc="-1" strike="noStrike">
                    <a:solidFill>
                      <a:srgbClr val="666699"/>
                    </a:solidFill>
                    <a:latin typeface="Century Gothic"/>
                  </a:rPr>
                  <a:t>El relato que yo cuento acerca de mi mismo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Text Box 45"/>
            <p:cNvSpPr/>
            <p:nvPr/>
          </p:nvSpPr>
          <p:spPr>
            <a:xfrm>
              <a:off x="6156360" y="4306680"/>
              <a:ext cx="3240000" cy="12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US" sz="1800" spc="-1" strike="noStrike">
                  <a:solidFill>
                    <a:srgbClr val="666699"/>
                  </a:solidFill>
                  <a:latin typeface="Century Gothic"/>
                </a:rPr>
                <a:t>“</a:t>
              </a:r>
              <a:r>
                <a:rPr b="1" i="1" lang="en-US" sz="1800" spc="-1" strike="noStrike">
                  <a:solidFill>
                    <a:srgbClr val="666699"/>
                  </a:solidFill>
                  <a:latin typeface="Century Gothic"/>
                </a:rPr>
                <a:t>El relato que los otros cuentan de mí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46"/>
            <p:cNvSpPr/>
            <p:nvPr/>
          </p:nvSpPr>
          <p:spPr>
            <a:xfrm>
              <a:off x="6875640" y="3489120"/>
              <a:ext cx="934920" cy="6480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RESPUES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52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56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468360" y="148428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l 72% de los chilenos encuentra trabajo a través de redes de contacto. (Entrepeneur Consulto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El 80% de los chilenos encuentra trabajo a través de redes de contacto. (DB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“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La eficacia del negocio en general, depende más de actividades de “carácter humano” como la construcción de relaciones, las habilidades interpersonales y la comunicación que de habilidades y capacidades técnicas.” (Networking Intelig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QUÉ SON LAS RE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63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67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“</a:t>
            </a: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Son todas las relaciones que un individuo percibe como significativas o diferenciadas de la masa anónima de la socieda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Las personas que componen una RED tienen nombre y apellido, no son instituciones, ni agrup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¿Como identifico mi 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MAPA DE RE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74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78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4"/>
          <p:cNvSpPr/>
          <p:nvPr/>
        </p:nvSpPr>
        <p:spPr>
          <a:xfrm>
            <a:off x="1547640" y="1690560"/>
            <a:ext cx="5715000" cy="4114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5"/>
          <p:cNvSpPr/>
          <p:nvPr/>
        </p:nvSpPr>
        <p:spPr>
          <a:xfrm>
            <a:off x="2362320" y="2422440"/>
            <a:ext cx="403848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6"/>
          <p:cNvSpPr/>
          <p:nvPr/>
        </p:nvSpPr>
        <p:spPr>
          <a:xfrm>
            <a:off x="3200400" y="3078000"/>
            <a:ext cx="243828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4427640" y="1197000"/>
            <a:ext cx="7920" cy="515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762120" y="37162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457200" y="127872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: FAMILIA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6715080" y="1285200"/>
            <a:ext cx="18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: AMI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250920" y="4941720"/>
            <a:ext cx="211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: COMUNIDAD (Vecinos, Organizaciones Soci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6948360" y="4797000"/>
            <a:ext cx="188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: TRABAJO O EST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24"/>
          <p:cNvSpPr txBox="1"/>
          <p:nvPr/>
        </p:nvSpPr>
        <p:spPr>
          <a:xfrm>
            <a:off x="3348000" y="3500280"/>
            <a:ext cx="2057400" cy="5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9900"/>
                </a:solidFill>
                <a:latin typeface="Tahoma"/>
              </a:rPr>
              <a:t>INTIMIDAD</a:t>
            </a:r>
            <a:endParaRPr b="1" lang="en-US" sz="2400" spc="1" strike="noStrike">
              <a:ln w="0">
                <a:noFill/>
              </a:ln>
              <a:solidFill>
                <a:srgbClr val="ff9900"/>
              </a:solidFill>
              <a:latin typeface="Tahoma"/>
              <a:ea typeface="Tahoma"/>
            </a:endParaRPr>
          </a:p>
        </p:txBody>
      </p:sp>
      <p:sp>
        <p:nvSpPr>
          <p:cNvPr id="92" name="WordArt 25"/>
          <p:cNvSpPr txBox="1"/>
          <p:nvPr/>
        </p:nvSpPr>
        <p:spPr>
          <a:xfrm>
            <a:off x="2916360" y="4149720"/>
            <a:ext cx="3200400" cy="466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9900"/>
                </a:solidFill>
                <a:latin typeface="Tahoma"/>
              </a:rPr>
              <a:t>RELACIONES SOCIALES</a:t>
            </a:r>
            <a:endParaRPr b="1" lang="en-US" sz="2000" spc="1" strike="noStrike">
              <a:ln w="0">
                <a:noFill/>
              </a:ln>
              <a:solidFill>
                <a:srgbClr val="ff9900"/>
              </a:solidFill>
              <a:latin typeface="Tahoma"/>
              <a:ea typeface="Tahoma"/>
            </a:endParaRPr>
          </a:p>
        </p:txBody>
      </p:sp>
      <p:sp>
        <p:nvSpPr>
          <p:cNvPr id="93" name="WordArt 26"/>
          <p:cNvSpPr txBox="1"/>
          <p:nvPr/>
        </p:nvSpPr>
        <p:spPr>
          <a:xfrm>
            <a:off x="2700360" y="4581360"/>
            <a:ext cx="3527280" cy="93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9900"/>
                </a:solidFill>
                <a:latin typeface="Tahoma"/>
              </a:rPr>
              <a:t>RELACIONES INSTRUMENTALES</a:t>
            </a:r>
            <a:endParaRPr b="1" lang="en-US" sz="2000" spc="1" strike="noStrike">
              <a:ln w="0">
                <a:noFill/>
              </a:ln>
              <a:solidFill>
                <a:srgbClr val="ff9900"/>
              </a:solidFill>
              <a:latin typeface="Tahoma"/>
              <a:ea typeface="Tahoma"/>
            </a:endParaRPr>
          </a:p>
        </p:txBody>
      </p:sp>
      <p:sp>
        <p:nvSpPr>
          <p:cNvPr id="94" name="WordArt 27"/>
          <p:cNvSpPr txBox="1"/>
          <p:nvPr/>
        </p:nvSpPr>
        <p:spPr>
          <a:xfrm>
            <a:off x="3419640" y="5877000"/>
            <a:ext cx="2057400" cy="47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9900"/>
                </a:solidFill>
                <a:latin typeface="Tahoma"/>
              </a:rPr>
              <a:t>"CONTACTOS"</a:t>
            </a:r>
            <a:endParaRPr b="1" lang="en-US" sz="2000" spc="1" strike="noStrike">
              <a:ln w="0">
                <a:noFill/>
              </a:ln>
              <a:solidFill>
                <a:srgbClr val="ff9900"/>
              </a:solidFill>
              <a:latin typeface="Tahoma"/>
              <a:ea typeface="Tahom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PORQUE SON IMPORT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97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01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Necesidad humana fundamental (sentido de pertenencia, seres soci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Nos permiten informarnos rápid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ara encontrar trabajo (72%- Entrepeneur; 80%- DB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Globalización (aislado es difícil, relaciones internacional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BARRE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08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12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Pre - juicios y caracterizaciones poco fundamentadas de las per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Desconfi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Trebuchet MS"/>
              </a:rPr>
              <a:t>Beneficios difíciles de cuantifi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COMO GESTIONAR MI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20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24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Asignarle import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Ampliar círculo (poder de la diversidad, puen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Aprovechando el potencial: contactos 2do 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Generando confi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onversaciones “poderosas”: escuc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1187280" y="3141720"/>
            <a:ext cx="749016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CAPITAL 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32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36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COMO GESTIONAR MI 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4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43" name="Rectangle 5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6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7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8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47" name="Rectangle 9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0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1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Line 12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468360" y="1413000"/>
            <a:ext cx="8280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“</a:t>
            </a: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Capacidad de un sistema social para producir valor a través de sus relaciones de confianza, cooperación y reciprocidad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La calidad de las relaciones entre las personas determina centralmente la eficacia, la eficiencia, la capacidad de evolucionar y el bienestar de toda organización hum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22:56:56Z</dcterms:created>
  <dc:creator>Francisco J. Astudillo A.</dc:creator>
  <dc:description/>
  <dc:language>en-US</dc:language>
  <cp:lastModifiedBy>Solsire</cp:lastModifiedBy>
  <cp:lastPrinted>2004-06-01T23:06:04Z</cp:lastPrinted>
  <dcterms:modified xsi:type="dcterms:W3CDTF">2008-10-10T19:41:20Z</dcterms:modified>
  <cp:revision>458</cp:revision>
  <dc:subject/>
  <dc:title>Presentación de PowerPoint</dc:title>
</cp:coreProperties>
</file>