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6D8-0042-4EBE-A1FD-64663306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CF8-DB4F-4201-A042-DC0B407D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BAB-CB6A-46CA-9D38-068254C8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9E1-FD4F-4C54-BAEC-34778861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32F-8E1F-465E-A4C2-E588B0E3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DA9-EA37-4254-85CE-8B56F1B2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31F-0C57-47A6-A00F-19505F55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E10-7B71-4949-A72E-456EC276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EF9-365D-45DD-BF65-542A4595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F81-6536-4B70-B98B-F07E3642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53BC-5AC0-46A1-A451-0D3D6320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8E06-C85C-4843-82B8-A746D4A3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D9D0-E544-4A1A-9D86-754367E806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4" descr="logo_CMS_color"/>
          <p:cNvPicPr/>
          <p:nvPr/>
        </p:nvPicPr>
        <p:blipFill>
          <a:blip r:embed="rId1"/>
          <a:stretch/>
        </p:blipFill>
        <p:spPr>
          <a:xfrm>
            <a:off x="395280" y="4653000"/>
            <a:ext cx="3024360" cy="17762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45"/>
          <p:cNvGrpSpPr/>
          <p:nvPr/>
        </p:nvGrpSpPr>
        <p:grpSpPr>
          <a:xfrm>
            <a:off x="179280" y="189000"/>
            <a:ext cx="1150920" cy="1006560"/>
            <a:chOff x="179280" y="189000"/>
            <a:chExt cx="1150920" cy="1006560"/>
          </a:xfrm>
        </p:grpSpPr>
        <p:sp>
          <p:nvSpPr>
            <p:cNvPr id="43" name="Rectangle 35"/>
            <p:cNvSpPr/>
            <p:nvPr/>
          </p:nvSpPr>
          <p:spPr>
            <a:xfrm>
              <a:off x="82692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7"/>
            <p:cNvSpPr/>
            <p:nvPr/>
          </p:nvSpPr>
          <p:spPr>
            <a:xfrm>
              <a:off x="17928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39"/>
            <p:cNvSpPr/>
            <p:nvPr/>
          </p:nvSpPr>
          <p:spPr>
            <a:xfrm>
              <a:off x="179280" y="7635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47"/>
          <p:cNvGrpSpPr/>
          <p:nvPr/>
        </p:nvGrpSpPr>
        <p:grpSpPr>
          <a:xfrm>
            <a:off x="7740720" y="5589720"/>
            <a:ext cx="1152360" cy="1008000"/>
            <a:chOff x="7740720" y="5589720"/>
            <a:chExt cx="1152360" cy="1008000"/>
          </a:xfrm>
        </p:grpSpPr>
        <p:sp>
          <p:nvSpPr>
            <p:cNvPr id="47" name="Rectangle 42"/>
            <p:cNvSpPr/>
            <p:nvPr/>
          </p:nvSpPr>
          <p:spPr>
            <a:xfrm>
              <a:off x="774072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44"/>
            <p:cNvSpPr/>
            <p:nvPr/>
          </p:nvSpPr>
          <p:spPr>
            <a:xfrm>
              <a:off x="838836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6"/>
            <p:cNvSpPr/>
            <p:nvPr/>
          </p:nvSpPr>
          <p:spPr>
            <a:xfrm>
              <a:off x="8389800" y="55897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51"/>
          <p:cNvSpPr/>
          <p:nvPr/>
        </p:nvSpPr>
        <p:spPr>
          <a:xfrm>
            <a:off x="1692360" y="2276640"/>
            <a:ext cx="7173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rebuchet MS"/>
              </a:rPr>
              <a:t>CAPACITACIÓN 1  Aprender a Apr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NEMIGOS DEL APRENDIZ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4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5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a ceguera</a:t>
            </a: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“No sabemos que no sabem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El miedo a declarar igno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vergüenza de mostrar incompetencia (miedo al ridículo de las primeras accion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nsiderarse victima (factores extern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El orgullo (no querer pedir ay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arrogancia (pretender que ya se al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pereza (floj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impaciencia y el aburrimiento (querer aprender al mínimo esfuerz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Desconfianza de mi capacidad para aprender o en el mae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APRENDIZAJE DE HABIL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6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6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Formas usuales de apre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currencia ... aprendizaje por repetición de prác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-deriva ... aprendizaje por acompañar a un experto o entrenamiento en la 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esión  y exig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Ilum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APRENDER A APRE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7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7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539640" y="155736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a secu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3446640" y="2205000"/>
            <a:ext cx="1218960" cy="1676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Declarar espacios de aprendizaj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5348160" y="2222640"/>
            <a:ext cx="121932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Diseño de nuevas práctic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7253280" y="2222640"/>
            <a:ext cx="121932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Poner en marcha las prácticas diseña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395280" y="3060720"/>
            <a:ext cx="7621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167360" y="4508640"/>
            <a:ext cx="167616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ahoma"/>
              </a:rPr>
              <a:t>Evaluar resulta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8777160" y="3060720"/>
            <a:ext cx="0" cy="2286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 flipH="1">
            <a:off x="421920" y="5373720"/>
            <a:ext cx="3745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5805000" y="5346720"/>
            <a:ext cx="2971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"/>
          <p:cNvSpPr/>
          <p:nvPr/>
        </p:nvSpPr>
        <p:spPr>
          <a:xfrm>
            <a:off x="2843280" y="306864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6567480" y="3060720"/>
            <a:ext cx="685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1143000" y="2205000"/>
            <a:ext cx="1676520" cy="1676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Observar insatisfacciones, anomalías y 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4670280" y="3068640"/>
            <a:ext cx="685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>
            <a:off x="8459640" y="3068640"/>
            <a:ext cx="30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395280" y="3068640"/>
            <a:ext cx="0" cy="22860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COMO MOVER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9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0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539640" y="126828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ompet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econocerlas y acept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Hacer ofer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Entrenar a 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Incompet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econocerlas y acept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No involucrarse en dominios donde se requie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Pedir ayuda a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Armar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Desarrollarlas ... Evaluando si es r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332000" y="380880"/>
            <a:ext cx="75610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rebuchet MS"/>
              </a:rPr>
              <a:t>QUE SE ESPERA DE LOS EMPRES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1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1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539640" y="1486080"/>
            <a:ext cx="835344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pregunten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se declaren igno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Tal vez no en forma explicita pero si a través de la act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se sientan “Empresari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El termino microempresario establece barr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Son empresarios de micro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empren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inn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LA BASE PARA 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2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2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826920" y="1700280"/>
            <a:ext cx="75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hombres nacen suaves y flexibles. </a:t>
            </a:r>
            <a:br>
              <a:rPr sz="2400"/>
            </a:b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n la muerte son rígidos y duros. Las plantas nacen tiernas y dóciles. En la muerte son secas y quebradizas. Entonces, cualquiera que sea rígido e inflexible es un discípulo de la muerte. Cualquiera que sea suave, abierto y flexible es un discípulo de la vi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aoTse, Tao Te 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54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58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Desarrollar capacidad de acción efectiva en algún dominio (transformación de acciones inefectivas en acciones efectiv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o primero es identificar una situación insatisfa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Todo proceso de aprendizaje es un proceso de cam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332000" y="299736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66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70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7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8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eguera cognitiva: No sé que no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No es posible apr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ctúan como si supieran en dominios donde no 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ra salir de ella es necesaria la intervención externa o experimentar un quie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8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9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Ignorancia: Sé que no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de aquí se puede aprender o pedir ay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Hay 3 formas en que puede actuar el ignor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us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re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incip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0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0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Saber: Sé que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de aquí podemos hacer of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Ceguera al Saber: No sé que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e actúa eficientemente pero no podemos hacer of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e hacer para apre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1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1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Saber que existe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clarar ignorancia en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clarar interés en aprender y darme permiso para cometer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uscar un profesor (o institución) que sea adecuado según estándares establecidos por una comunidad y pedirle que nos enseñe. Negociar los tér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arle autoridad al profe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acticar, practicar, practicar, con super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rreg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ETAPAS DEL APRENDIZ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25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29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Ignor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incipiante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aprendizajes independiente del contex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Aprendiz adelantado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 (puede desarrollar mínima competencia, todavía no pude s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mpetente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 (experiencia en situaciones reales, pero no puede reaccionar ante situaciones inespera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xperto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sabe que hacer, la acción es intuitiva, actúa sin pens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Maestro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establece nuevos estándares, mantienen espíritu de aprendiza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547640" y="380880"/>
            <a:ext cx="73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CATALIZADORES PARA 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3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4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Decir “no sé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Saber pedir ay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Apertura a nuevas formas de actuar y ver las c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Perseverante en la realización de prác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Estado de ánimo de maravillamiento, ambición (sana) y deseos de supe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Aceptar los err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7-08-13T15:46:50Z</dcterms:modified>
  <cp:revision>428</cp:revision>
  <dc:subject/>
  <dc:title>Presentación de PowerPoint</dc:title>
</cp:coreProperties>
</file>