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29D-4A4D-4181-85E1-E88C0F05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25E-16AE-44EA-AFF9-D197CFF8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D11-7CCD-4B34-8BF0-E6FC14CC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B9B-1EDD-41C6-8B3C-D0F2484F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06F-AB4B-4BA3-8BD4-35E59019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F68-08D2-455B-915A-CA2FD90F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6A1-D22B-4433-B360-4A336EA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48B-9BEE-4043-ACFD-FB599E7F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AAA-6FE4-4E41-B606-BA66A61B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0B4-0DC3-40BA-9D6C-5A71463B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EF9-D227-4DFE-8BA4-FC696D8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84E-3C2F-45B0-9022-B0E627E3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12A0-111B-46D1-B920-6561BAE308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logo_CMS_color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51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CAPACITACIÓN 1  Aprender a Apr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NEMIGOS DEL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 ceguera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“No sabemos que no sabem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miedo a declarar igno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vergüenza de mostrar incompetencia (miedo al ridículo de las primeras accion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nsiderarse victima (factores exter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orgullo (no querer pedir ay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arrogancia (pretender que ya se al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pereza (floj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impaciencia y el aburrimiento (querer aprender al mínimo esfuer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Desconfianza de mi capacidad para aprender o en el ma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APRENDIZAJE DE HABIL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Formas usuales de apr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urrencia ... aprendizaje por repetición de pr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-deriva ... aprendizaje por acompañar a un experto o entrenamiento en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sión  y ex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lu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APRENDER 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539640" y="155736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a secu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446640" y="2205000"/>
            <a:ext cx="121896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eclarar espacios de aprendiz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534816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iseño de nuevas práctic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25328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Poner en marcha las prácticas diseñ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95280" y="3060720"/>
            <a:ext cx="7621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167360" y="4508640"/>
            <a:ext cx="167616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Evaluar result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8777160" y="306072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421920" y="5373720"/>
            <a:ext cx="3745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5805000" y="534672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2843280" y="306864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6567480" y="306072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143000" y="2205000"/>
            <a:ext cx="167652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servar insatisfacciones, anomalías y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4670280" y="306864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8459640" y="306864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395280" y="306864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OMO MOVER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39640" y="126828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Hacer ofe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Entrenar a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In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involucrarse en dominios donde se requi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dir ayuda a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rmar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esarrollarlas ... Evaluando si es r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332000" y="380880"/>
            <a:ext cx="7561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QUE SE ESPERA DE LOS EMPRE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1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539640" y="1486080"/>
            <a:ext cx="83534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pregunten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declaren igno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Tal vez no en forma explicita pero si a través de la act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sientan “Empresari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l termino microempresario establece bar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Son empresarios de micro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empre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inn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LA BASE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hombres nacen suaves y flexibles. </a:t>
            </a:r>
            <a:br>
              <a:rPr sz="2400"/>
            </a:b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n la muerte son rígidos y duros. Las plantas nacen tiernas y dóciles. En la muerte son secas y quebradizas. Entonces, cualquiera que sea rígido e inflexible es un discípulo de la muerte. Cualquiera que sea suave, abierto y flexible es un discípulo de la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oTse, Tao T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sarrollar capacidad de acción efectiva en algún dominio (transformación de acciones inefectivas en acciones efecti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 primero es identificar una situación insatisfa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odo proceso de aprendizaje es un proceso de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332000" y="299736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guera cognitiva: No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 es posibl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ctúan como si supieran en dominios donde no 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salir de ella es necesaria la intervención externa o experimentar un quie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8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Ignorancia: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se puede aprender o pedir ay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Hay 3 formas en que puede actuar el ignor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re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incip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Saber: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Ceguera al Saber: No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 actúa eficientemente pero no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hacer par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Saber que exist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gnorancia en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nterés en aprender y darme permiso para cometer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scar un profesor (o institución) que sea adecuado según estándares establecidos por una comunidad y pedirle que nos enseñe. Negociar l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arle autoridad al prof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acticar, practicar, practicar, con super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rre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ETAPAS DEL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gno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incipiante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aprendizajes independiente del contex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prendiz adelantado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puede desarrollar mínima competencia, todavía no pude s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mpetente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experiencia en situaciones reales, pero no puede reaccionar ante situaciones inespe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xpert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sabe que hacer, la acción es intuitiva, actúa sin pen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Maestr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establece nuevos estándares, mantienen espíritu de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380880"/>
            <a:ext cx="73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ATALIZADORES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cir “no s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Saber pedir ay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pertura a nuevas formas de actuar y ver las c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erseverante en la realización de prác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Estado de ánimo de maravillamiento, ambición (sana) y deseos de s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ceptar los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7-08-13T15:46:50Z</dcterms:modified>
  <cp:revision>428</cp:revision>
  <dc:subject/>
  <dc:title>Presentación de PowerPoint</dc:title>
</cp:coreProperties>
</file>