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B539-AA8F-434C-85EC-F93A1F042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DF26-0AC1-4A78-BF78-E50A0F41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07C9-5E7C-4D67-9329-74C417D96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AF63-C8A1-4DD3-AFB4-22E06D841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D2AB-6223-49A2-A0BA-2C1A0F9F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AF77-A8B6-428C-968C-B31378FE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1450-DD78-426F-970E-5E7607E0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CB95-7E3B-4A67-B974-509BFD2F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5779-387B-4552-BD77-ED193586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434E-BB70-4DB8-98F2-4F0D5391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B8CC-A14D-4770-B13E-626C67E9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AA1D-84B7-4229-99B6-799E796B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76C8-C7A3-4A9A-ADB9-C6899E6D377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4" descr="logo_CMS_color"/>
          <p:cNvPicPr/>
          <p:nvPr/>
        </p:nvPicPr>
        <p:blipFill>
          <a:blip r:embed="rId1"/>
          <a:stretch/>
        </p:blipFill>
        <p:spPr>
          <a:xfrm>
            <a:off x="395280" y="4653000"/>
            <a:ext cx="3024360" cy="177624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45"/>
          <p:cNvGrpSpPr/>
          <p:nvPr/>
        </p:nvGrpSpPr>
        <p:grpSpPr>
          <a:xfrm>
            <a:off x="179280" y="189000"/>
            <a:ext cx="1150920" cy="1006560"/>
            <a:chOff x="179280" y="189000"/>
            <a:chExt cx="1150920" cy="1006560"/>
          </a:xfrm>
        </p:grpSpPr>
        <p:sp>
          <p:nvSpPr>
            <p:cNvPr id="43" name="Rectangle 35"/>
            <p:cNvSpPr/>
            <p:nvPr/>
          </p:nvSpPr>
          <p:spPr>
            <a:xfrm>
              <a:off x="826920" y="18900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37"/>
            <p:cNvSpPr/>
            <p:nvPr/>
          </p:nvSpPr>
          <p:spPr>
            <a:xfrm>
              <a:off x="179280" y="18900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39"/>
            <p:cNvSpPr/>
            <p:nvPr/>
          </p:nvSpPr>
          <p:spPr>
            <a:xfrm>
              <a:off x="179280" y="7635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Group 47"/>
          <p:cNvGrpSpPr/>
          <p:nvPr/>
        </p:nvGrpSpPr>
        <p:grpSpPr>
          <a:xfrm>
            <a:off x="7740720" y="5589720"/>
            <a:ext cx="1152360" cy="1008000"/>
            <a:chOff x="7740720" y="5589720"/>
            <a:chExt cx="1152360" cy="1008000"/>
          </a:xfrm>
        </p:grpSpPr>
        <p:sp>
          <p:nvSpPr>
            <p:cNvPr id="47" name="Rectangle 42"/>
            <p:cNvSpPr/>
            <p:nvPr/>
          </p:nvSpPr>
          <p:spPr>
            <a:xfrm>
              <a:off x="7740720" y="616572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44"/>
            <p:cNvSpPr/>
            <p:nvPr/>
          </p:nvSpPr>
          <p:spPr>
            <a:xfrm>
              <a:off x="8388360" y="616572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46"/>
            <p:cNvSpPr/>
            <p:nvPr/>
          </p:nvSpPr>
          <p:spPr>
            <a:xfrm>
              <a:off x="8389800" y="55897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51"/>
          <p:cNvSpPr/>
          <p:nvPr/>
        </p:nvSpPr>
        <p:spPr>
          <a:xfrm>
            <a:off x="1692360" y="2276640"/>
            <a:ext cx="7173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rebuchet MS"/>
              </a:rPr>
              <a:t>CAPACITACIÓN 1  Aprender a Apr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ENEMIGOS DEL APRENDIZ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49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53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La ceguera</a:t>
            </a: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“No sabemos que no sabemo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El miedo a declarar ignor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La vergüenza de mostrar incompetencia (miedo al ridículo de las primeras accion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Considerarse victima (factores extern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El orgullo (no querer pedir ay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La arrogancia (pretender que ya se alg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La pereza (floje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La impaciencia y el aburrimiento (querer aprender al mínimo esfuerz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Desconfianza de mi capacidad para aprender o en el maes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APRENDIZAJE DE HABILIDA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61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65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Formas usuales de apren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Recurrencia ... aprendizaje por repetición de práct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Co-deriva ... aprendizaje por acompañar a un experto o entrenamiento en la a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Presión  y exig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Ilumin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APRENDER A APREN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72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73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77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539640" y="1557360"/>
            <a:ext cx="835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La secuenc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5"/>
          <p:cNvSpPr/>
          <p:nvPr/>
        </p:nvSpPr>
        <p:spPr>
          <a:xfrm>
            <a:off x="3446640" y="2205000"/>
            <a:ext cx="1218960" cy="16765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Tahoma"/>
              </a:rPr>
              <a:t>Declarar espacios de aprendizaj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6"/>
          <p:cNvSpPr/>
          <p:nvPr/>
        </p:nvSpPr>
        <p:spPr>
          <a:xfrm>
            <a:off x="5348160" y="2222640"/>
            <a:ext cx="1219320" cy="16761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Tahoma"/>
              </a:rPr>
              <a:t>Diseño de nuevas práctic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7253280" y="2222640"/>
            <a:ext cx="1219320" cy="16761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Tahoma"/>
              </a:rPr>
              <a:t>Poner en marcha las prácticas diseñad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8"/>
          <p:cNvSpPr/>
          <p:nvPr/>
        </p:nvSpPr>
        <p:spPr>
          <a:xfrm>
            <a:off x="395280" y="3060720"/>
            <a:ext cx="76212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4167360" y="4508640"/>
            <a:ext cx="1676160" cy="16761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Tahoma"/>
              </a:rPr>
              <a:t>Evaluar resultad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0"/>
          <p:cNvSpPr/>
          <p:nvPr/>
        </p:nvSpPr>
        <p:spPr>
          <a:xfrm>
            <a:off x="8777160" y="3060720"/>
            <a:ext cx="0" cy="2286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1"/>
          <p:cNvSpPr/>
          <p:nvPr/>
        </p:nvSpPr>
        <p:spPr>
          <a:xfrm flipH="1">
            <a:off x="421920" y="5373720"/>
            <a:ext cx="37450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2"/>
          <p:cNvSpPr/>
          <p:nvPr/>
        </p:nvSpPr>
        <p:spPr>
          <a:xfrm flipH="1">
            <a:off x="5805000" y="5346720"/>
            <a:ext cx="29718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3"/>
          <p:cNvSpPr/>
          <p:nvPr/>
        </p:nvSpPr>
        <p:spPr>
          <a:xfrm>
            <a:off x="2843280" y="3068640"/>
            <a:ext cx="609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4"/>
          <p:cNvSpPr/>
          <p:nvPr/>
        </p:nvSpPr>
        <p:spPr>
          <a:xfrm>
            <a:off x="6567480" y="3060720"/>
            <a:ext cx="6858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5"/>
          <p:cNvSpPr/>
          <p:nvPr/>
        </p:nvSpPr>
        <p:spPr>
          <a:xfrm>
            <a:off x="1143000" y="2205000"/>
            <a:ext cx="1676520" cy="16765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Observar insatisfacciones, anomalías y oportun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6"/>
          <p:cNvSpPr/>
          <p:nvPr/>
        </p:nvSpPr>
        <p:spPr>
          <a:xfrm>
            <a:off x="4670280" y="3068640"/>
            <a:ext cx="6858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7"/>
          <p:cNvSpPr/>
          <p:nvPr/>
        </p:nvSpPr>
        <p:spPr>
          <a:xfrm>
            <a:off x="8459640" y="3068640"/>
            <a:ext cx="3049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8"/>
          <p:cNvSpPr/>
          <p:nvPr/>
        </p:nvSpPr>
        <p:spPr>
          <a:xfrm>
            <a:off x="395280" y="3068640"/>
            <a:ext cx="0" cy="228600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COMO MOVERN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99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203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539640" y="126828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Competenci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Reconocerlas y aceptar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Hacer ofer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Entrenar a 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Incompetenci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Reconocerlas y aceptar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No involucrarse en dominios donde se requie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Pedir ayuda a ter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Armar equi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Desarrollarlas ... Evaluando si es ren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1332000" y="380880"/>
            <a:ext cx="756108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000"/>
              </a:spcBef>
              <a:spcAft>
                <a:spcPts val="4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rebuchet MS"/>
              </a:rPr>
              <a:t>QUE SE ESPERA DE LOS EMPRES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210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211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215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539640" y="1486080"/>
            <a:ext cx="835344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Que pregunten t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Que se declaren ignor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rebuchet MS"/>
              </a:rPr>
              <a:t>Tal vez no en forma explicita pero si a través de la actit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Que se sientan “Empresario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rebuchet MS"/>
              </a:rPr>
              <a:t>El termino microempresario establece barr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rebuchet MS"/>
              </a:rPr>
              <a:t>Son empresarios de micro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Que emprend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Que inn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LA BASE PARA APRE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" descr="logo_CMS_color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222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223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227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3"/>
          <p:cNvSpPr/>
          <p:nvPr/>
        </p:nvSpPr>
        <p:spPr>
          <a:xfrm>
            <a:off x="826920" y="1700280"/>
            <a:ext cx="75614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Los hombres nacen suaves y flexibles. </a:t>
            </a:r>
            <a:br>
              <a:rPr sz="2400"/>
            </a:b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En la muerte son rígidos y duros. Las plantas nacen tiernas y dóciles. En la muerte son secas y quebradizas. Entonces, cualquiera que sea rígido e inflexible es un discípulo de la muerte. Cualquiera que sea suave, abierto y flexible es un discípulo de la vid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LaoTse, Tao Te 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APRE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logo_CMS_color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54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58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539640" y="1557360"/>
            <a:ext cx="83534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Desarrollar capacidad de acción efectiva en algún dominio (transformación de acciones inefectivas en acciones efectiv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Lo primero es identificar una situación insatisfac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Todo proceso de aprendizaje es un proceso de camb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1332000" y="299736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DOMINIOS DEL SA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logo_CMS_color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66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70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DOMINIOS DEL SA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77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81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8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Ceguera cognitiva: No sé que no 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No es posible apre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Actúan como si supieran en dominios donde no 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ra salir de ella es necesaria la intervención externa o experimentar un quieb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DOMINIOS DEL SA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89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93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Trebuchet MS"/>
              </a:rPr>
              <a:t>Ignorancia: Sé que no 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esde aquí se puede aprender o pedir ayu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Hay 3 formas en que puede actuar el ignora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Aus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Cret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rincip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DOMINIOS DEL SA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01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05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Trebuchet MS"/>
              </a:rPr>
              <a:t>Saber: Sé que 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esde aquí podemos hacer ofer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Trebuchet MS"/>
              </a:rPr>
              <a:t>Ceguera al Saber: No sé que 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Se actúa eficientemente pero no podemos hacer ofer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Que hacer para apren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12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13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17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Saber que existe el domi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Declarar ignorancia en el domi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Declarar interés en aprender y darme permiso para cometer err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Buscar un profesor (o institución) que sea adecuado según estándares establecidos por una comunidad y pedirle que nos enseñe. Negociar los térmi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Darle autoridad al profe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Practicar, practicar, practicar, con super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Correg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ETAPAS DEL APRENDIZA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24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25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29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Ci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Ignor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Principiante </a:t>
            </a: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(aprendizajes independiente del contex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Aprendiz adelantado</a:t>
            </a: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 (puede desarrollar mínima competencia, todavía no pude s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Competente</a:t>
            </a: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 (experiencia en situaciones reales, pero no puede reaccionar ante situaciones inesperad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Experto </a:t>
            </a: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(sabe que hacer, la acción es intuitiva, actúa sin pens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Maestro </a:t>
            </a: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(establece nuevos estándares, mantienen espíritu de aprendizaj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1547640" y="380880"/>
            <a:ext cx="734400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CATALIZADORES PARA APRE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37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41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Decir “no sé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Saber pedir ay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Apertura a nuevas formas de actuar y ver las c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Perseverante en la realización de prác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Estado de ánimo de maravillamiento, ambición (sana) y deseos de supera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Aceptar los err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22:56:56Z</dcterms:created>
  <dc:creator>Francisco J. Astudillo A.</dc:creator>
  <dc:description/>
  <dc:language>en-US</dc:language>
  <cp:lastModifiedBy>Solsire</cp:lastModifiedBy>
  <cp:lastPrinted>2004-06-01T23:06:04Z</cp:lastPrinted>
  <dcterms:modified xsi:type="dcterms:W3CDTF">2007-08-13T15:46:50Z</dcterms:modified>
  <cp:revision>428</cp:revision>
  <dc:subject/>
  <dc:title>Presentación de PowerPoint</dc:title>
</cp:coreProperties>
</file>