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4C3-565A-4674-9870-E59C8E4D206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EB8-77AE-45DD-BA00-98DCF4CBDFB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7B6-7953-473A-87E5-116A5498229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CB73-464F-4BCF-B2DF-7DB40FAB49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568-D941-4CB5-82A1-FE5D85991E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28A-4BF0-45BE-A368-7F115C89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F96-7811-4EB4-A30B-B7256B9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3FC-06D7-40AC-9F97-1B2DBC1F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A7B-5A7C-46BF-B310-B854B96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EDD-EEB9-42DB-AFFF-00E69D60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454-D73B-402F-9FE2-49AC6B7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803-52C3-4A57-8DB9-5045638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CC60-459D-451B-8151-44C46F71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3E20-AC7B-4064-8300-4C446F3C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16C1-9C87-436B-85AD-2B8F078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C1B8-1D05-4F46-82E5-FF887A4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737-16FD-4A49-BD9B-F4F86AE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D710-9572-40D3-8D1D-6ECF3386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645-4EB7-4BBC-A954-AF284EC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3A4D-3F27-4E42-93A3-9D8FB59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E97-E5BE-4226-8686-F9FCA7BB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3A7E-BB61-438F-BF58-DB2DE72E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7D5-BD92-43EF-8B20-4E2326F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E87-A71F-415D-83E0-C09DFF61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9A5-83A5-4F5A-B0B5-8452152A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4CF-F2C8-4F99-AC79-F927579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2B7-C7FC-4618-A0F6-5689C9F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D0-05AE-40E0-AF33-7C61A7D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246-640F-4ADB-AAF0-6D5B56D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5009-31FB-4B99-A262-4F3C6C59D3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7048-241D-4102-A79E-CE8EE9088C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52568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onerse en disposición para ser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364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5.312.000 y $47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472.000.001 y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188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85960"/>
          <a:ext cx="8358120" cy="36432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3.776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3.776.000 y $11.32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1.328.000 y $45.3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AL AÑO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l año 2004 existían 707.634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 (571.5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48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3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3" name="4 CuadroTexto"/>
          <p:cNvSpPr/>
          <p:nvPr/>
        </p:nvSpPr>
        <p:spPr>
          <a:xfrm>
            <a:off x="214200" y="5832360"/>
            <a:ext cx="8572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-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ATOS – Cantidad, Ventas y Empl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 (de 435.852 a 570.54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4" name="4 CuadroTexto"/>
          <p:cNvSpPr/>
          <p:nvPr/>
        </p:nvSpPr>
        <p:spPr>
          <a:xfrm>
            <a:off x="785880" y="457200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las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4-08T15:42:32Z</dcterms:modified>
  <cp:revision>434</cp:revision>
  <dc:subject/>
  <dc:title>Presentación de PowerPoint</dc:title>
</cp:coreProperties>
</file>