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7E90-5584-4F9B-BB42-858BF4D702D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36BB-E216-42F8-9B11-1A1A06918CD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C801-4356-4D7D-BBA7-AA2C5C69A0A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6D31-CC0E-439F-9FEC-185FEE02D75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B6FE-8519-435B-810A-4FA81FF4F63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5E2-B7EE-41FA-83C1-E723E649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4D0-0E4B-43CB-8173-3AD5DC35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C9E-1DCF-4EB8-9D84-8F7BD0B0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8F9-5347-40BA-B0CA-E795E373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34C5-BCAD-4806-AF20-8D6B3294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978A-41D1-4E96-86E0-72DFBEC8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77E5-46E9-42D5-A4CF-CBA7E716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976E-005B-4257-A04B-13E04F1B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A358-DB2C-4E2D-B692-EA57BFEB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B87F-8539-4D76-95F8-AFE55F0F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D9F8-453C-43FB-8A4A-0D45AED3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E6F-10F5-4016-8FB6-3886C01A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6E8B-4C83-46CF-81AB-2074FDE3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6DCD-A2F5-4051-94F5-0FD4A04A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CBD1-6315-44A1-818E-0CF61BBF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E637-4486-4C89-A1BB-877A700A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AE98-46E7-4C28-B62C-8F215A83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F7B-496F-4921-98BB-F5BD4181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B0D-1CAA-4FA5-A23A-B4335145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1DB-BDFB-4502-9C89-D1D64AB3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0F9-85F2-473B-A29E-14ED64D2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DCD-02F8-4284-BE2D-F90CA4D8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1C1-B0ED-4FB6-AABB-F9195C17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493-2DC1-4090-8AB8-F54E4CFA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D051-5883-4180-85F0-E3BAFE34AEF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logo_CMS_color"/>
          <p:cNvPicPr/>
          <p:nvPr/>
        </p:nvPicPr>
        <p:blipFill>
          <a:blip r:embed="rId2"/>
          <a:stretch/>
        </p:blipFill>
        <p:spPr>
          <a:xfrm>
            <a:off x="71280" y="214200"/>
            <a:ext cx="1857600" cy="1094040"/>
          </a:xfrm>
          <a:prstGeom prst="rect">
            <a:avLst/>
          </a:prstGeom>
          <a:ln w="0">
            <a:noFill/>
          </a:ln>
        </p:spPr>
      </p:pic>
      <p:sp>
        <p:nvSpPr>
          <p:cNvPr id="42" name="7 Conector recto"/>
          <p:cNvSpPr/>
          <p:nvPr/>
        </p:nvSpPr>
        <p:spPr>
          <a:xfrm>
            <a:off x="2000160" y="1285920"/>
            <a:ext cx="6715080" cy="144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C5D3-81C5-467A-87E7-0966DBBD498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4" descr="logo_CMS_color"/>
          <p:cNvPicPr/>
          <p:nvPr/>
        </p:nvPicPr>
        <p:blipFill>
          <a:blip r:embed="rId1"/>
          <a:stretch/>
        </p:blipFill>
        <p:spPr>
          <a:xfrm>
            <a:off x="2928960" y="4143240"/>
            <a:ext cx="3024000" cy="1776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1"/>
          <p:cNvSpPr/>
          <p:nvPr/>
        </p:nvSpPr>
        <p:spPr>
          <a:xfrm>
            <a:off x="539640" y="1928880"/>
            <a:ext cx="8326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rebuchet MS"/>
              </a:rPr>
              <a:t>PRIMERA CAPAC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rebuchet MS"/>
              </a:rPr>
              <a:t>Datos de la Micro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Suel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1525680"/>
            <a:ext cx="9144000" cy="4832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Sistema Financ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7000920" cy="455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4" descr="logo_CMS_color"/>
          <p:cNvPicPr/>
          <p:nvPr/>
        </p:nvPicPr>
        <p:blipFill>
          <a:blip r:embed="rId1"/>
          <a:stretch/>
        </p:blipFill>
        <p:spPr>
          <a:xfrm>
            <a:off x="3119400" y="4643280"/>
            <a:ext cx="3024360" cy="1776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1"/>
          <p:cNvSpPr/>
          <p:nvPr/>
        </p:nvSpPr>
        <p:spPr>
          <a:xfrm>
            <a:off x="539640" y="1928880"/>
            <a:ext cx="8326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rebuchet MS"/>
              </a:rPr>
              <a:t>PRIMERA CAPAC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rebuchet MS"/>
              </a:rPr>
              <a:t>¿Cómo hacer la primera Capaci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071800" y="571680"/>
            <a:ext cx="6572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RESPUE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Trebuchet MS"/>
              </a:rPr>
              <a:t>Depe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integrantes de cada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facili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l material disponible y con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objetivo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objetivos del equipo doc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tc.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1763640" y="4941720"/>
            <a:ext cx="2160720" cy="576360"/>
          </a:xfrm>
          <a:prstGeom prst="rightArrow">
            <a:avLst>
              <a:gd name="adj1" fmla="val 50000"/>
              <a:gd name="adj2" fmla="val 9372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284720" y="472428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 EXISTE UNA MANERA UNICA DE REALIZA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908000" y="571680"/>
            <a:ext cx="68407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HERRAMIENTA  METODOLO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Trebuchet MS"/>
              </a:rPr>
              <a:t>Se les entrega a todos los grupos una carpeta que conti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ntenidos y objetivos de l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iseño en detalle de cada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auta de apoyo al diseño de l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porte de cát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Asis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071800" y="536400"/>
            <a:ext cx="66434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Pasar desde lo escrito en la carpeta a la Cancha impl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star muy bien prese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Usar Lenguaje simple, pero formal (reconocer lo antes posible el lenguaje de los empres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uen manejo de los tiem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finir el meollo de la expos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cibir feed-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071800" y="571680"/>
            <a:ext cx="6572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Ponerse en disposición para serv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Prepararse y Prepa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stud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nocer las funciones de cada 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nocer el Con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uidado mutu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star atento ante cualquier requerimiento, en especial del expositor y de los empres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000160" y="536400"/>
            <a:ext cx="6643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500040" y="157176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En los compromi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En la entrega de la capa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Conversar y generar confianza con los encargados del C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Preguntar el nombre de cualquier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ercan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Mezclarse entre los empresarios, estar con ellos, hacerlos partícipes del cu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offee break compar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Desde servirlo hasta comparti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000160" y="571680"/>
            <a:ext cx="67150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42876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Microempresarios piensan que van a recibir otro tipo de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Explicar en que consiste el programa CMS y sus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Algunos Microempresarios no llegan a la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Exigir hora para comenzar, conversar con ellos (hacerlos entender), comenzar más ta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as salas no son de la calidad espe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ienen goteras, no siempre están todas las sillas, no siempre hay m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o siempre hay medios audiovisuales</a:t>
            </a:r>
            <a:r>
              <a:rPr b="1" lang="es-MX" sz="2000" spc="-1" strike="noStrike">
                <a:solidFill>
                  <a:srgbClr val="003399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071800" y="536400"/>
            <a:ext cx="6572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50004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“lideres” que se toman la pala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ener control sobre al conversación, interrumpir sutilmente, dando la palabra a otro o continuando la cl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que no saben leer ni escrib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Hacer clase intera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Ayudarlos a completar los ejerc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Se desautorizan entre el equipo (Ej:“No te equivocaste eso no es así,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Prepararse bien para no cometer err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unca hacerlo…buscar una manera alternativa de decir después que hubo u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071800" y="571680"/>
            <a:ext cx="66434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É ES UNA MICROEMP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0040" y="1643040"/>
          <a:ext cx="8358120" cy="4643640"/>
        </p:xfrm>
        <a:graphic>
          <a:graphicData uri="http://schemas.openxmlformats.org/drawingml/2006/table">
            <a:tbl>
              <a:tblPr/>
              <a:tblGrid>
                <a:gridCol w="1566720"/>
                <a:gridCol w="3284640"/>
                <a:gridCol w="350676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ES EN 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S EN 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0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Mic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2.4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$ 45.312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Pequeñ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.400 y  25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 $45.312.000 y $472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0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Medi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5.000 y 100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$472.000.001 y $1880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Gran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s de 100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s de $1880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071800" y="536400"/>
            <a:ext cx="66434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42876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que tiene muchos problemas personales, comienzan a hablar de su vida y se emocion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ener ojo con los temas que se tratan en el curso. Si bien se hace trabajo de conocimiento personal, Háganlo superficial, no se involucren demasi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microempresarios hablan mucho y desvían la convers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o permitan que la conversación se les salga de rumbo, ustedes manejan la clase no los microempresarios. Recuerden que todo se hace suti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071800" y="571680"/>
            <a:ext cx="66434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TRAMOS DE LA MICROEMP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28760" y="1785960"/>
          <a:ext cx="8358120" cy="3643200"/>
        </p:xfrm>
        <a:graphic>
          <a:graphicData uri="http://schemas.openxmlformats.org/drawingml/2006/table">
            <a:tbl>
              <a:tblPr/>
              <a:tblGrid>
                <a:gridCol w="1566720"/>
                <a:gridCol w="3284640"/>
                <a:gridCol w="350676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ES EN 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S EN 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0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2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$ 3.776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00 y 6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 $3.776.000 y $11.328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0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600 y 2.4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$11.328.000 y $45.312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 AL AÑO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Al año 2004 existían 707.634 empresas formales en Chile, de las cu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81% son microempresas (571.5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1: 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2: 2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3: 2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16% son pequeñ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Además deben incluirse unas 748.000 de carácter i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62626"/>
                </a:solidFill>
                <a:latin typeface="Trebuchet MS"/>
              </a:rPr>
              <a:t>Existen más de 1.300.000 microempresas en Chile (1 por cada 12 habita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285840" y="5418000"/>
            <a:ext cx="83534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071800" y="571680"/>
            <a:ext cx="66769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DISTRIBUCIÓN SECTORIAL AL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572240" cy="4508640"/>
          </a:xfrm>
          <a:prstGeom prst="rect">
            <a:avLst/>
          </a:prstGeom>
          <a:ln w="0">
            <a:noFill/>
          </a:ln>
        </p:spPr>
      </p:pic>
      <p:sp>
        <p:nvSpPr>
          <p:cNvPr id="103" name="4 CuadroTexto"/>
          <p:cNvSpPr/>
          <p:nvPr/>
        </p:nvSpPr>
        <p:spPr>
          <a:xfrm>
            <a:off x="214200" y="5832360"/>
            <a:ext cx="8572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Comercio: Almacenes de barrio, bazares, pequeñas tiendas de ropa, puestos de diar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Servicios: administración de propiedades (mantención gas, agua, electricidad, servicios entreten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908000" y="571680"/>
            <a:ext cx="6950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DATOS - Cantidad, Ventas y Empl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43880" cy="51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908000" y="571680"/>
            <a:ext cx="6950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DATOS – Cantidad, Ventas y Empl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8400" y="1500120"/>
            <a:ext cx="9004320" cy="53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 – Niveles de v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as medianas y grande empresas suman el 3,4% de las unidades productivas formales, sin embargo son responsables del 87% de las ventas realizadas por las empresas for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Se ha observado un incremento notorio en la cantidad de microempresas en los últimos años, mostrando un aumento del 30,9% entre el año 1995 y 2003 (de 435.852 a 570.54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Exportaciones ($M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42960" y="1500120"/>
            <a:ext cx="7715160" cy="2805120"/>
          </a:xfrm>
          <a:prstGeom prst="rect">
            <a:avLst/>
          </a:prstGeom>
          <a:ln w="0">
            <a:noFill/>
          </a:ln>
        </p:spPr>
      </p:pic>
      <p:sp>
        <p:nvSpPr>
          <p:cNvPr id="114" name="4 CuadroTexto"/>
          <p:cNvSpPr/>
          <p:nvPr/>
        </p:nvSpPr>
        <p:spPr>
          <a:xfrm>
            <a:off x="785880" y="4572000"/>
            <a:ext cx="76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La MIPE tiene una baja participación en las exportaciones, a pesar que el 40% de las empresas que exportan son MI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8-04-08T15:42:32Z</dcterms:modified>
  <cp:revision>434</cp:revision>
  <dc:subject/>
  <dc:title>Presentación de PowerPoint</dc:title>
</cp:coreProperties>
</file>