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8219-44C6-4191-94B7-9C97CC04F51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0F1F-D165-4B70-B53B-B8F794F2C3E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08C2-9D32-4C57-BDE2-4DB60E0AAB7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9244-A2BC-4C03-9E48-728CF22EE54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1293-8B02-4D4C-B87C-10B378C19FD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6F3-85AF-484D-85AF-66D2A9CC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4B3-02E4-4145-B291-0CCE8F23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07F-0AE1-43C8-954E-0DEEF886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D6B-9AB8-4473-84DC-6143C25C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CDF6-5CD3-469B-BF83-A29C6ADF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B174-4676-40D7-87BE-ACF0B45A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E4E8-F0DA-4E5F-9653-47D3811E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7DB8-9FA9-407F-AE01-9B03F729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B6E7-DA41-4018-AE86-DDF34AFC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E9DA-FC9A-4818-88B5-AE2EAFAF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E5EE-D0E0-4C13-9DAD-0091F5FA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59F-5BEF-4300-AD70-93868EB8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8AFF-FB39-4DD4-9398-C2575D6A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2A8B-F2A3-41BC-B1BC-DAA22F4B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077A-9009-4181-BE8D-B1247FF7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3D99-5682-42B8-853B-394759B3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234C-66FD-4E4D-951F-5BDBF45E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746-EB77-4F48-92F2-63FF57EA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80A-1512-45EB-9355-76872B34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019-68EF-4B92-BF8C-130955EA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C5A-2FCD-43E2-8C56-6D1977AC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316-6470-42D6-9A36-2A6FB422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704-9E79-4305-B56C-21049212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1B4-0327-4272-A01D-EDF6348D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4ED8-1863-4642-A300-25F7DBD443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ogo_CMS_color"/>
          <p:cNvPicPr/>
          <p:nvPr/>
        </p:nvPicPr>
        <p:blipFill>
          <a:blip r:embed="rId2"/>
          <a:stretch/>
        </p:blipFill>
        <p:spPr>
          <a:xfrm>
            <a:off x="71280" y="214200"/>
            <a:ext cx="1857600" cy="1094040"/>
          </a:xfrm>
          <a:prstGeom prst="rect">
            <a:avLst/>
          </a:prstGeom>
          <a:ln w="0">
            <a:noFill/>
          </a:ln>
        </p:spPr>
      </p:pic>
      <p:sp>
        <p:nvSpPr>
          <p:cNvPr id="42" name="7 Conector recto"/>
          <p:cNvSpPr/>
          <p:nvPr/>
        </p:nvSpPr>
        <p:spPr>
          <a:xfrm>
            <a:off x="2000160" y="1285920"/>
            <a:ext cx="6715080" cy="144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3048-48C4-4B49-84C3-4AE398701D8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4" descr="logo_CMS_color"/>
          <p:cNvPicPr/>
          <p:nvPr/>
        </p:nvPicPr>
        <p:blipFill>
          <a:blip r:embed="rId1"/>
          <a:stretch/>
        </p:blipFill>
        <p:spPr>
          <a:xfrm>
            <a:off x="2928960" y="4143240"/>
            <a:ext cx="3024000" cy="177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Datos de la Micro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uel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1525680"/>
            <a:ext cx="9144000" cy="483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istema Financ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000920" cy="455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4" descr="logo_CMS_color"/>
          <p:cNvPicPr/>
          <p:nvPr/>
        </p:nvPicPr>
        <p:blipFill>
          <a:blip r:embed="rId1"/>
          <a:stretch/>
        </p:blipFill>
        <p:spPr>
          <a:xfrm>
            <a:off x="3119400" y="4643280"/>
            <a:ext cx="3024360" cy="1776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¿Cómo hacer la primera Capac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071800" y="57168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RESPUE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Depe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integrantes de cada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facili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material disponible y con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equipo doc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tc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1763640" y="4941720"/>
            <a:ext cx="2160720" cy="576360"/>
          </a:xfrm>
          <a:prstGeom prst="rightArrow">
            <a:avLst>
              <a:gd name="adj1" fmla="val 50000"/>
              <a:gd name="adj2" fmla="val 9372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284720" y="472428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 EXISTE UNA MANERA UNICA DE REALIZ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908000" y="571680"/>
            <a:ext cx="6840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HERRAMIENTA  METOD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Se les entrega a todos los grupos una carpeta que con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tenidos y objetivos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iseño en detalle de cada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uta de apoyo al diseño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porte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071800" y="53640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asar desde lo escrito en la carpeta a la Cancha impl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ar muy bien prese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Usar Lenguaje simple, pero formal (reconocer lo antes posible el lenguaje de los empres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en manejo de los tiem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finir el meollo de la expos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ibir feed-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071800" y="571680"/>
            <a:ext cx="6572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onerse en disposición para serv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repararse y Prepa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ud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ocer las funciones de cada 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ocer el 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uidado mutu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ar atento ante cualquier requerimiento, en especial del expositor y de los empres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000160" y="536400"/>
            <a:ext cx="6643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00040" y="157176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En los compromi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En la entrega de la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Conversar y generar confianza con los encargados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Preguntar el nombre de cualquier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rcan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Mezclarse entre los empresarios, estar con ellos, hacerlos partícipes del cu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ffee break compa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Desde servirlo hasta comparti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000160" y="571680"/>
            <a:ext cx="6715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piensan que van a recibir otro tipo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plicar en que consiste el programa CMS y su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Algunos Microempresarios no llegan a la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igir hora para comenzar, conversar con ellos (hacerlos entender), comenzar más t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as salas no son de la calidad espe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ienen goteras, no siempre están todas las sillas, no siempre hay m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siempre hay medios audiovisuales</a:t>
            </a:r>
            <a:r>
              <a:rPr b="1" lang="es-MX" sz="2000" spc="-1" strike="noStrike">
                <a:solidFill>
                  <a:srgbClr val="003399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071800" y="53640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50004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“lideres” que se toman la pala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control sobre al conversación, interrumpir sutilmente, dando la palabra a otro o continuando la cl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no saben leer ni escr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Hacer clase inter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Ayudarlos a completar los 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Se desautorizan entre el equipo (Ej:“No te equivocaste eso no es así,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Prepararse bien para no cometer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unca hacerlo…buscar una manera alternativa de decir después que hubo u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071800" y="57168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É ES UN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643040"/>
          <a:ext cx="8358120" cy="464364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ic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45.31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Pequeñ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.400 y  25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45.312.000 y $472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edi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5.000 y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472.000.001 y $188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Gran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$188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071800" y="53640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tiene muchos problemas personales, comienzan a hablar de su vida y se emocio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ojo con los temas que se tratan en el curso. Si bien se hace trabajo de conocimiento personal, Háganlo superficial, no se involucren demasi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hablan mucho y desvían la convers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permitan que la conversación se les salga de rumbo, ustedes manejan la clase no los microempresarios. Recuerden que todo se hace suti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071800" y="57168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TRAMOS DE L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28760" y="1785960"/>
          <a:ext cx="8358120" cy="364320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3.776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00 y 6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3.776.000 y $11.328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600 y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11.328.000 y $45.31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AL AÑO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l año 2004 existían 707.634 empresas formales en Chile, de las c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81% son microempresas (571.5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1: 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2: 2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3: 2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16% son pequeñ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demás deben incluirse unas 748.000 de carácter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26"/>
                </a:solidFill>
                <a:latin typeface="Trebuchet MS"/>
              </a:rPr>
              <a:t>Existen más de 1.300.000 microempresas en Chile (1 por cada 12 habita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285840" y="5418000"/>
            <a:ext cx="83534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071800" y="571680"/>
            <a:ext cx="66769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ISTRIBUCIÓN SECTORIAL AL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572240" cy="4508640"/>
          </a:xfrm>
          <a:prstGeom prst="rect">
            <a:avLst/>
          </a:prstGeom>
          <a:ln w="0">
            <a:noFill/>
          </a:ln>
        </p:spPr>
      </p:pic>
      <p:sp>
        <p:nvSpPr>
          <p:cNvPr id="103" name="4 CuadroTexto"/>
          <p:cNvSpPr/>
          <p:nvPr/>
        </p:nvSpPr>
        <p:spPr>
          <a:xfrm>
            <a:off x="214200" y="5832360"/>
            <a:ext cx="8572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omercio: Almacenes de barrio, bazares, pequeñas tiendas de ropa, puestos de diar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ervicios: administración de propiedades (mantención gas, agua, electricidad, servicios entreten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ATOS - Cantidad, Ventas y Emp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4388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ATOS – Cantidad, Ventas y Emp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8400" y="1500120"/>
            <a:ext cx="900432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– Niveles de v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as medianas y grande empresas suman el 3,4% de las unidades productivas formales, sin embargo son responsables del 87% de las ventas realizadas por las empresas for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Se ha observado un incremento notorio en la cantidad de microempresas en los últimos años, mostrando un aumento del 30,9% entre el año 1995 y 2003 (de 435.852 a 570.54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Exportaciones ($M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7715160" cy="2805120"/>
          </a:xfrm>
          <a:prstGeom prst="rect">
            <a:avLst/>
          </a:prstGeom>
          <a:ln w="0">
            <a:noFill/>
          </a:ln>
        </p:spPr>
      </p:pic>
      <p:sp>
        <p:nvSpPr>
          <p:cNvPr id="114" name="4 CuadroTexto"/>
          <p:cNvSpPr/>
          <p:nvPr/>
        </p:nvSpPr>
        <p:spPr>
          <a:xfrm>
            <a:off x="785880" y="457200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MIPE tiene una baja participación en las exportaciones, a pesar que el 40% de las empresas que exportan son M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4-08T15:42:32Z</dcterms:modified>
  <cp:revision>434</cp:revision>
  <dc:subject/>
  <dc:title>Presentación de PowerPoint</dc:title>
</cp:coreProperties>
</file>