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9963-4AD2-47AC-9D9B-53D9608430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todo es rosa en el aporte de Ch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26B1-6229-47E5-9F58-85CF47E898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m+: SST- CO2disue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D78-DD7B-4030-8B5E-730F0977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090-9EC3-4456-96F5-BFB0C2CE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1B1-2671-4AA4-BD34-E9B99592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EC1-1089-4646-973B-A0D7D221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483-554F-4689-BE88-8DC48C4D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BB7-EE4B-4DF1-BD6A-0EAA014D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250-0922-434D-8ADD-1819FEBE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867-0A1F-484A-8359-6CF35385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514-ACA5-4292-9FE4-8FEABB86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87D-4F0B-4E0C-BD9B-61EFCDD9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400-C847-4113-96EF-49850160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2EE-4F84-442B-89CD-4CF624F7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FFC8-7C6A-4E31-96E3-6B982AD5F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6920" y="549360"/>
            <a:ext cx="48956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ases invernad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centracion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igen, emision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das medi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ctros de absor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tencial de calent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orzamiento rad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35179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8560" y="692280"/>
            <a:ext cx="7759800" cy="445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5600" y="5176800"/>
            <a:ext cx="80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regional de emisiones de GEI por GDP (Gross Domestic Prod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dólares USA por grupos de países en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4640" y="625320"/>
            <a:ext cx="83347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4640" y="625320"/>
            <a:ext cx="83347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1280" y="403200"/>
          <a:ext cx="5040360" cy="35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03200"/>
                    <a:ext cx="50403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34440" y="4141800"/>
            <a:ext cx="567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ión d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ual por PIB en ton CO2/MUS$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50920" y="907920"/>
            <a:ext cx="8642160" cy="5108760"/>
            <a:chOff x="250920" y="907920"/>
            <a:chExt cx="8642160" cy="510876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867280" y="4221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1800" y="1805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36720" y="3916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9840" y="1720800"/>
              <a:ext cx="30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1800" y="2332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65440" y="2421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1800" y="2876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41440" y="2924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1800" y="3411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57440" y="357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1800" y="396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41440" y="1579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254160"/>
            <a:ext cx="7345440" cy="617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90560" y="6318360"/>
            <a:ext cx="6121440" cy="45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920" y="311040"/>
            <a:ext cx="7417080" cy="642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8360" y="0"/>
            <a:ext cx="8316360" cy="6857640"/>
            <a:chOff x="468360" y="0"/>
            <a:chExt cx="8316360" cy="6857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68360" y="70200"/>
              <a:ext cx="8316360" cy="67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761840" y="0"/>
              <a:ext cx="534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Componentes del forzamiento radia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2600" y="777960"/>
            <a:ext cx="857736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911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4792680" cy="659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68840" y="115920"/>
            <a:ext cx="4367160" cy="551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364000" y="5877000"/>
                <a:ext cx="27021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0120" y="270000"/>
            <a:ext cx="886608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rigen del aumento de gases con efecto invernad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CO2: 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Quema de combustible fósil (carbón y petróle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Quema de biomasa (deforest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céanos y continentes han absorbido la mitad de lo emi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CH4: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Quema de combustible fós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Ganado, arrozales y rellenos sani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1" lang="es-ES_tradnl" sz="24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: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Suelo agrícolas e industria quí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Halo C:Algunos controlados por Protocolo de Montreal, p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sucedáneos también son GI y están en a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O3: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Aumenta en troposfera por emisiones de precursores (N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Disminuye en estratósfera por CFC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63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89160" y="1544760"/>
          <a:ext cx="6565680" cy="37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544760"/>
                    <a:ext cx="656568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702160" y="90180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Gases Invernadero: propi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401760"/>
            <a:ext cx="87138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611280" y="65160"/>
            <a:ext cx="8305920" cy="6794280"/>
            <a:chOff x="611280" y="65160"/>
            <a:chExt cx="8305920" cy="67942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611280" y="77760"/>
              <a:ext cx="7978320" cy="63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826720" y="65160"/>
              <a:ext cx="3024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ños antes de 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-993240" y="3590280"/>
              <a:ext cx="39801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nhídrido carbónico 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(pp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96480" y="6491160"/>
              <a:ext cx="34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© IPCC 2007: WG1-AR4 (200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36600" y="627120"/>
            <a:ext cx="66690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53240" cy="463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9720" y="5392800"/>
            <a:ext cx="76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regional per-cápita de emisiones de GEI según pobl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ferentes grupos de países en 2004. (EIT: economies in tras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9:04:25Z</dcterms:created>
  <dc:creator>CENMA Universidad de Chile</dc:creator>
  <dc:description/>
  <dc:language>en-US</dc:language>
  <cp:lastModifiedBy>hfuenzalida</cp:lastModifiedBy>
  <dcterms:modified xsi:type="dcterms:W3CDTF">2009-04-20T19:16:12Z</dcterms:modified>
  <cp:revision>13</cp:revision>
  <dc:subject/>
  <dc:title>Slide 1</dc:title>
</cp:coreProperties>
</file>