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9.wmf" ContentType="image/x-wmf"/>
  <Override PartName="/ppt/media/image1.wmf" ContentType="image/x-wmf"/>
  <Override PartName="/ppt/media/image20.wmf" ContentType="image/x-wmf"/>
  <Override PartName="/ppt/media/image18.wmf" ContentType="image/x-wmf"/>
  <Override PartName="/ppt/media/image3.jpeg" ContentType="image/jpeg"/>
  <Override PartName="/ppt/media/image17.wmf" ContentType="image/x-wmf"/>
  <Override PartName="/ppt/media/image16.png" ContentType="image/png"/>
  <Override PartName="/ppt/media/image15.wmf" ContentType="image/x-wmf"/>
  <Override PartName="/ppt/media/image14.wmf" ContentType="image/x-wmf"/>
  <Override PartName="/ppt/media/image2.wmf" ContentType="image/x-wmf"/>
  <Override PartName="/ppt/media/image5.wmf" ContentType="image/x-wmf"/>
  <Override PartName="/ppt/media/image10.wmf" ContentType="image/x-wmf"/>
  <Override PartName="/ppt/media/image4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969DB-067D-40B8-887D-9087DAA017B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No todo es rosa en el aporte de Ch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0B8E0-3703-4FDF-8614-8166DBE3785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ealim+: SST- CO2disuel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5829-CB26-4046-9CAF-FEB09294D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403B-2912-4E09-BF04-45977498F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1266-81B8-48B0-B8BD-2BEF288C8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DC99-A5D3-46D2-8315-D55F47599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D131-F6EB-4D6B-9D34-6FFD8330C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34CE-9F3C-4142-840E-B8ECCF72F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F3AF-6802-431D-8E2C-0185BE6A6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1DFB-D55E-46B7-B00C-3B766BC7B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C60A-C075-4130-89BF-F8C0B1104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689F-E9DB-4ADB-917D-B7D9E3F4B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60FF-F39E-4ED9-AEB6-B524E02E1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7185-0AC1-4DCB-8192-5A2176B67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943F2-0C2C-4083-803D-FAEBF89E38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066920" y="549360"/>
            <a:ext cx="489564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Gases invernader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concentracione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origen, emisione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vidas media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espectros de absor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Potencial de calenta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Forzamiento radia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79280" y="360360"/>
            <a:ext cx="351792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28560" y="692280"/>
            <a:ext cx="7759800" cy="44560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525600" y="5176800"/>
            <a:ext cx="807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Distribución regional de emisiones de GEI por GDP (Gross Domestic Produc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n dólares USA por grupos de países en 2004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04640" y="625320"/>
            <a:ext cx="8334720" cy="56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04640" y="625320"/>
            <a:ext cx="8334720" cy="56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352440"/>
            <a:ext cx="9144000" cy="61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352440"/>
            <a:ext cx="9144000" cy="61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611280" y="403200"/>
          <a:ext cx="5040360" cy="3530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403200"/>
                    <a:ext cx="5040360" cy="353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"/>
          <p:cNvSpPr/>
          <p:nvPr/>
        </p:nvSpPr>
        <p:spPr>
          <a:xfrm>
            <a:off x="334440" y="4141800"/>
            <a:ext cx="5670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isión de C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ual por PIB en ton CO2/MUS$19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250920" y="907920"/>
            <a:ext cx="8642160" cy="5108760"/>
            <a:chOff x="250920" y="907920"/>
            <a:chExt cx="8642160" cy="5108760"/>
          </a:xfrm>
        </p:grpSpPr>
        <p:pic>
          <p:nvPicPr>
            <p:cNvPr id="79" name="" descr=""/>
            <p:cNvPicPr/>
            <p:nvPr/>
          </p:nvPicPr>
          <p:blipFill>
            <a:blip r:embed="rId1"/>
            <a:stretch/>
          </p:blipFill>
          <p:spPr>
            <a:xfrm>
              <a:off x="250920" y="907920"/>
              <a:ext cx="8642160" cy="510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5867280" y="422100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941800" y="180504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836720" y="391644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9840" y="1720800"/>
              <a:ext cx="3078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1800" y="233208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65440" y="24210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41800" y="28764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341440" y="292428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41800" y="34113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557440" y="35733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41800" y="39639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141440" y="157968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042920" y="254160"/>
            <a:ext cx="7345440" cy="61768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690560" y="6318360"/>
            <a:ext cx="6121440" cy="45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826920" y="311040"/>
            <a:ext cx="7417080" cy="642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"/>
          <p:cNvGrpSpPr/>
          <p:nvPr/>
        </p:nvGrpSpPr>
        <p:grpSpPr>
          <a:xfrm>
            <a:off x="468360" y="0"/>
            <a:ext cx="8316360" cy="6857640"/>
            <a:chOff x="468360" y="0"/>
            <a:chExt cx="8316360" cy="6857640"/>
          </a:xfrm>
        </p:grpSpPr>
        <p:pic>
          <p:nvPicPr>
            <p:cNvPr id="96" name="" descr=""/>
            <p:cNvPicPr/>
            <p:nvPr/>
          </p:nvPicPr>
          <p:blipFill>
            <a:blip r:embed="rId1"/>
            <a:stretch/>
          </p:blipFill>
          <p:spPr>
            <a:xfrm>
              <a:off x="468360" y="70200"/>
              <a:ext cx="8316360" cy="678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1761840" y="0"/>
              <a:ext cx="53424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Times New Roman"/>
                </a:rPr>
                <a:t>Componentes del forzamiento radiativ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82600" y="777960"/>
            <a:ext cx="8577360" cy="53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911840" y="58975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4920" y="0"/>
            <a:ext cx="4792680" cy="65977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668840" y="115920"/>
            <a:ext cx="4367160" cy="55166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5364000" y="5877000"/>
                <a:ext cx="2702160" cy="55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e>
                      <m:sub>
                        <m:r>
                          <m:t xml:space="preserve">λ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λ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ρ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λ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s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50120" y="270000"/>
            <a:ext cx="8866080" cy="63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Origen del aumento de gases con efecto invernader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CO2: 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Quema de combustible fósil (carbón y petróle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Quema de biomasa (deforestació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Océanos y continentes han absorbido la mitad de lo emiti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CH4: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Quema de combustible fósi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Ganado, arrozales y rellenos sanitar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N</a:t>
            </a:r>
            <a:r>
              <a:rPr b="1" lang="es-ES_tradnl" sz="2400" spc="-1" strike="noStrike" baseline="-25000">
                <a:solidFill>
                  <a:srgbClr val="ffcc00"/>
                </a:solidFill>
                <a:latin typeface="Times New Roman"/>
              </a:rPr>
              <a:t>2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O: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Suelo agrícolas e industria quím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Halo C:Algunos controlados por Protocolo de Montreal, p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sucedáneos también son GI y están en aument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O3: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Aumenta en troposfera por emisiones de precursores (NO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Disminuye en estratósfera por CFC</a:t>
            </a:r>
            <a:r>
              <a:rPr b="0" lang="es-ES_tradnl" sz="24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63480" y="568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1289160" y="1544760"/>
          <a:ext cx="6565680" cy="3768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9160" y="1544760"/>
                    <a:ext cx="6565680" cy="376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2702160" y="901800"/>
            <a:ext cx="373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Gases Invernadero: propie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79280" y="401760"/>
            <a:ext cx="8713800" cy="55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611280" y="65160"/>
            <a:ext cx="8305920" cy="6794280"/>
            <a:chOff x="611280" y="65160"/>
            <a:chExt cx="8305920" cy="6794280"/>
          </a:xfrm>
        </p:grpSpPr>
        <p:pic>
          <p:nvPicPr>
            <p:cNvPr id="62" name="" descr=""/>
            <p:cNvPicPr/>
            <p:nvPr/>
          </p:nvPicPr>
          <p:blipFill>
            <a:blip r:embed="rId1"/>
            <a:stretch/>
          </p:blipFill>
          <p:spPr>
            <a:xfrm>
              <a:off x="611280" y="77760"/>
              <a:ext cx="7978320" cy="630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2826720" y="65160"/>
              <a:ext cx="302436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ños antes de 200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rot="16200000">
              <a:off x="-993240" y="3590280"/>
              <a:ext cx="3980160" cy="440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Anhídrido carbónico CO</a:t>
              </a:r>
              <a:r>
                <a:rPr b="1" lang="es-ES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 (ppm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496480" y="6491160"/>
              <a:ext cx="34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c00"/>
                  </a:solidFill>
                  <a:latin typeface="Arial"/>
                </a:rPr>
                <a:t>© IPCC 2007: WG1-AR4 (2007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236600" y="627120"/>
            <a:ext cx="6669000" cy="56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755640" y="549360"/>
            <a:ext cx="7653240" cy="46371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39720" y="5392800"/>
            <a:ext cx="760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Distribución regional per-cápita de emisiones de GEI según población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diferentes grupos de países en 2004. (EIT: economies in trasi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19:04:25Z</dcterms:created>
  <dc:creator>CENMA Universidad de Chile</dc:creator>
  <dc:description/>
  <dc:language>en-US</dc:language>
  <cp:lastModifiedBy>hfuenzalida</cp:lastModifiedBy>
  <dcterms:modified xsi:type="dcterms:W3CDTF">2009-04-20T19:16:12Z</dcterms:modified>
  <cp:revision>13</cp:revision>
  <dc:subject/>
  <dc:title>Slide 1</dc:title>
</cp:coreProperties>
</file>