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13.png" ContentType="image/png"/>
  <Override PartName="/ppt/media/image7.png" ContentType="image/png"/>
  <Override PartName="/ppt/media/image9.png" ContentType="image/png"/>
  <Override PartName="/ppt/media/image10.wmf" ContentType="image/x-wm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5602-93E1-48CA-8C2D-04A80C6AB4A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adiación solar es absorbida en sfc, luego de cruzar la atmósfera. Radiación terrestre también debe cruzar la atmósf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ivel de emisión al espacio en la tropósfera al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f. inv. no es nuevo y muy beneficio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f tiene signo opuesto a d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ariac. Sol: Milankovich, manchas, evolu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alim+: hielo,albedo,Ta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ta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bedo planetario de 0.3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stema terrestre absorbe 238 del sol y emite hacia el espacio 238, la mayor parte emitido por la atmósfera (79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ED8D-B0EA-4A01-A0F4-CC3368766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C8A3-6C78-4D07-9648-4A6AA614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332E-F27C-41AE-B739-63E6A9FFC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D553-A68B-43C6-AB42-673F38B95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B2B7-EB65-4CAE-8246-7651C341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FAF5-46FD-4193-99C7-ADA087B8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C40E-DB84-43C5-BA97-DFAC152E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3AB3-5759-4047-AC4C-92A9EB0D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C8D6-3B8D-4FD5-B090-7D9CD8C2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7A6B-D0C2-4DE7-A214-7C4C12B0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62AC-0373-4E97-B6A6-640313DE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ED9A-7457-4590-ABF5-09EA4F88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5365-F105-41E6-B066-B4E0FC0D31B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2005-1103mars-full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32000" y="62064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Tierra en el espacio y su balance de energ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fecto Invernadero: mecanismo físico, casos de la Tierra, Venus y Ma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istema Climá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108000" y="252360"/>
            <a:ext cx="8962920" cy="6418800"/>
            <a:chOff x="108000" y="252360"/>
            <a:chExt cx="8962920" cy="6418800"/>
          </a:xfrm>
        </p:grpSpPr>
        <p:sp>
          <p:nvSpPr>
            <p:cNvPr id="148" name=""/>
            <p:cNvSpPr/>
            <p:nvPr/>
          </p:nvSpPr>
          <p:spPr>
            <a:xfrm>
              <a:off x="3203640" y="836280"/>
              <a:ext cx="5256000" cy="2592000"/>
            </a:xfrm>
            <a:prstGeom prst="rect">
              <a:avLst/>
            </a:prstGeom>
            <a:gradFill rotWithShape="0">
              <a:gsLst>
                <a:gs pos="0">
                  <a:srgbClr val="d6ecee"/>
                </a:gs>
                <a:gs pos="100000">
                  <a:srgbClr val="626c6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1280" y="4581360"/>
              <a:ext cx="4248000" cy="20156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50000">
                  <a:srgbClr val="bbe0e3"/>
                </a:gs>
                <a:gs pos="100000">
                  <a:srgbClr val="56676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00720" y="4724280"/>
              <a:ext cx="1656000" cy="165672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50000">
                  <a:srgbClr val="99cc00"/>
                </a:gs>
                <a:gs pos="100000">
                  <a:srgbClr val="46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4360" y="2492280"/>
              <a:ext cx="1800000" cy="936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03640" y="162864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43640" y="126828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95640" y="4581360"/>
              <a:ext cx="2663640" cy="934560"/>
            </a:xfrm>
            <a:prstGeom prst="rect">
              <a:avLst/>
            </a:prstGeom>
            <a:gradFill rotWithShape="0">
              <a:gsLst>
                <a:gs pos="0">
                  <a:srgbClr val="699ccf"/>
                </a:gs>
                <a:gs pos="100000">
                  <a:srgbClr val="30475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1280" y="5229000"/>
              <a:ext cx="15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00720" y="5157360"/>
              <a:ext cx="165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98480" y="2622240"/>
              <a:ext cx="161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elo continen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&gt;10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83600" y="980640"/>
              <a:ext cx="122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stratosfe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-500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68320" y="1974600"/>
              <a:ext cx="111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oposfe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-8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3280" y="4640040"/>
              <a:ext cx="126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elo mari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-5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90200" y="4724280"/>
              <a:ext cx="151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pa de mezc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0-200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98560" y="5935320"/>
              <a:ext cx="16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céano profun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500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59280" y="4674960"/>
              <a:ext cx="695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e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-20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99280" y="5574960"/>
              <a:ext cx="1694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gua subterráne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-10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5120" y="1611000"/>
              <a:ext cx="113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Tropopau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5280" y="5211360"/>
              <a:ext cx="99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333399"/>
                  </a:solidFill>
                  <a:latin typeface="Arial"/>
                </a:rPr>
                <a:t>Picnocl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92000" y="5449680"/>
              <a:ext cx="106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333399"/>
                  </a:solidFill>
                  <a:latin typeface="Arial"/>
                </a:rPr>
                <a:t>Termocl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0000" y="639360"/>
              <a:ext cx="22366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9900"/>
                  </a:solidFill>
                  <a:latin typeface="Arial"/>
                </a:rPr>
                <a:t>R radi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9900"/>
                  </a:solidFill>
                  <a:latin typeface="Arial"/>
                </a:rPr>
                <a:t>H calor sensi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9900"/>
                  </a:solidFill>
                  <a:latin typeface="Arial"/>
                </a:rPr>
                <a:t>E evapor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9900"/>
                  </a:solidFill>
                  <a:latin typeface="Arial"/>
                </a:rPr>
                <a:t>M moment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9900"/>
                  </a:solidFill>
                  <a:latin typeface="Arial"/>
                </a:rPr>
                <a:t>P partículas y gas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84360" y="2852640"/>
              <a:ext cx="719280" cy="215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42920" y="3428640"/>
              <a:ext cx="73080" cy="1152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43640" y="3428640"/>
              <a:ext cx="287280" cy="1295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35280" y="3428640"/>
              <a:ext cx="505080" cy="1152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4859280" y="4868640"/>
              <a:ext cx="144144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394920" y="3068280"/>
              <a:ext cx="28908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5280" y="3068280"/>
              <a:ext cx="0" cy="26636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5280" y="5732280"/>
              <a:ext cx="21600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97960" y="980640"/>
              <a:ext cx="113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Tropopau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1692360" y="3428640"/>
              <a:ext cx="1727280" cy="1152000"/>
              <a:chOff x="1692360" y="3428640"/>
              <a:chExt cx="1727280" cy="1152000"/>
            </a:xfrm>
          </p:grpSpPr>
          <p:sp>
            <p:nvSpPr>
              <p:cNvPr id="179" name=""/>
              <p:cNvSpPr/>
              <p:nvPr/>
            </p:nvSpPr>
            <p:spPr>
              <a:xfrm>
                <a:off x="3274920" y="3428640"/>
                <a:ext cx="144720" cy="431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692360" y="4004640"/>
                <a:ext cx="142920" cy="5760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 rot="5400000">
                <a:off x="2484000" y="3068640"/>
                <a:ext cx="144000" cy="1727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2846520" y="644400"/>
              <a:ext cx="452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k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68480" y="14364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81520" y="3213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967120" y="63936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459640" y="69192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459640" y="112356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424720" y="319536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442000" y="2835000"/>
              <a:ext cx="50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hP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85080" y="616572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885080" y="501300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885080" y="458136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58520" y="55148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88000" y="4436640"/>
              <a:ext cx="61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5280" y="443664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788000" y="5284440"/>
              <a:ext cx="61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8000" y="6364080"/>
              <a:ext cx="61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06360" y="573048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5800" y="472428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25080" y="506880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69440" y="3854160"/>
              <a:ext cx="10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REMH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437800" y="3860640"/>
              <a:ext cx="10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REMH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53080" y="393192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REM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547000" y="256500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R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44720" y="3782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86160" y="536544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MH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74560" y="4581360"/>
              <a:ext cx="109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scorrentí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086160" y="126828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6200000">
              <a:off x="-285840" y="4168800"/>
              <a:ext cx="109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scorrentí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23600" y="252360"/>
              <a:ext cx="261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Arial"/>
                </a:rPr>
                <a:t>Sistema Climát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ree"/>
            <p:cNvSpPr/>
            <p:nvPr/>
          </p:nvSpPr>
          <p:spPr>
            <a:xfrm>
              <a:off x="7020000" y="3849480"/>
              <a:ext cx="792000" cy="872640"/>
            </a:xfr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93920" y="4005000"/>
              <a:ext cx="83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os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0 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345280" y="243972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6699"/>
                  </a:solidFill>
                  <a:latin typeface="Arial"/>
                </a:rPr>
                <a:t>Atmósf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45800" y="5798880"/>
              <a:ext cx="97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6699"/>
                  </a:solidFill>
                  <a:latin typeface="Arial"/>
                </a:rPr>
                <a:t>Océa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5040" y="5229000"/>
              <a:ext cx="139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6699"/>
                  </a:solidFill>
                  <a:latin typeface="Arial"/>
                </a:rPr>
                <a:t>Contin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82600" y="777960"/>
            <a:ext cx="8577360" cy="53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50920" y="517680"/>
            <a:ext cx="8569080" cy="58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82560" y="189000"/>
            <a:ext cx="7777080" cy="45403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255680" y="4797360"/>
            <a:ext cx="6556320" cy="3412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926520" y="518004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°C/dec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38600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38600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200px-2005-1103mars-full" descr="Mars from Hubble Space Telescope October 28, 2005 with sandstorm visibl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404640"/>
            <a:ext cx="2087280" cy="208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1116000" y="3284640"/>
          <a:ext cx="6624720" cy="2881080"/>
        </p:xfrm>
        <a:graphic>
          <a:graphicData uri="http://schemas.openxmlformats.org/drawingml/2006/table">
            <a:tbl>
              <a:tblPr/>
              <a:tblGrid>
                <a:gridCol w="720720"/>
                <a:gridCol w="795240"/>
                <a:gridCol w="798480"/>
                <a:gridCol w="797040"/>
                <a:gridCol w="795240"/>
                <a:gridCol w="797040"/>
                <a:gridCol w="984240"/>
                <a:gridCol w="936720"/>
              </a:tblGrid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2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sf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n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00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er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&lt;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24000" y="404640"/>
            <a:ext cx="1947600" cy="2089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336840" y="260280"/>
            <a:ext cx="2387520" cy="244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62920" y="25131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42560" y="24922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2520" y="24922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i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04000" y="3284640"/>
            <a:ext cx="0" cy="28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75600" y="152280"/>
            <a:ext cx="9249480" cy="6838560"/>
            <a:chOff x="75600" y="152280"/>
            <a:chExt cx="9249480" cy="6838560"/>
          </a:xfrm>
        </p:grpSpPr>
        <p:sp>
          <p:nvSpPr>
            <p:cNvPr id="60" name=""/>
            <p:cNvSpPr/>
            <p:nvPr/>
          </p:nvSpPr>
          <p:spPr>
            <a:xfrm>
              <a:off x="1676520" y="1066680"/>
              <a:ext cx="1676160" cy="1676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99"/>
                </a:gs>
              </a:gsLst>
              <a:lin ang="10800000"/>
            </a:gra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600" y="5554800"/>
              <a:ext cx="2829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S = 1370 W/m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a = 0.3 albe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</a:t>
              </a:r>
              <a:r>
                <a:rPr b="0" lang="es-ES_tradnl" sz="2400" spc="-1" strike="noStrike" baseline="30000">
                  <a:solidFill>
                    <a:srgbClr val="ffcc00"/>
                  </a:solidFill>
                  <a:latin typeface="Symbol"/>
                  <a:ea typeface="Symbol"/>
                </a:rPr>
                <a:t>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W/m</a:t>
              </a:r>
              <a:r>
                <a:rPr b="0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94680" y="152280"/>
              <a:ext cx="350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E. absorbida = E. emiti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165640" y="595440"/>
              <a:ext cx="3292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S(1-a)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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r</a:t>
              </a:r>
              <a:r>
                <a:rPr b="1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2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=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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T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e</a:t>
              </a:r>
              <a:r>
                <a:rPr b="1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4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4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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r</a:t>
              </a:r>
              <a:r>
                <a:rPr b="1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538960" y="16765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90920" y="31240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14600" y="1066680"/>
              <a:ext cx="0" cy="167652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1066680" y="456840"/>
              <a:ext cx="2895840" cy="2900880"/>
              <a:chOff x="1066680" y="456840"/>
              <a:chExt cx="2895840" cy="2900880"/>
            </a:xfrm>
          </p:grpSpPr>
          <p:sp>
            <p:nvSpPr>
              <p:cNvPr id="68" name=""/>
              <p:cNvSpPr/>
              <p:nvPr/>
            </p:nvSpPr>
            <p:spPr>
              <a:xfrm>
                <a:off x="3130200" y="2471760"/>
                <a:ext cx="444960" cy="41652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3156840" y="903600"/>
                <a:ext cx="428400" cy="43380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V="1">
                <a:off x="3352680" y="1901880"/>
                <a:ext cx="609840" cy="792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2514600" y="2747880"/>
                <a:ext cx="0" cy="60984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V="1">
                <a:off x="2514600" y="456840"/>
                <a:ext cx="0" cy="60948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1066680" y="1901880"/>
                <a:ext cx="609840" cy="792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1463040" y="2449800"/>
                <a:ext cx="428400" cy="43380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515600" y="892080"/>
                <a:ext cx="444960" cy="41652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1981080" y="751320"/>
              <a:ext cx="1193400" cy="2306160"/>
              <a:chOff x="1981080" y="751320"/>
              <a:chExt cx="1193400" cy="230616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1981080" y="751320"/>
                <a:ext cx="1193400" cy="2306160"/>
                <a:chOff x="1981080" y="751320"/>
                <a:chExt cx="1193400" cy="2306160"/>
              </a:xfrm>
            </p:grpSpPr>
            <p:sp>
              <p:nvSpPr>
                <p:cNvPr id="78" name=""/>
                <p:cNvSpPr/>
                <p:nvPr/>
              </p:nvSpPr>
              <p:spPr>
                <a:xfrm flipH="1">
                  <a:off x="1981080" y="923760"/>
                  <a:ext cx="990720" cy="213372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rot="2036400">
                  <a:off x="2761920" y="838080"/>
                  <a:ext cx="380880" cy="228600"/>
                </a:xfrm>
                <a:prstGeom prst="ellipse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>
                <a:off x="2928960" y="1033560"/>
                <a:ext cx="76320" cy="7596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2895480" y="838080"/>
              <a:ext cx="228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343400" y="1219320"/>
              <a:ext cx="4800600" cy="217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T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e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T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s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EI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Psf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V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-46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477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523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T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-18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15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33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M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-57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-47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10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0.00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71640" y="3716280"/>
              <a:ext cx="7364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S/4(1-a)=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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s</a:t>
              </a:r>
              <a:r>
                <a:rPr b="1" lang="es-ES_tradnl" sz="2400" spc="-1" strike="noStrike" baseline="30000">
                  <a:solidFill>
                    <a:srgbClr val="ffcc00"/>
                  </a:solidFill>
                  <a:latin typeface="Symbol"/>
                  <a:ea typeface="Symbol"/>
                </a:rPr>
                <a:t>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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f</a:t>
              </a:r>
              <a:r>
                <a:rPr b="1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           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f= (T</a:t>
              </a:r>
              <a:r>
                <a:rPr b="0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s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/T</a:t>
              </a:r>
              <a:r>
                <a:rPr b="0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e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)</a:t>
              </a:r>
              <a:r>
                <a:rPr b="0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4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=1.63=(273+15)</a:t>
              </a:r>
              <a:r>
                <a:rPr b="0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4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/(273-18)</a:t>
              </a:r>
              <a:r>
                <a:rPr b="0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4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316400" y="4967280"/>
              <a:ext cx="5008680" cy="20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     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Sol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  Nubos   G.E.Inv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  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Hielo     H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2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CO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  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Aeros     CH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4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N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2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     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CF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826920" y="4365720"/>
                  <a:ext cx="7602840" cy="99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σ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f</m:t>
                      </m:r>
                      <m:r>
                        <m:t xml:space="preserve"> 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S</m:t>
                              </m:r>
                            </m:num>
                            <m:den>
                              <m:r>
                                <m:t xml:space="preserve">S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a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a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num>
                            <m:den>
                              <m:r>
                                <m:t xml:space="preserve">f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86" name=""/>
            <p:cNvSpPr/>
            <p:nvPr/>
          </p:nvSpPr>
          <p:spPr>
            <a:xfrm>
              <a:off x="6461280" y="49942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88" name=""/>
            <p:cNvSpPr/>
            <p:nvPr/>
          </p:nvSpPr>
          <p:spPr>
            <a:xfrm>
              <a:off x="4343400" y="1676520"/>
              <a:ext cx="4572000" cy="16761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29200" y="1676520"/>
              <a:ext cx="0" cy="167616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19920" y="1676520"/>
              <a:ext cx="0" cy="167616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34320" y="1676520"/>
              <a:ext cx="0" cy="167616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848720" y="1676520"/>
              <a:ext cx="0" cy="167616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343400" y="2209680"/>
              <a:ext cx="457200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343400" y="2806560"/>
              <a:ext cx="457200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304920" y="981000"/>
              <a:ext cx="1082160" cy="1990800"/>
              <a:chOff x="304920" y="981000"/>
              <a:chExt cx="1082160" cy="1990800"/>
            </a:xfrm>
          </p:grpSpPr>
          <p:sp>
            <p:nvSpPr>
              <p:cNvPr id="96" name=""/>
              <p:cNvSpPr/>
              <p:nvPr/>
            </p:nvSpPr>
            <p:spPr>
              <a:xfrm>
                <a:off x="304920" y="98100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04920" y="114300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04920" y="129528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04920" y="144792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4920" y="160020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4920" y="175248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4920" y="251460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4920" y="236232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4920" y="220968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4920" y="205740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4920" y="190512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04920" y="297180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4920" y="281952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04920" y="266688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91000" y="2158920"/>
                <a:ext cx="49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cc00"/>
                    </a:solidFill>
                    <a:latin typeface="Times New Roman"/>
                  </a:rPr>
                  <a:t>}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000" y="-30240"/>
            <a:ext cx="9090000" cy="69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19120" y="831960"/>
            <a:ext cx="6581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W/m2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 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Flujo solar incidente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340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Reflejados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102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 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Absorbidos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238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por atmósfera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  85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  36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por superficie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153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  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Emisión de superficie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377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Sale al espacio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  51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 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Absorbido por atmósfera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326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  86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Devuelto al espacio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238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por superficie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  51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 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por atmósfera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187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  79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28840" y="117360"/>
            <a:ext cx="50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Tabla 5: Balance de energía terres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762120"/>
            <a:ext cx="6705720" cy="57150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2362320"/>
            <a:ext cx="67057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3505320"/>
            <a:ext cx="67057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5105520"/>
            <a:ext cx="67057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62520" y="762120"/>
            <a:ext cx="0" cy="571500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05520" y="762120"/>
            <a:ext cx="0" cy="571500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1447920"/>
            <a:ext cx="67057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911840" y="5897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0"/>
            <a:ext cx="9001080" cy="6597720"/>
            <a:chOff x="0" y="0"/>
            <a:chExt cx="9001080" cy="659772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792680" cy="659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4633920" y="115920"/>
              <a:ext cx="4367160" cy="55166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5291280" y="5864400"/>
                  <a:ext cx="2701800" cy="55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</m:e>
                        <m:sub>
                          <m:r>
                            <m:t xml:space="preserve">λ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λ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ρ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λ</m:t>
                          </m:r>
                        </m:sub>
                      </m:sSub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ds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561960"/>
            <a:ext cx="871380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71440" y="0"/>
            <a:ext cx="680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971640" y="28440"/>
            <a:ext cx="7186680" cy="6810120"/>
            <a:chOff x="971640" y="28440"/>
            <a:chExt cx="7186680" cy="681012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971640" y="28440"/>
              <a:ext cx="7186680" cy="654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998640" y="5840280"/>
              <a:ext cx="7116840" cy="99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91160" y="5816520"/>
              <a:ext cx="5301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spectro de absorción de la atmósfera en región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79760" y="5816520"/>
              <a:ext cx="988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laventa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30160" y="5816520"/>
              <a:ext cx="12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92960" y="6055920"/>
              <a:ext cx="6503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 ilustran las principales moléculas absorbentes y el tamaño 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338960" y="6055920"/>
              <a:ext cx="59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lativ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90080" y="6297480"/>
              <a:ext cx="2916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 sus bandas de absorció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77920" y="658440"/>
              <a:ext cx="2349360" cy="35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971640" y="28440"/>
              <a:ext cx="7186680" cy="654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998640" y="5840280"/>
              <a:ext cx="7116840" cy="99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90440" y="5816520"/>
              <a:ext cx="5767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spectro de absorción de la atmósfera en región de la ventana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178680" y="5816520"/>
              <a:ext cx="14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130520" y="581652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84680" y="6055920"/>
              <a:ext cx="555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 ilustran las principales moléculas absorbentes y el tamañ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38960" y="605592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86480" y="6297480"/>
              <a:ext cx="331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vo de sus bandas de absorció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77920" y="658440"/>
              <a:ext cx="2349360" cy="35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20:17:35Z</dcterms:created>
  <dc:creator>CENMA Universidad de Chile</dc:creator>
  <dc:description/>
  <dc:language>en-US</dc:language>
  <cp:lastModifiedBy>CENMA Universidad de Chile</cp:lastModifiedBy>
  <dcterms:modified xsi:type="dcterms:W3CDTF">2008-08-18T13:31:04Z</dcterms:modified>
  <cp:revision>6</cp:revision>
  <dc:subject/>
  <dc:title>Slide 1</dc:title>
</cp:coreProperties>
</file>