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E02F-B9FC-4D16-92C0-76F155D265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diación solar es absorbida en sfc, luego de cruzar la atmósfera. Radiación terrestre también debe cruzar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emisión al espacio en la tropósfera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. inv. no es nuevo y muy benefic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f tiene signo opuesto a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c. Sol: Milankovich, manchas,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hielo,albedo,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t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bedo planetario de 0.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a terrestre absorbe 238 del sol y emite hacia el espacio 238, la mayor parte emitido por la atmósfera (7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F88-CD7B-4671-BFE3-7BD5D43A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C41-B095-4C0E-A782-FF44AB54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2CD-ABF8-4D0F-BE76-B1019B2C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B94-DFA6-4C1B-B8D1-690D37D5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F57-BE2F-4BE0-8E80-51D05FC6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C15-201A-4D81-8ED0-C8607ACF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327-B035-4FE0-9BEA-720FD966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D12-AF65-4849-8D66-3B356C8D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A23-5DEA-4F52-A71D-F67BDF3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D1F-FC69-4C74-A822-6AC185EF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E2B-0970-4F4B-8E9B-4413328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2E0-8F66-4254-A6B8-72175A6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4ED7-CC4A-468C-829C-46D7544005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2005-1103mars-ful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620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Tierra en el espacio y su balanc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fecto Invernadero: mecanismo físico, casos de la Tierra, Venus y M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 Cli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08000" y="252360"/>
            <a:ext cx="8962920" cy="6418800"/>
            <a:chOff x="108000" y="252360"/>
            <a:chExt cx="8962920" cy="6418800"/>
          </a:xfrm>
        </p:grpSpPr>
        <p:sp>
          <p:nvSpPr>
            <p:cNvPr id="148" name=""/>
            <p:cNvSpPr/>
            <p:nvPr/>
          </p:nvSpPr>
          <p:spPr>
            <a:xfrm>
              <a:off x="3203640" y="836280"/>
              <a:ext cx="5256000" cy="259200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626c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280" y="4581360"/>
              <a:ext cx="4248000" cy="2015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00720" y="4724280"/>
              <a:ext cx="1656000" cy="165672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360" y="2492280"/>
              <a:ext cx="1800000" cy="93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3640" y="1628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43640" y="126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95640" y="4581360"/>
              <a:ext cx="2663640" cy="934560"/>
            </a:xfrm>
            <a:prstGeom prst="rect">
              <a:avLst/>
            </a:prstGeom>
            <a:gradFill rotWithShape="0">
              <a:gsLst>
                <a:gs pos="0">
                  <a:srgbClr val="699ccf"/>
                </a:gs>
                <a:gs pos="100000">
                  <a:srgbClr val="30475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280" y="5229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00720" y="51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8480" y="262224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contin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83600" y="980640"/>
              <a:ext cx="122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-5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68320" y="1974600"/>
              <a:ext cx="111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-8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3280" y="464004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mar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5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200" y="4724280"/>
              <a:ext cx="151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 de mezc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-2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8560" y="59353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éano profu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280" y="46749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-2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99280" y="5574960"/>
              <a:ext cx="169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ua subterrá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-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5120" y="161100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5280" y="52113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Picn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2000" y="54496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Term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0000" y="639360"/>
              <a:ext cx="223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R rad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H calor 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E evap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M moment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P partículas y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4360" y="2852640"/>
              <a:ext cx="719280" cy="21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2920" y="3428640"/>
              <a:ext cx="73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3640" y="3428640"/>
              <a:ext cx="2872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5280" y="3428640"/>
              <a:ext cx="505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859280" y="4868640"/>
              <a:ext cx="144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94920" y="3068280"/>
              <a:ext cx="2890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280" y="3068280"/>
              <a:ext cx="0" cy="26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5280" y="5732280"/>
              <a:ext cx="216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7960" y="980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692360" y="3428640"/>
              <a:ext cx="1727280" cy="1152000"/>
              <a:chOff x="1692360" y="3428640"/>
              <a:chExt cx="1727280" cy="115200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4920" y="3428640"/>
                <a:ext cx="144720" cy="431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92360" y="4004640"/>
                <a:ext cx="142920" cy="576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2484000" y="3068640"/>
                <a:ext cx="144000" cy="1727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846520" y="644400"/>
              <a:ext cx="45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68480" y="143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8152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67120" y="639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59640" y="6919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9640" y="11235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24720" y="3195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42000" y="28350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5080" y="61657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5080" y="501300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85080" y="4581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58520" y="5514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44366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280" y="44366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8000" y="52844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8000" y="636408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6360" y="57304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800" y="4724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5080" y="5068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69440" y="385416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800" y="3860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3080" y="39319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7000" y="2565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44720" y="3782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86160" y="53654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4560" y="4581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86160" y="12682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-285840" y="416880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3600" y="25236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istema Clim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ree"/>
            <p:cNvSpPr/>
            <p:nvPr/>
          </p:nvSpPr>
          <p:spPr>
            <a:xfrm>
              <a:off x="7020000" y="3849480"/>
              <a:ext cx="792000" cy="87264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93920" y="4005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s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45280" y="243972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45800" y="57988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Océ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5040" y="5229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Conti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2600" y="777960"/>
            <a:ext cx="85773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517680"/>
            <a:ext cx="856908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2560" y="189000"/>
            <a:ext cx="7777080" cy="4540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255680" y="4797360"/>
            <a:ext cx="6556320" cy="341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26520" y="51800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°C/dec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200px-2005-1103mars-full" descr="Mars from Hubble Space Telescope October 28, 2005 with sandstorm visi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04640"/>
            <a:ext cx="20872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16000" y="3284640"/>
          <a:ext cx="6624720" cy="2881080"/>
        </p:xfrm>
        <a:graphic>
          <a:graphicData uri="http://schemas.openxmlformats.org/drawingml/2006/table">
            <a:tbl>
              <a:tblPr/>
              <a:tblGrid>
                <a:gridCol w="720720"/>
                <a:gridCol w="795240"/>
                <a:gridCol w="798480"/>
                <a:gridCol w="797040"/>
                <a:gridCol w="795240"/>
                <a:gridCol w="797040"/>
                <a:gridCol w="984240"/>
                <a:gridCol w="93672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f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0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947600" cy="208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336840" y="260280"/>
            <a:ext cx="238752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2920" y="2513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42560" y="2492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2520" y="249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3284640"/>
            <a:ext cx="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5600" y="152280"/>
            <a:ext cx="9249480" cy="6838560"/>
            <a:chOff x="75600" y="152280"/>
            <a:chExt cx="9249480" cy="6838560"/>
          </a:xfrm>
        </p:grpSpPr>
        <p:sp>
          <p:nvSpPr>
            <p:cNvPr id="60" name=""/>
            <p:cNvSpPr/>
            <p:nvPr/>
          </p:nvSpPr>
          <p:spPr>
            <a:xfrm>
              <a:off x="1676520" y="10666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600" y="5554800"/>
              <a:ext cx="282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S = 1370 W/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a = 0.3 albe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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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W/m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4680" y="152280"/>
              <a:ext cx="35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. absorbida = E. emi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5640" y="595440"/>
              <a:ext cx="329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(1-a)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38960" y="1676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312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1066680"/>
              <a:ext cx="0" cy="1676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066680" y="456840"/>
              <a:ext cx="2895840" cy="2900880"/>
              <a:chOff x="1066680" y="456840"/>
              <a:chExt cx="2895840" cy="2900880"/>
            </a:xfrm>
          </p:grpSpPr>
          <p:sp>
            <p:nvSpPr>
              <p:cNvPr id="68" name=""/>
              <p:cNvSpPr/>
              <p:nvPr/>
            </p:nvSpPr>
            <p:spPr>
              <a:xfrm>
                <a:off x="3130200" y="247176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156840" y="9036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352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514600" y="2747880"/>
                <a:ext cx="0" cy="6098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514600" y="456840"/>
                <a:ext cx="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066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463040" y="24498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15600" y="89208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981080" y="751320"/>
              <a:ext cx="1193400" cy="2306160"/>
              <a:chOff x="1981080" y="751320"/>
              <a:chExt cx="1193400" cy="23061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981080" y="751320"/>
                <a:ext cx="1193400" cy="2306160"/>
                <a:chOff x="1981080" y="751320"/>
                <a:chExt cx="1193400" cy="2306160"/>
              </a:xfrm>
            </p:grpSpPr>
            <p:sp>
              <p:nvSpPr>
                <p:cNvPr id="78" name=""/>
                <p:cNvSpPr/>
                <p:nvPr/>
              </p:nvSpPr>
              <p:spPr>
                <a:xfrm flipH="1">
                  <a:off x="1981080" y="923760"/>
                  <a:ext cx="990720" cy="213372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2036400">
                  <a:off x="2761920" y="838080"/>
                  <a:ext cx="380880" cy="228600"/>
                </a:xfrm>
                <a:prstGeom prst="ellipse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928960" y="1033560"/>
                <a:ext cx="76320" cy="75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2895480" y="83808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3400" y="1219320"/>
              <a:ext cx="4800600" cy="21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I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Ps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V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6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47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52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18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5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3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M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5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0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0.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71640" y="3716280"/>
              <a:ext cx="736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/4(1-a)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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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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          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f= (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=1.63=(273+15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(273-18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16400" y="4967280"/>
              <a:ext cx="50086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ol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Nubos   G.E.Inv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Hielo     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O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Aeros     C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N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26920" y="4365720"/>
                  <a:ext cx="7602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σ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461280" y="499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4343400" y="1676520"/>
              <a:ext cx="4572000" cy="1676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9200" y="1676520"/>
              <a:ext cx="0" cy="1676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99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7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220968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43400" y="280656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04920" y="981000"/>
              <a:ext cx="1082160" cy="1990800"/>
              <a:chOff x="304920" y="981000"/>
              <a:chExt cx="1082160" cy="1990800"/>
            </a:xfrm>
          </p:grpSpPr>
          <p:sp>
            <p:nvSpPr>
              <p:cNvPr id="96" name=""/>
              <p:cNvSpPr/>
              <p:nvPr/>
            </p:nvSpPr>
            <p:spPr>
              <a:xfrm>
                <a:off x="304920" y="981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1143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920" y="12952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4920" y="14479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4920" y="16002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920" y="17524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920" y="25146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4920" y="23623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4920" y="22096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920" y="20574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4920" y="19051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4920" y="29718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28195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26668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91000" y="215892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cc00"/>
                    </a:solidFill>
                    <a:latin typeface="Times New Roman"/>
                  </a:rPr>
                  <a:t>}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0" y="-30240"/>
            <a:ext cx="9090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9120" y="831960"/>
            <a:ext cx="658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W/m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Flujo solar incident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40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Reflejados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bsorbidos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85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3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53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misión de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77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ale al espacio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51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bsorbido 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26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8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evuelto al espacio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51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87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79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8840" y="11736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Tabla 5: Balance de energí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762120"/>
            <a:ext cx="6705720" cy="5715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3623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35053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1055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762120"/>
            <a:ext cx="0" cy="571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762120"/>
            <a:ext cx="0" cy="571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4479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11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9001080" cy="6597720"/>
            <a:chOff x="0" y="0"/>
            <a:chExt cx="9001080" cy="6597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92680" cy="65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633920" y="115920"/>
              <a:ext cx="4367160" cy="5516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291280" y="5864400"/>
                  <a:ext cx="2701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561960"/>
            <a:ext cx="8713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971640" y="28440"/>
            <a:ext cx="7186680" cy="6810120"/>
            <a:chOff x="971640" y="28440"/>
            <a:chExt cx="7186680" cy="68101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971640" y="28440"/>
              <a:ext cx="71866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998640" y="5840280"/>
              <a:ext cx="711684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91160" y="5816520"/>
              <a:ext cx="530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pectro de absorción de la atmósfera en regió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9760" y="581652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vent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0160" y="581652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92960" y="6055920"/>
              <a:ext cx="650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ilustran las principales moléculas absorbentes y el tamaño 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38960" y="605592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ti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0080" y="6297480"/>
              <a:ext cx="29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sus bandas de absor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7920" y="658440"/>
              <a:ext cx="23493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71640" y="28440"/>
              <a:ext cx="71866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98640" y="5840280"/>
              <a:ext cx="711684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90440" y="5816520"/>
              <a:ext cx="5767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tro de absorción de la atmósfera en región de la ventana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8680" y="5816520"/>
              <a:ext cx="1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30520" y="58165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4680" y="6055920"/>
              <a:ext cx="555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 ilustran las principales moléculas absorbentes y el tam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38960" y="6055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6480" y="6297480"/>
              <a:ext cx="331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vo de sus bandas de absorció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77920" y="658440"/>
              <a:ext cx="23493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20:17:35Z</dcterms:created>
  <dc:creator>CENMA Universidad de Chile</dc:creator>
  <dc:description/>
  <dc:language>en-US</dc:language>
  <cp:lastModifiedBy>CENMA Universidad de Chile</cp:lastModifiedBy>
  <dcterms:modified xsi:type="dcterms:W3CDTF">2008-08-18T13:31:04Z</dcterms:modified>
  <cp:revision>6</cp:revision>
  <dc:subject/>
  <dc:title>Slide 1</dc:title>
</cp:coreProperties>
</file>