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CB1A-9EFE-4120-97F0-416F34CB57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t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bedo planetario de 0.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a terrestre absorbe 238 del sol y emite hacia el espacio 238, la mayor parte emitido por la atmósfera (7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5EA-363B-4CA3-B8AB-666F5082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58A-1777-4DCC-8C49-C250F090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0F3-AFF1-407A-AC8C-B8739D9A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5B6-7F1F-45E1-9BB9-3D73D6CE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DBD-F035-4694-B1D3-CF20DB83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C83-C4C5-463B-83E6-C018BC61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6C1-DE1B-4544-969B-9311C01C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0D7-D76E-4955-BAA5-7B0CED92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56B-09D7-4128-A394-24466C61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2DE-0DC3-48D1-AB36-630F3D2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76A-C840-454F-B9E4-A16DDCB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6F1-C354-405D-B343-4DD2B7D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31B1-F6D1-4DB9-96BA-9E3B218274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2005-1103mars-ful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620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Tierra en el espacio y su balanc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fecto Invernadero: mecanismo físico, casos de la Tierra, Venus y M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 Cli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8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2600" y="777960"/>
            <a:ext cx="85773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517680"/>
            <a:ext cx="856908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2560" y="189000"/>
            <a:ext cx="7777080" cy="4540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255680" y="4797360"/>
            <a:ext cx="6556320" cy="341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26520" y="51800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°C/dec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00px-2005-1103mars-full" descr="Mars from Hubble Space Telescope October 28, 2005 with sandstorm visi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04640"/>
            <a:ext cx="20872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16000" y="3284640"/>
          <a:ext cx="6624720" cy="2881080"/>
        </p:xfrm>
        <a:graphic>
          <a:graphicData uri="http://schemas.openxmlformats.org/drawingml/2006/table">
            <a:tbl>
              <a:tblPr/>
              <a:tblGrid>
                <a:gridCol w="720720"/>
                <a:gridCol w="795240"/>
                <a:gridCol w="798480"/>
                <a:gridCol w="797040"/>
                <a:gridCol w="795240"/>
                <a:gridCol w="797040"/>
                <a:gridCol w="984240"/>
                <a:gridCol w="93672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f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947600" cy="208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336840" y="260280"/>
            <a:ext cx="238752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2920" y="2513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42560" y="2492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2520" y="249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3284640"/>
            <a:ext cx="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60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68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78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96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0" y="-30240"/>
            <a:ext cx="9090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9120" y="83196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W/m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Flujo solar incident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40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Refleja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5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53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misión de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7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ale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 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26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evuelto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8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79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8840" y="11736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Tabla 5: Balance de energí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762120"/>
            <a:ext cx="6705720" cy="57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362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3505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1055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4479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11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001080" cy="6597720"/>
            <a:chOff x="0" y="0"/>
            <a:chExt cx="9001080" cy="6597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2680" cy="65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633920" y="115920"/>
              <a:ext cx="4367160" cy="5516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291280" y="5864400"/>
                  <a:ext cx="2701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561960"/>
            <a:ext cx="8713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971640" y="28440"/>
            <a:ext cx="7186680" cy="6810120"/>
            <a:chOff x="971640" y="28440"/>
            <a:chExt cx="7186680" cy="68101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91160" y="5816520"/>
              <a:ext cx="53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9760" y="581652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vent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0160" y="581652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92960" y="6055920"/>
              <a:ext cx="650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8960" y="605592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ti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0080" y="6297480"/>
              <a:ext cx="29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sus bandas de absor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0440" y="5816520"/>
              <a:ext cx="576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la ventan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8680" y="5816520"/>
              <a:ext cx="1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0520" y="58165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4680" y="6055920"/>
              <a:ext cx="555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8960" y="6055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6480" y="6297480"/>
              <a:ext cx="331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vo de sus bandas de absorció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20:17:35Z</dcterms:created>
  <dc:creator>CENMA Universidad de Chile</dc:creator>
  <dc:description/>
  <dc:language>en-US</dc:language>
  <cp:lastModifiedBy>CENMA Universidad de Chile</cp:lastModifiedBy>
  <dcterms:modified xsi:type="dcterms:W3CDTF">2008-08-18T13:31:04Z</dcterms:modified>
  <cp:revision>6</cp:revision>
  <dc:subject/>
  <dc:title>Slide 1</dc:title>
</cp:coreProperties>
</file>