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png" ContentType="image/png"/>
  <Override PartName="/ppt/media/image9.png" ContentType="image/png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D0F8-3833-4C03-ADD1-AC1E3F08E8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diación solar es absorbida en sfc, luego de cruzar la atmósfera. Radiación terrestre también debe cruzar la atmósf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de emisión al espacio en la tropósfera a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. inv. no es nuevo y muy benefici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f tiene signo opuesto a d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riac. Sol: Milankovich, manchas, evol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im+: hielo,albedo,T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ta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bedo planetario de 0.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stema terrestre absorbe 238 del sol y emite hacia el espacio 238, la mayor parte emitido por la atmósfera (79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CF7A-FB06-4C34-A97D-33AF149E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1A4B-4641-4FEB-83E7-0CEBA10D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945D-049D-4DDA-B1E3-7F58292F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B9B6-CAF4-4AA7-9DD5-20C1E8D8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0FEA-E391-4D08-A527-4371CA3E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A6A-B342-4FD3-A7DF-AB7AAD78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320-ABB0-4682-ACBE-18742D23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664F-943C-43E7-B030-8C63977C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F4C-C9DA-48E1-8542-40B5C7F7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CDBF-3A0D-40B8-9AF9-F827D264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0C87-4EC9-44C6-953A-8D219326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0D4-6DDF-45C5-8CB0-31AF8C0D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707D-3EB9-4AA3-97CF-552396AC3C5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2005-1103mars-full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32000" y="620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Tierra en el espacio y su balance de ener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fecto Invernadero: mecanismo físico, casos de la Tierra, Venus y M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stema Clim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108000" y="252360"/>
            <a:ext cx="8962920" cy="6418800"/>
            <a:chOff x="108000" y="252360"/>
            <a:chExt cx="8962920" cy="6418800"/>
          </a:xfrm>
        </p:grpSpPr>
        <p:sp>
          <p:nvSpPr>
            <p:cNvPr id="148" name=""/>
            <p:cNvSpPr/>
            <p:nvPr/>
          </p:nvSpPr>
          <p:spPr>
            <a:xfrm>
              <a:off x="3203640" y="836280"/>
              <a:ext cx="5256000" cy="2592000"/>
            </a:xfrm>
            <a:prstGeom prst="rect">
              <a:avLst/>
            </a:prstGeom>
            <a:gradFill rotWithShape="0">
              <a:gsLst>
                <a:gs pos="0">
                  <a:srgbClr val="d6ecee"/>
                </a:gs>
                <a:gs pos="100000">
                  <a:srgbClr val="626c6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1280" y="4581360"/>
              <a:ext cx="4248000" cy="2015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5000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00720" y="4724280"/>
              <a:ext cx="1656000" cy="165672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4360" y="2492280"/>
              <a:ext cx="1800000" cy="93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03640" y="1628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43640" y="126828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95640" y="4581360"/>
              <a:ext cx="2663640" cy="934560"/>
            </a:xfrm>
            <a:prstGeom prst="rect">
              <a:avLst/>
            </a:prstGeom>
            <a:gradFill rotWithShape="0">
              <a:gsLst>
                <a:gs pos="0">
                  <a:srgbClr val="699ccf"/>
                </a:gs>
                <a:gs pos="100000">
                  <a:srgbClr val="30475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1280" y="522900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00720" y="515736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98480" y="2622240"/>
              <a:ext cx="161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elo contin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gt;10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83600" y="980640"/>
              <a:ext cx="122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tratosf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-50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68320" y="1974600"/>
              <a:ext cx="111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oposf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-8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3280" y="4640040"/>
              <a:ext cx="126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elo mari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-5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200" y="4724280"/>
              <a:ext cx="151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pa de mezc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-20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98560" y="5935320"/>
              <a:ext cx="16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céano profun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0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280" y="4674960"/>
              <a:ext cx="695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e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-2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99280" y="5574960"/>
              <a:ext cx="1694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ua subterrán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-10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5120" y="1611000"/>
              <a:ext cx="11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Tropopau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5280" y="521136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333399"/>
                  </a:solidFill>
                  <a:latin typeface="Arial"/>
                </a:rPr>
                <a:t>Picnoc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92000" y="54496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333399"/>
                  </a:solidFill>
                  <a:latin typeface="Arial"/>
                </a:rPr>
                <a:t>Termoc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0000" y="639360"/>
              <a:ext cx="2236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R radi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H calor sen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E evapo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M moment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P partículas y ga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84360" y="2852640"/>
              <a:ext cx="719280" cy="21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42920" y="3428640"/>
              <a:ext cx="73080" cy="1152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43640" y="3428640"/>
              <a:ext cx="287280" cy="129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35280" y="3428640"/>
              <a:ext cx="505080" cy="1152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859280" y="4868640"/>
              <a:ext cx="1441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94920" y="3068280"/>
              <a:ext cx="28908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5280" y="3068280"/>
              <a:ext cx="0" cy="2663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5280" y="5732280"/>
              <a:ext cx="21600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97960" y="980640"/>
              <a:ext cx="11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Tropopau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692360" y="3428640"/>
              <a:ext cx="1727280" cy="1152000"/>
              <a:chOff x="1692360" y="3428640"/>
              <a:chExt cx="1727280" cy="1152000"/>
            </a:xfrm>
          </p:grpSpPr>
          <p:sp>
            <p:nvSpPr>
              <p:cNvPr id="179" name=""/>
              <p:cNvSpPr/>
              <p:nvPr/>
            </p:nvSpPr>
            <p:spPr>
              <a:xfrm>
                <a:off x="3274920" y="3428640"/>
                <a:ext cx="144720" cy="431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692360" y="4004640"/>
                <a:ext cx="142920" cy="5760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rot="5400000">
                <a:off x="2484000" y="3068640"/>
                <a:ext cx="144000" cy="1727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846520" y="644400"/>
              <a:ext cx="452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k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68480" y="14364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81520" y="3213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67120" y="63936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59640" y="69192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59640" y="11235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424720" y="31953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42000" y="283500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hP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85080" y="616572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85080" y="501300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85080" y="45813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58520" y="55148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88000" y="443664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5280" y="443664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88000" y="528444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8000" y="636408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06360" y="573048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5800" y="47242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5080" y="50688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69440" y="385416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37800" y="386064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53080" y="393192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47000" y="256500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44720" y="3782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86160" y="53654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74560" y="458136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scorrent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86160" y="12682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-285840" y="416880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scorrent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23600" y="252360"/>
              <a:ext cx="26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Sistema Climá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ree"/>
            <p:cNvSpPr/>
            <p:nvPr/>
          </p:nvSpPr>
          <p:spPr>
            <a:xfrm>
              <a:off x="7020000" y="3849480"/>
              <a:ext cx="792000" cy="87264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93920" y="4005000"/>
              <a:ext cx="83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s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45280" y="243972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Atmósf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45800" y="579888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Océ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5040" y="522900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Contin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82600" y="777960"/>
            <a:ext cx="857736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517680"/>
            <a:ext cx="856908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82560" y="189000"/>
            <a:ext cx="7777080" cy="45403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255680" y="4797360"/>
            <a:ext cx="6556320" cy="3412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26520" y="518004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°C/dec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3860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3860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200px-2005-1103mars-full" descr="Mars from Hubble Space Telescope October 28, 2005 with sandstorm visi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404640"/>
            <a:ext cx="2087280" cy="20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116000" y="3284640"/>
          <a:ext cx="6624720" cy="2881080"/>
        </p:xfrm>
        <a:graphic>
          <a:graphicData uri="http://schemas.openxmlformats.org/drawingml/2006/table">
            <a:tbl>
              <a:tblPr/>
              <a:tblGrid>
                <a:gridCol w="720720"/>
                <a:gridCol w="795240"/>
                <a:gridCol w="798480"/>
                <a:gridCol w="797040"/>
                <a:gridCol w="795240"/>
                <a:gridCol w="797040"/>
                <a:gridCol w="984240"/>
                <a:gridCol w="936720"/>
              </a:tblGrid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2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sf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00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r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&lt;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1947600" cy="2089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336840" y="260280"/>
            <a:ext cx="2387520" cy="244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62920" y="25131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42560" y="2492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2520" y="2492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04000" y="3284640"/>
            <a:ext cx="0" cy="28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75600" y="152280"/>
            <a:ext cx="9249480" cy="6838560"/>
            <a:chOff x="75600" y="152280"/>
            <a:chExt cx="9249480" cy="6838560"/>
          </a:xfrm>
        </p:grpSpPr>
        <p:sp>
          <p:nvSpPr>
            <p:cNvPr id="60" name=""/>
            <p:cNvSpPr/>
            <p:nvPr/>
          </p:nvSpPr>
          <p:spPr>
            <a:xfrm>
              <a:off x="1676520" y="1066680"/>
              <a:ext cx="1676160" cy="1676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600" y="5554800"/>
              <a:ext cx="282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S = 1370 W/m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a = 0.3 albe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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Symbol"/>
                  <a:ea typeface="Symbol"/>
                </a:rPr>
                <a:t>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W/m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94680" y="152280"/>
              <a:ext cx="350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E. absorbida = E. emit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65640" y="595440"/>
              <a:ext cx="3292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(1-a)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r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=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r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38960" y="16765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90920" y="3124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14600" y="1066680"/>
              <a:ext cx="0" cy="16765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066680" y="456840"/>
              <a:ext cx="2895840" cy="2900880"/>
              <a:chOff x="1066680" y="456840"/>
              <a:chExt cx="2895840" cy="2900880"/>
            </a:xfrm>
          </p:grpSpPr>
          <p:sp>
            <p:nvSpPr>
              <p:cNvPr id="68" name=""/>
              <p:cNvSpPr/>
              <p:nvPr/>
            </p:nvSpPr>
            <p:spPr>
              <a:xfrm>
                <a:off x="3130200" y="2471760"/>
                <a:ext cx="444960" cy="4165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3156840" y="903600"/>
                <a:ext cx="428400" cy="4338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3352680" y="1901880"/>
                <a:ext cx="609840" cy="79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2514600" y="2747880"/>
                <a:ext cx="0" cy="60984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2514600" y="456840"/>
                <a:ext cx="0" cy="60948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1066680" y="1901880"/>
                <a:ext cx="609840" cy="79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1463040" y="2449800"/>
                <a:ext cx="428400" cy="4338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515600" y="892080"/>
                <a:ext cx="444960" cy="4165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1981080" y="751320"/>
              <a:ext cx="1193400" cy="2306160"/>
              <a:chOff x="1981080" y="751320"/>
              <a:chExt cx="1193400" cy="230616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1981080" y="751320"/>
                <a:ext cx="1193400" cy="2306160"/>
                <a:chOff x="1981080" y="751320"/>
                <a:chExt cx="1193400" cy="2306160"/>
              </a:xfrm>
            </p:grpSpPr>
            <p:sp>
              <p:nvSpPr>
                <p:cNvPr id="78" name=""/>
                <p:cNvSpPr/>
                <p:nvPr/>
              </p:nvSpPr>
              <p:spPr>
                <a:xfrm flipH="1">
                  <a:off x="1981080" y="923760"/>
                  <a:ext cx="990720" cy="213372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rot="2036400">
                  <a:off x="2761920" y="838080"/>
                  <a:ext cx="380880" cy="228600"/>
                </a:xfrm>
                <a:prstGeom prst="ellipse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2928960" y="1033560"/>
                <a:ext cx="76320" cy="7596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2895480" y="83808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43400" y="1219320"/>
              <a:ext cx="4800600" cy="21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EI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Psf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V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46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47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523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18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5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33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M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5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4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0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0.0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71640" y="3716280"/>
              <a:ext cx="736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/4(1-a)=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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Symbol"/>
                  <a:ea typeface="Symbol"/>
                </a:rPr>
                <a:t>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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           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f= (T</a:t>
              </a:r>
              <a:r>
                <a:rPr b="0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/T</a:t>
              </a:r>
              <a:r>
                <a:rPr b="0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=1.63=(273+15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/(273-18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16400" y="4967280"/>
              <a:ext cx="5008680" cy="20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ol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Nubos   G.E.Inv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Hielo     H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CO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Aeros     CH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N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CF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826920" y="4365720"/>
                  <a:ext cx="7602840" cy="99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σ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f</m:t>
                      </m:r>
                      <m:r>
                        <m:t xml:space="preserve"> 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S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a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num>
                            <m:den>
                              <m:r>
                                <m:t xml:space="preserve">f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6461280" y="4994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4343400" y="1676520"/>
              <a:ext cx="4572000" cy="1676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29200" y="1676520"/>
              <a:ext cx="0" cy="16761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199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43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487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3400" y="2209680"/>
              <a:ext cx="4572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43400" y="2806560"/>
              <a:ext cx="4572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04920" y="981000"/>
              <a:ext cx="1082160" cy="1990800"/>
              <a:chOff x="304920" y="981000"/>
              <a:chExt cx="1082160" cy="1990800"/>
            </a:xfrm>
          </p:grpSpPr>
          <p:sp>
            <p:nvSpPr>
              <p:cNvPr id="96" name=""/>
              <p:cNvSpPr/>
              <p:nvPr/>
            </p:nvSpPr>
            <p:spPr>
              <a:xfrm>
                <a:off x="304920" y="9810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04920" y="11430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04920" y="12952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04920" y="14479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4920" y="16002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4920" y="17524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4920" y="25146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4920" y="23623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4920" y="22096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4920" y="20574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4920" y="19051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4920" y="29718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4920" y="28195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04920" y="26668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91000" y="2158920"/>
                <a:ext cx="49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cc00"/>
                    </a:solidFill>
                    <a:latin typeface="Times New Roman"/>
                  </a:rPr>
                  <a:t>}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0" y="-30240"/>
            <a:ext cx="909000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19120" y="831960"/>
            <a:ext cx="6581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W/m2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Flujo solar incidente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340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Reflejados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02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Absorbidos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238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por atmósfera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85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36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por superficie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53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Emisión de superficie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377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Sale al espacio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51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Absorbido por atmósfera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326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86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Devuelto al espacio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238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por superficie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51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por atmósfera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187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79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28840" y="117360"/>
            <a:ext cx="50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Tabla 5: Balance de energía terr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762120"/>
            <a:ext cx="6705720" cy="5715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362320"/>
            <a:ext cx="6705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3505320"/>
            <a:ext cx="6705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5105520"/>
            <a:ext cx="6705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762120"/>
            <a:ext cx="0" cy="57150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762120"/>
            <a:ext cx="0" cy="57150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447920"/>
            <a:ext cx="67057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911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0"/>
            <a:ext cx="9001080" cy="6597720"/>
            <a:chOff x="0" y="0"/>
            <a:chExt cx="9001080" cy="65977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792680" cy="65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4633920" y="115920"/>
              <a:ext cx="4367160" cy="55166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5291280" y="5864400"/>
                  <a:ext cx="270180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s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561960"/>
            <a:ext cx="87138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71440" y="0"/>
            <a:ext cx="680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971640" y="28440"/>
            <a:ext cx="7186680" cy="6810120"/>
            <a:chOff x="971640" y="28440"/>
            <a:chExt cx="7186680" cy="681012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971640" y="28440"/>
              <a:ext cx="718668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998640" y="5840280"/>
              <a:ext cx="7116840" cy="9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91160" y="5816520"/>
              <a:ext cx="5301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spectro de absorción de la atmósfera en región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79760" y="5816520"/>
              <a:ext cx="98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avent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30160" y="5816520"/>
              <a:ext cx="12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92960" y="6055920"/>
              <a:ext cx="650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 ilustran las principales moléculas absorbentes y el tamaño 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38960" y="6055920"/>
              <a:ext cx="59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ativ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0080" y="6297480"/>
              <a:ext cx="291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 sus bandas de absorci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77920" y="658440"/>
              <a:ext cx="234936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971640" y="28440"/>
              <a:ext cx="718668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998640" y="5840280"/>
              <a:ext cx="7116840" cy="9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90440" y="5816520"/>
              <a:ext cx="5767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ectro de absorción de la atmósfera en región de la ventana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78680" y="5816520"/>
              <a:ext cx="14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30520" y="58165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84680" y="6055920"/>
              <a:ext cx="555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 ilustran las principales moléculas absorbentes y el tamañ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38960" y="605592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86480" y="6297480"/>
              <a:ext cx="331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vo de sus bandas de absorció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77920" y="658440"/>
              <a:ext cx="234936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20:17:35Z</dcterms:created>
  <dc:creator>CENMA Universidad de Chile</dc:creator>
  <dc:description/>
  <dc:language>en-US</dc:language>
  <cp:lastModifiedBy>CENMA Universidad de Chile</cp:lastModifiedBy>
  <dcterms:modified xsi:type="dcterms:W3CDTF">2008-08-18T13:31:04Z</dcterms:modified>
  <cp:revision>6</cp:revision>
  <dc:subject/>
  <dc:title>Slide 1</dc:title>
</cp:coreProperties>
</file>