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F7D2-1920-48FF-AE9C-7FA0277277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diación solar es absorbida en sfc, luego de cruzar la atmósfera. Radiación terrestre también debe cruzar la atmó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emisión al espacio en la tropósfera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. inv. no es nuevo y muy benefic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f tiene signo opuesto a 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c. Sol: Milankovich, manchas, ev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m+: hielo,albedo,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248-BA88-4D12-ADDE-5C005C0C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6C6-26F5-4EE8-B8EE-54365CB9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D43-CE80-4744-90A8-9DAFACB7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FD7-7E42-44B3-ADEA-2ED967B9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976-85B6-419D-B2C9-EA759361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BC8-BA0C-4E42-BA29-230047A6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16D-F183-4AEA-8657-72B81180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382-D797-4EB7-BF33-9C8C0E3B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1E9-9976-4F7A-AF7D-FCF34D4E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853-130A-4C97-86D6-B6CDB756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2CD-0289-4138-93E4-914BAB03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871-51AB-461A-B8DF-CF5776D4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BF7D-8BC6-48EA-8CEE-3B9D2AFFAB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adiación solar y terr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yes de la 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60040" y="3470400"/>
            <a:ext cx="7457040" cy="2837160"/>
            <a:chOff x="860040" y="3470400"/>
            <a:chExt cx="7457040" cy="2837160"/>
          </a:xfrm>
        </p:grpSpPr>
        <p:sp>
          <p:nvSpPr>
            <p:cNvPr id="50" name=""/>
            <p:cNvSpPr/>
            <p:nvPr/>
          </p:nvSpPr>
          <p:spPr>
            <a:xfrm>
              <a:off x="860040" y="3470400"/>
              <a:ext cx="2680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ey de Wien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ey de Stefan-Boltzma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2317680" y="3684600"/>
                  <a:ext cx="283860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97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μ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678040" y="5726160"/>
                  <a:ext cx="563904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σT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sup>
                      </m:sSup>
                      <m:r>
                        <m:t xml:space="preserve"> 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w</m:t>
                          </m:r>
                        </m:num>
                        <m:den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" name=""/>
          <p:cNvSpPr/>
          <p:nvPr/>
        </p:nvSpPr>
        <p:spPr>
          <a:xfrm>
            <a:off x="900000" y="278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cuerpos  neg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71440" y="0"/>
            <a:ext cx="68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5600" y="152280"/>
            <a:ext cx="9249480" cy="6838560"/>
            <a:chOff x="75600" y="152280"/>
            <a:chExt cx="9249480" cy="6838560"/>
          </a:xfrm>
        </p:grpSpPr>
        <p:sp>
          <p:nvSpPr>
            <p:cNvPr id="71" name=""/>
            <p:cNvSpPr/>
            <p:nvPr/>
          </p:nvSpPr>
          <p:spPr>
            <a:xfrm>
              <a:off x="1676520" y="1066680"/>
              <a:ext cx="1676160" cy="1676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600" y="5554800"/>
              <a:ext cx="282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S = 1370 W/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a = 0.3 albe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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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W/m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94680" y="152280"/>
              <a:ext cx="350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. absorbida = E. emit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65640" y="595440"/>
              <a:ext cx="329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(1-a)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38960" y="16765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0920" y="312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1066680"/>
              <a:ext cx="0" cy="1676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066680" y="456840"/>
              <a:ext cx="2895840" cy="2900880"/>
              <a:chOff x="1066680" y="456840"/>
              <a:chExt cx="2895840" cy="2900880"/>
            </a:xfrm>
          </p:grpSpPr>
          <p:sp>
            <p:nvSpPr>
              <p:cNvPr id="79" name=""/>
              <p:cNvSpPr/>
              <p:nvPr/>
            </p:nvSpPr>
            <p:spPr>
              <a:xfrm>
                <a:off x="3130200" y="247176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156840" y="9036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352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2514600" y="2747880"/>
                <a:ext cx="0" cy="6098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514600" y="456840"/>
                <a:ext cx="0" cy="6094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1066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1463040" y="24498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15600" y="89208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981080" y="751320"/>
              <a:ext cx="1193400" cy="2306160"/>
              <a:chOff x="1981080" y="751320"/>
              <a:chExt cx="1193400" cy="23061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1981080" y="751320"/>
                <a:ext cx="1193400" cy="2306160"/>
                <a:chOff x="1981080" y="751320"/>
                <a:chExt cx="1193400" cy="230616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1981080" y="923760"/>
                  <a:ext cx="990720" cy="213372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2036400">
                  <a:off x="2761920" y="838080"/>
                  <a:ext cx="380880" cy="228600"/>
                </a:xfrm>
                <a:prstGeom prst="ellipse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2928960" y="1033560"/>
                <a:ext cx="76320" cy="759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895480" y="83808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1219320"/>
              <a:ext cx="4800600" cy="21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I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Ps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V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6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47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52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18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5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3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M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5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0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0.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1640" y="3716280"/>
              <a:ext cx="736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/4(1-a)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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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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          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f= (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=1.63=(273+15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(273-18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16400" y="4967280"/>
              <a:ext cx="5008680" cy="20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ol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Nubos   G.E.Inv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Hielo     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O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Aeros     C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N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826920" y="4365720"/>
                  <a:ext cx="7602840" cy="99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σ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6461280" y="4994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4343400" y="1676520"/>
              <a:ext cx="4572000" cy="1676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1676520"/>
              <a:ext cx="0" cy="1676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199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343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487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43400" y="220968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280656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04920" y="981000"/>
              <a:ext cx="1082160" cy="1990800"/>
              <a:chOff x="304920" y="981000"/>
              <a:chExt cx="1082160" cy="1990800"/>
            </a:xfrm>
          </p:grpSpPr>
          <p:sp>
            <p:nvSpPr>
              <p:cNvPr id="107" name=""/>
              <p:cNvSpPr/>
              <p:nvPr/>
            </p:nvSpPr>
            <p:spPr>
              <a:xfrm>
                <a:off x="304920" y="981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4920" y="1143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920" y="12952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4920" y="14479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4920" y="16002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4920" y="17524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4920" y="25146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4920" y="23623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4920" y="22096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920" y="20574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920" y="19051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4920" y="29718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920" y="28195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4920" y="26668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000" y="215892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cc00"/>
                    </a:solidFill>
                    <a:latin typeface="Times New Roman"/>
                  </a:rPr>
                  <a:t>}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912200">
            <a:off x="3124080" y="2057040"/>
            <a:ext cx="9144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752480" y="2133720"/>
            <a:ext cx="14479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752480" y="2590920"/>
            <a:ext cx="22100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52480" y="1294920"/>
            <a:ext cx="2590920" cy="3581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52480" y="11430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4876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4560" y="487692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876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560" y="838080"/>
            <a:ext cx="33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5000" y="5791320"/>
            <a:ext cx="2507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00"/>
                </a:solidFill>
                <a:latin typeface="Times New Roman"/>
              </a:rPr>
              <a:t>Plano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7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960" y="5562720"/>
            <a:ext cx="43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840" y="3692520"/>
            <a:ext cx="36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67520" y="228600"/>
            <a:ext cx="6477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= se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89680" y="131292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81280" y="1295280"/>
            <a:ext cx="7621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352680" y="48769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638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99880" y="2077920"/>
            <a:ext cx="313848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h=15(HL-8)-</a:t>
            </a: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º in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: longitud 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: latitud 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: declinación sol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(depende de fech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2960" y="4589640"/>
            <a:ext cx="35013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Angulo sólido d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=dS/r</a:t>
            </a:r>
            <a:r>
              <a:rPr b="0" lang="es-ES_tradnl" sz="27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(str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Radianza: (W/m2/str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Irradianza: (W/m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2084400"/>
            <a:ext cx="546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227400"/>
            <a:ext cx="298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8000" y="252360"/>
            <a:ext cx="8962920" cy="6418800"/>
            <a:chOff x="108000" y="252360"/>
            <a:chExt cx="8962920" cy="6418800"/>
          </a:xfrm>
        </p:grpSpPr>
        <p:sp>
          <p:nvSpPr>
            <p:cNvPr id="145" name=""/>
            <p:cNvSpPr/>
            <p:nvPr/>
          </p:nvSpPr>
          <p:spPr>
            <a:xfrm>
              <a:off x="3203640" y="836280"/>
              <a:ext cx="5256000" cy="2592000"/>
            </a:xfrm>
            <a:prstGeom prst="rect">
              <a:avLst/>
            </a:prstGeom>
            <a:gradFill rotWithShape="0">
              <a:gsLst>
                <a:gs pos="0">
                  <a:srgbClr val="d6ecee"/>
                </a:gs>
                <a:gs pos="100000">
                  <a:srgbClr val="626c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1280" y="4581360"/>
              <a:ext cx="4248000" cy="2015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00720" y="4724280"/>
              <a:ext cx="1656000" cy="165672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360" y="2492280"/>
              <a:ext cx="1800000" cy="93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3640" y="1628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43640" y="1268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95640" y="4581360"/>
              <a:ext cx="2663640" cy="934560"/>
            </a:xfrm>
            <a:prstGeom prst="rect">
              <a:avLst/>
            </a:prstGeom>
            <a:gradFill rotWithShape="0">
              <a:gsLst>
                <a:gs pos="0">
                  <a:srgbClr val="699ccf"/>
                </a:gs>
                <a:gs pos="100000">
                  <a:srgbClr val="30475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1280" y="522900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00720" y="515736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8480" y="262224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contin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gt;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3600" y="980640"/>
              <a:ext cx="122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at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-5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8320" y="1974600"/>
              <a:ext cx="111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p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-8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3280" y="4640040"/>
              <a:ext cx="126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mar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-5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90200" y="4724280"/>
              <a:ext cx="151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a de mezc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-2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8560" y="59353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éano profun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280" y="467496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-2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99280" y="5574960"/>
              <a:ext cx="169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ua subterrá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-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5120" y="161100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5280" y="52113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Picn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92000" y="54496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Term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0000" y="639360"/>
              <a:ext cx="223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R radi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H calor sen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E evap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M moment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P partículas y g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4360" y="2852640"/>
              <a:ext cx="719280" cy="21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2920" y="3428640"/>
              <a:ext cx="73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3640" y="3428640"/>
              <a:ext cx="28728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5280" y="3428640"/>
              <a:ext cx="505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859280" y="4868640"/>
              <a:ext cx="1441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94920" y="3068280"/>
              <a:ext cx="2890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5280" y="3068280"/>
              <a:ext cx="0" cy="26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80" y="5732280"/>
              <a:ext cx="216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97960" y="98064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692360" y="3428640"/>
              <a:ext cx="1727280" cy="1152000"/>
              <a:chOff x="1692360" y="3428640"/>
              <a:chExt cx="1727280" cy="1152000"/>
            </a:xfrm>
          </p:grpSpPr>
          <p:sp>
            <p:nvSpPr>
              <p:cNvPr id="176" name=""/>
              <p:cNvSpPr/>
              <p:nvPr/>
            </p:nvSpPr>
            <p:spPr>
              <a:xfrm>
                <a:off x="3274920" y="3428640"/>
                <a:ext cx="144720" cy="431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692360" y="4004640"/>
                <a:ext cx="142920" cy="576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5400000">
                <a:off x="2484000" y="3068640"/>
                <a:ext cx="144000" cy="1727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846520" y="644400"/>
              <a:ext cx="45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8480" y="1436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1520" y="321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67120" y="6393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59640" y="6919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59640" y="11235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3195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42000" y="28350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85080" y="61657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85080" y="501300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85080" y="4581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520" y="5514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44366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5280" y="443664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88000" y="52844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636408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06360" y="57304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5800" y="4724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080" y="50688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69440" y="385416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37800" y="386064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3080" y="39319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47000" y="256500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44720" y="3782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6160" y="53654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4560" y="45813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6160" y="12682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-285840" y="416880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23600" y="252360"/>
              <a:ext cx="26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Sistema Climá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ree"/>
            <p:cNvSpPr/>
            <p:nvPr/>
          </p:nvSpPr>
          <p:spPr>
            <a:xfrm>
              <a:off x="7020000" y="3849480"/>
              <a:ext cx="792000" cy="87264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93920" y="4005000"/>
              <a:ext cx="83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s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45280" y="243972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Atmó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45800" y="579888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Océ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85040" y="52290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Conti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Naturaleza de la radiació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77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adiación está compuesta por ondas electromagnéticas (e-m) que transfieren energía de un lugar a otro sin precisar un medio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adiación electromagnética puede ser considerada como compuesta por ondas o partículas (foto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fotones al moverse, con la velocidad de la luz c, llevan consigo campos magnéticos y eléctricos que oscilan con una cierta frecuencia, de manera que en un punto del espacio estos campos oscilan cuando el fotón pasa por tal p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onda e-m puede ser caracterizada de una de las siguientes variables: su frecuencia (f), período (p), longitud de onda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número de onda (k) o energía (E=hf). ( Tabla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pectro e-m es el conjunto de radiaciones de to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sible y se divide en regiones. Por ejemplo: ultravioleta, visible, infrarro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39640" y="189000"/>
            <a:ext cx="4953240" cy="6408720"/>
            <a:chOff x="539640" y="189000"/>
            <a:chExt cx="4953240" cy="640872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539640" y="189000"/>
              <a:ext cx="4953240" cy="436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1187280" y="4660920"/>
              <a:ext cx="4003920" cy="193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62240" y="1101600"/>
            <a:ext cx="652284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9080"/>
          <a:ext cx="9144000" cy="68198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80"/>
                    <a:ext cx="91440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Radiación interactuando con la mate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770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adiaciones de diferentes longitudes de onda en esencia son lo mismo, pero difieren en el tipo de interacción que tienen con la mater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ayos Gama y X son </a:t>
            </a: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ionizantes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pues tienen energía suficiente para separar electrones  de átomos y molécul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UV puede romper moléculas en sus átomos: </a:t>
            </a: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fotólisis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uz visible e infrarroja modifican los estados de </a:t>
            </a: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vibración y rotación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de las molécul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361800" cy="3618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Radiación del S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77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radiación solar proviene de la fotosfera que tiene una temperatura alrededor de 5700ºK con un máximo espectral a los 500 nm. Un 99% de la energía viene en el intervalo UV+VIS+I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n ondas largas la emisión solar ajusta bien a emisión de  un cuerpo negro a 5700ºK, pero hacia ondas cortas aparecen primero líneas de absorción de elementos en la atmósfera solar y luego pérdidas por ioniz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energía total proveniente del sol varía poco y su valor en el exterior de la atmósfera es de 1353</a:t>
            </a:r>
            <a:r>
              <a:rPr b="0" lang="es-ES_tradnl" sz="23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21 W/m2 a una distancia de 1 AU (149.6E6 km) del sol. Entre perihelio y afelio existe una diferencia de </a:t>
            </a:r>
            <a:r>
              <a:rPr b="1" lang="es-ES_tradnl" sz="2300" spc="-1" strike="noStrike">
                <a:solidFill>
                  <a:srgbClr val="000000"/>
                </a:solidFill>
                <a:latin typeface="Symbol"/>
                <a:ea typeface="Symbol"/>
              </a:rPr>
              <a:t>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5:30:39Z</dcterms:created>
  <dc:creator>CENMA Universidad de Chile</dc:creator>
  <dc:description/>
  <dc:language>en-US</dc:language>
  <cp:lastModifiedBy>CENMA Universidad de Chile</cp:lastModifiedBy>
  <dcterms:modified xsi:type="dcterms:W3CDTF">2008-07-31T20:19:12Z</dcterms:modified>
  <cp:revision>7</cp:revision>
  <dc:subject/>
  <dc:title>Slide 1</dc:title>
</cp:coreProperties>
</file>