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1E72-A61A-4916-9B47-AE69CF5CE9E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diación solar es absorbida en sfc, luego de cruzar la atmósfera. Radiación terrestre también debe cruzar la atmósf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 de emisión al espacio en la tropósfera al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. inv. no es nuevo y muy benefici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f tiene signo opuesto a d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riac. Sol: Milankovich, manchas, evol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alim+: hielo,albedo,T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FDC4-F70A-4F05-A131-ABA348CB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1D56-1A29-4070-94BE-116FD421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54A1-A717-48BA-A6AE-B534C5D6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ED39-75B0-4C8E-B0B9-01ACD607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62F6-C66D-4920-9EAD-D83D8EE0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B56-8A6C-4FE7-830B-C44C77F1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F336-5509-4ACA-AA68-62E33D1A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59F-8B0C-4CA4-AE7A-4BF9B02E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B66C-B6B2-4096-8FDF-2E962F68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37AE-5AB7-4C3A-B4D5-A2FA1A40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CE5A-5971-4556-8EEB-9B68D910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FB11-1D50-48D8-9A35-51F7830D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280D-3E6E-4174-97B3-F90993B29D3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4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adiación solar y terres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eyes de la rad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860040" y="3470400"/>
            <a:ext cx="7457040" cy="2837160"/>
            <a:chOff x="860040" y="3470400"/>
            <a:chExt cx="7457040" cy="2837160"/>
          </a:xfrm>
        </p:grpSpPr>
        <p:sp>
          <p:nvSpPr>
            <p:cNvPr id="50" name=""/>
            <p:cNvSpPr/>
            <p:nvPr/>
          </p:nvSpPr>
          <p:spPr>
            <a:xfrm>
              <a:off x="860040" y="3470400"/>
              <a:ext cx="26802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Ley de Wien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Ley de Stefan-Boltzma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2317680" y="3684600"/>
                  <a:ext cx="283860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897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μ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2678040" y="5726160"/>
                  <a:ext cx="563904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σT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σ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</m:sup>
                      </m:sSup>
                      <m:r>
                        <m:t xml:space="preserve"> 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w</m:t>
                          </m:r>
                        </m:num>
                        <m:den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" name=""/>
          <p:cNvSpPr/>
          <p:nvPr/>
        </p:nvSpPr>
        <p:spPr>
          <a:xfrm>
            <a:off x="900000" y="278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a cuerpos  neg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71440" y="0"/>
            <a:ext cx="680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5600" y="152280"/>
            <a:ext cx="9249480" cy="6838560"/>
            <a:chOff x="75600" y="152280"/>
            <a:chExt cx="9249480" cy="6838560"/>
          </a:xfrm>
        </p:grpSpPr>
        <p:sp>
          <p:nvSpPr>
            <p:cNvPr id="71" name=""/>
            <p:cNvSpPr/>
            <p:nvPr/>
          </p:nvSpPr>
          <p:spPr>
            <a:xfrm>
              <a:off x="1676520" y="1066680"/>
              <a:ext cx="1676160" cy="1676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600" y="5554800"/>
              <a:ext cx="282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S = 1370 W/m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a = 0.3 albe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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Symbol"/>
                  <a:ea typeface="Symbol"/>
                </a:rPr>
                <a:t>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W/m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94680" y="152280"/>
              <a:ext cx="350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E. absorbida = E. emit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65640" y="595440"/>
              <a:ext cx="3292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S(1-a)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r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=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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e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4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r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38960" y="16765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90920" y="3124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14600" y="1066680"/>
              <a:ext cx="0" cy="16765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1066680" y="456840"/>
              <a:ext cx="2895840" cy="2900880"/>
              <a:chOff x="1066680" y="456840"/>
              <a:chExt cx="2895840" cy="2900880"/>
            </a:xfrm>
          </p:grpSpPr>
          <p:sp>
            <p:nvSpPr>
              <p:cNvPr id="79" name=""/>
              <p:cNvSpPr/>
              <p:nvPr/>
            </p:nvSpPr>
            <p:spPr>
              <a:xfrm>
                <a:off x="3130200" y="2471760"/>
                <a:ext cx="444960" cy="4165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3156840" y="903600"/>
                <a:ext cx="428400" cy="4338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3352680" y="1901880"/>
                <a:ext cx="609840" cy="79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2514600" y="2747880"/>
                <a:ext cx="0" cy="60984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514600" y="456840"/>
                <a:ext cx="0" cy="60948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1066680" y="1901880"/>
                <a:ext cx="609840" cy="79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1463040" y="2449800"/>
                <a:ext cx="428400" cy="4338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15600" y="892080"/>
                <a:ext cx="444960" cy="4165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1981080" y="751320"/>
              <a:ext cx="1193400" cy="2306160"/>
              <a:chOff x="1981080" y="751320"/>
              <a:chExt cx="1193400" cy="230616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1981080" y="751320"/>
                <a:ext cx="1193400" cy="2306160"/>
                <a:chOff x="1981080" y="751320"/>
                <a:chExt cx="1193400" cy="2306160"/>
              </a:xfrm>
            </p:grpSpPr>
            <p:sp>
              <p:nvSpPr>
                <p:cNvPr id="89" name=""/>
                <p:cNvSpPr/>
                <p:nvPr/>
              </p:nvSpPr>
              <p:spPr>
                <a:xfrm flipH="1">
                  <a:off x="1981080" y="923760"/>
                  <a:ext cx="990720" cy="213372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2036400">
                  <a:off x="2761920" y="838080"/>
                  <a:ext cx="380880" cy="228600"/>
                </a:xfrm>
                <a:prstGeom prst="ellipse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2928960" y="1033560"/>
                <a:ext cx="76320" cy="7596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895480" y="83808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43400" y="1219320"/>
              <a:ext cx="4800600" cy="21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e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s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EI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Psf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V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46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477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523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18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15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33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M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57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47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10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0.00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71640" y="3716280"/>
              <a:ext cx="7364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S/4(1-a)=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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s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Symbol"/>
                  <a:ea typeface="Symbol"/>
                </a:rPr>
                <a:t>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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           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f= (T</a:t>
              </a:r>
              <a:r>
                <a:rPr b="0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s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/T</a:t>
              </a:r>
              <a:r>
                <a:rPr b="0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e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)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=1.63=(273+15)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/(273-18)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16400" y="4967280"/>
              <a:ext cx="5008680" cy="20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Sol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Nubos   G.E.Inv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Hielo     H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CO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Aeros     CH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N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CF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826920" y="4365720"/>
                  <a:ext cx="7602840" cy="99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σ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f</m:t>
                      </m:r>
                      <m:r>
                        <m:t xml:space="preserve"> 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S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a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num>
                            <m:den>
                              <m:r>
                                <m:t xml:space="preserve">f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97" name=""/>
            <p:cNvSpPr/>
            <p:nvPr/>
          </p:nvSpPr>
          <p:spPr>
            <a:xfrm>
              <a:off x="6461280" y="4994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99" name=""/>
            <p:cNvSpPr/>
            <p:nvPr/>
          </p:nvSpPr>
          <p:spPr>
            <a:xfrm>
              <a:off x="4343400" y="1676520"/>
              <a:ext cx="4572000" cy="1676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9200" y="1676520"/>
              <a:ext cx="0" cy="16761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19920" y="1676520"/>
              <a:ext cx="0" cy="16761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34320" y="1676520"/>
              <a:ext cx="0" cy="16761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48720" y="1676520"/>
              <a:ext cx="0" cy="16761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43400" y="2209680"/>
              <a:ext cx="4572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3400" y="2806560"/>
              <a:ext cx="4572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04920" y="981000"/>
              <a:ext cx="1082160" cy="1990800"/>
              <a:chOff x="304920" y="981000"/>
              <a:chExt cx="1082160" cy="1990800"/>
            </a:xfrm>
          </p:grpSpPr>
          <p:sp>
            <p:nvSpPr>
              <p:cNvPr id="107" name=""/>
              <p:cNvSpPr/>
              <p:nvPr/>
            </p:nvSpPr>
            <p:spPr>
              <a:xfrm>
                <a:off x="304920" y="9810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4920" y="11430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04920" y="12952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04920" y="14479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4920" y="16002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4920" y="17524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4920" y="25146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4920" y="23623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4920" y="22096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4920" y="20574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4920" y="19051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04920" y="29718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4920" y="28195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4920" y="26668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000" y="2158920"/>
                <a:ext cx="49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cc00"/>
                    </a:solidFill>
                    <a:latin typeface="Times New Roman"/>
                  </a:rPr>
                  <a:t>}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rot="1912200">
            <a:off x="3124080" y="2057040"/>
            <a:ext cx="9144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752480" y="2133720"/>
            <a:ext cx="14479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752480" y="2590920"/>
            <a:ext cx="22100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752480" y="1294920"/>
            <a:ext cx="2590920" cy="3581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752480" y="11430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4876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4560" y="4876920"/>
            <a:ext cx="14475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8769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00560" y="838080"/>
            <a:ext cx="335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5000" y="5791320"/>
            <a:ext cx="2507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700" spc="-1" strike="noStrike">
                <a:solidFill>
                  <a:srgbClr val="000000"/>
                </a:solidFill>
                <a:latin typeface="Times New Roman"/>
              </a:rPr>
              <a:t>Plano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7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960" y="5562720"/>
            <a:ext cx="430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5840" y="3692520"/>
            <a:ext cx="36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67520" y="228600"/>
            <a:ext cx="6477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= se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o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89680" y="131292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581280" y="1295280"/>
            <a:ext cx="7621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352680" y="487692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5638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99880" y="2077920"/>
            <a:ext cx="313848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h=15(HL-8)-</a:t>
            </a:r>
            <a:r>
              <a:rPr b="0" lang="es-ES_tradnl" sz="27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º in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: longitud 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: latitud 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: declinación sol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(depende de fecha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22960" y="4589640"/>
            <a:ext cx="350136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Angulo sólido d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=dS/r</a:t>
            </a:r>
            <a:r>
              <a:rPr b="0" lang="es-ES_tradnl" sz="27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(str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Radianza: (W/m2/str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Irradianza: (W/m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2084400"/>
            <a:ext cx="546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3227400"/>
            <a:ext cx="298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8000" y="252360"/>
            <a:ext cx="8962920" cy="6418800"/>
            <a:chOff x="108000" y="252360"/>
            <a:chExt cx="8962920" cy="6418800"/>
          </a:xfrm>
        </p:grpSpPr>
        <p:sp>
          <p:nvSpPr>
            <p:cNvPr id="145" name=""/>
            <p:cNvSpPr/>
            <p:nvPr/>
          </p:nvSpPr>
          <p:spPr>
            <a:xfrm>
              <a:off x="3203640" y="836280"/>
              <a:ext cx="5256000" cy="2592000"/>
            </a:xfrm>
            <a:prstGeom prst="rect">
              <a:avLst/>
            </a:prstGeom>
            <a:gradFill rotWithShape="0">
              <a:gsLst>
                <a:gs pos="0">
                  <a:srgbClr val="d6ecee"/>
                </a:gs>
                <a:gs pos="100000">
                  <a:srgbClr val="626c6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1280" y="4581360"/>
              <a:ext cx="4248000" cy="2015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5000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00720" y="4724280"/>
              <a:ext cx="1656000" cy="165672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4360" y="2492280"/>
              <a:ext cx="1800000" cy="93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03640" y="1628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43640" y="126828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95640" y="4581360"/>
              <a:ext cx="2663640" cy="934560"/>
            </a:xfrm>
            <a:prstGeom prst="rect">
              <a:avLst/>
            </a:prstGeom>
            <a:gradFill rotWithShape="0">
              <a:gsLst>
                <a:gs pos="0">
                  <a:srgbClr val="699ccf"/>
                </a:gs>
                <a:gs pos="100000">
                  <a:srgbClr val="30475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1280" y="522900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00720" y="5157360"/>
              <a:ext cx="16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8480" y="2622240"/>
              <a:ext cx="161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elo contin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gt;10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83600" y="980640"/>
              <a:ext cx="122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tratosf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-500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68320" y="1974600"/>
              <a:ext cx="111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oposf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-8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3280" y="4640040"/>
              <a:ext cx="126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elo mari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-5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90200" y="4724280"/>
              <a:ext cx="151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pa de mezc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-200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98560" y="5935320"/>
              <a:ext cx="16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céano profun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00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280" y="4674960"/>
              <a:ext cx="695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e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-20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99280" y="5574960"/>
              <a:ext cx="1694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ua subterrán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-10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5120" y="1611000"/>
              <a:ext cx="113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Tropopau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5280" y="521136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333399"/>
                  </a:solidFill>
                  <a:latin typeface="Arial"/>
                </a:rPr>
                <a:t>Picnocl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92000" y="544968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333399"/>
                  </a:solidFill>
                  <a:latin typeface="Arial"/>
                </a:rPr>
                <a:t>Termocl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0000" y="639360"/>
              <a:ext cx="22366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R radi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H calor sens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E evapo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M moment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P partículas y ga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84360" y="2852640"/>
              <a:ext cx="719280" cy="215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42920" y="3428640"/>
              <a:ext cx="73080" cy="1152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43640" y="3428640"/>
              <a:ext cx="287280" cy="1295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35280" y="3428640"/>
              <a:ext cx="505080" cy="1152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859280" y="4868640"/>
              <a:ext cx="1441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94920" y="3068280"/>
              <a:ext cx="28908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5280" y="3068280"/>
              <a:ext cx="0" cy="2663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5280" y="5732280"/>
              <a:ext cx="21600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97960" y="980640"/>
              <a:ext cx="113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Tropopau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1692360" y="3428640"/>
              <a:ext cx="1727280" cy="1152000"/>
              <a:chOff x="1692360" y="3428640"/>
              <a:chExt cx="1727280" cy="1152000"/>
            </a:xfrm>
          </p:grpSpPr>
          <p:sp>
            <p:nvSpPr>
              <p:cNvPr id="176" name=""/>
              <p:cNvSpPr/>
              <p:nvPr/>
            </p:nvSpPr>
            <p:spPr>
              <a:xfrm>
                <a:off x="3274920" y="3428640"/>
                <a:ext cx="144720" cy="431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692360" y="4004640"/>
                <a:ext cx="142920" cy="5760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 rot="5400000">
                <a:off x="2484000" y="3068640"/>
                <a:ext cx="144000" cy="1727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2846520" y="644400"/>
              <a:ext cx="452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k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68480" y="14364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81520" y="3213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67120" y="63936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59640" y="69192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59640" y="112356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4720" y="319536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442000" y="283500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hP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85080" y="616572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85080" y="501300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85080" y="458136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8520" y="55148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88000" y="4436640"/>
              <a:ext cx="61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5280" y="443664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88000" y="5284440"/>
              <a:ext cx="61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88000" y="6364080"/>
              <a:ext cx="61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06360" y="573048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5800" y="47242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5080" y="50688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69440" y="385416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EM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37800" y="386064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EM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53080" y="393192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EM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47000" y="256500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44720" y="3782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6160" y="53654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M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74560" y="4581360"/>
              <a:ext cx="10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scorrent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86160" y="12682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-285840" y="4168800"/>
              <a:ext cx="10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scorrent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23600" y="252360"/>
              <a:ext cx="26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Sistema Climá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ree"/>
            <p:cNvSpPr/>
            <p:nvPr/>
          </p:nvSpPr>
          <p:spPr>
            <a:xfrm>
              <a:off x="7020000" y="3849480"/>
              <a:ext cx="792000" cy="872640"/>
            </a:xfr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93920" y="4005000"/>
              <a:ext cx="83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s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45280" y="243972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6699"/>
                  </a:solidFill>
                  <a:latin typeface="Arial"/>
                </a:rPr>
                <a:t>Atmósf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45800" y="5798880"/>
              <a:ext cx="9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6699"/>
                  </a:solidFill>
                  <a:latin typeface="Arial"/>
                </a:rPr>
                <a:t>Océ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85040" y="522900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6699"/>
                  </a:solidFill>
                  <a:latin typeface="Arial"/>
                </a:rPr>
                <a:t>Contin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Tahoma"/>
              </a:rPr>
              <a:t>Naturaleza de la radiación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770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radiación está compuesta por ondas electromagnéticas (e-m) que transfieren energía de un lugar a otro sin precisar un medio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radiación electromagnética puede ser considerada como compuesta por ondas o partículas (foton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fotones al moverse, con la velocidad de la luz c, llevan consigo campos magnéticos y eléctricos que oscilan con una cierta frecuencia, de manera que en un punto del espacio estos campos oscilan cuando el fotón pasa por tal pu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onda e-m puede ser caracterizada de una de las siguientes variables: su frecuencia (f), período (p), longitud de onda (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, número de onda (k) o energía (E=hf). ( Tabla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spectro e-m es el conjunto de radiaciones de tod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osible y se divide en regiones. Por ejemplo: ultravioleta, visible, infrarro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539640" y="189000"/>
            <a:ext cx="4953240" cy="6408720"/>
            <a:chOff x="539640" y="189000"/>
            <a:chExt cx="4953240" cy="640872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539640" y="189000"/>
              <a:ext cx="4953240" cy="436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1187280" y="4660920"/>
              <a:ext cx="4003920" cy="1936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62240" y="1101600"/>
            <a:ext cx="652284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19080"/>
          <a:ext cx="9144000" cy="68198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80"/>
                    <a:ext cx="914400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Tahoma"/>
              </a:rPr>
              <a:t>Radiación interactuando con la mater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7704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adiaciones de diferentes longitudes de onda en esencia son lo mismo, pero difieren en el tipo de interacción que tienen con la materi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ayos Gama y X son </a:t>
            </a: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Arial"/>
              </a:rPr>
              <a:t>ionizantes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pues tienen energía suficiente para separar electrones  de átomos y molécul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UV puede romper moléculas en sus átomos: </a:t>
            </a: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Arial"/>
              </a:rPr>
              <a:t>fotólisis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uz visible e infrarroja modifican los estados de </a:t>
            </a: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Arial"/>
              </a:rPr>
              <a:t>vibración y rotación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de las molécul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8686800" y="6477120"/>
            <a:ext cx="361800" cy="3618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Tahoma"/>
              </a:rPr>
              <a:t>Radiación del S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77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a radiación solar proviene de la fotosfera que tiene una temperatura alrededor de 5700ºK con un máximo espectral a los 500 nm. Un 99% de la energía viene en el intervalo UV+VIS+I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En ondas largas la emisión solar ajusta bien a emisión de  un cuerpo negro a 5700ºK, pero hacia ondas cortas aparecen primero líneas de absorción de elementos en la atmósfera solar y luego pérdidas por ionizació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a energía total proveniente del sol varía poco y su valor en el exterior de la atmósfera es de 1353</a:t>
            </a:r>
            <a:r>
              <a:rPr b="0" lang="es-ES_tradnl" sz="23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21 W/m2 a una distancia de 1 AU (149.6E6 km) del sol. Entre perihelio y afelio existe una diferencia de </a:t>
            </a:r>
            <a:r>
              <a:rPr b="1" lang="es-ES_tradnl" sz="2300" spc="-1" strike="noStrike">
                <a:solidFill>
                  <a:srgbClr val="000000"/>
                </a:solidFill>
                <a:latin typeface="Symbol"/>
                <a:ea typeface="Symbol"/>
              </a:rPr>
              <a:t>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" dur="1" fill="hold"/>
                                  <p:tgtEl>
                                    <p:spTgt spid="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5:30:39Z</dcterms:created>
  <dc:creator>CENMA Universidad de Chile</dc:creator>
  <dc:description/>
  <dc:language>en-US</dc:language>
  <cp:lastModifiedBy>CENMA Universidad de Chile</cp:lastModifiedBy>
  <dcterms:modified xsi:type="dcterms:W3CDTF">2008-07-31T20:19:12Z</dcterms:modified>
  <cp:revision>7</cp:revision>
  <dc:subject/>
  <dc:title>Slide 1</dc:title>
</cp:coreProperties>
</file>