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C0F0-F8F2-47CF-B6FB-F62DD3E294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diación solar es absorbida en sfc, luego de cruzar la atmósfera. Radiación terrestre también debe cruzar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emisión al espacio en la tropósfera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. inv. no es nuevo y muy beneficio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f tiene signo opuesto a d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c. Sol: Milankovich, manchas,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m+: hielo,albedo,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1CA-54F2-4506-BC13-6BA688C3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79D-4968-48C3-A8DB-911D916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F68-545C-4FB8-8E96-ADA9D26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F9C-4DF5-402A-A731-D51DD8B3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F50-AC78-4596-9F8B-A415ED6C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1AE-4213-46C1-92AE-3EB1CE4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ACB-924A-4C32-981B-8AC67FD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02E-6A79-4665-B119-D0B924A0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E37-44E8-4B13-97E9-84106C59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EB8-6EB8-4A73-8503-230B8C9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437-1649-4516-8A96-6791B6B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2B7-526D-4B78-9635-C416B91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B9F1-8BFF-4ED9-9D2A-97D10775E9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adiación solar y terr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yes de la 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60040" y="3470400"/>
            <a:ext cx="7457040" cy="2837160"/>
            <a:chOff x="860040" y="3470400"/>
            <a:chExt cx="7457040" cy="2837160"/>
          </a:xfrm>
        </p:grpSpPr>
        <p:sp>
          <p:nvSpPr>
            <p:cNvPr id="50" name=""/>
            <p:cNvSpPr/>
            <p:nvPr/>
          </p:nvSpPr>
          <p:spPr>
            <a:xfrm>
              <a:off x="860040" y="3470400"/>
              <a:ext cx="268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Wien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ey de Stefan-Boltzma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317680" y="3684600"/>
                  <a:ext cx="283860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97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μ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2678040" y="5726160"/>
                  <a:ext cx="563904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T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σ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sup>
                      </m:sSup>
                      <m:r>
                        <m:t xml:space="preserve"> 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w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"/>
          <p:cNvSpPr/>
          <p:nvPr/>
        </p:nvSpPr>
        <p:spPr>
          <a:xfrm>
            <a:off x="90000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cuerpos  neg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71440" y="0"/>
            <a:ext cx="68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5600" y="152280"/>
            <a:ext cx="9249480" cy="6838560"/>
            <a:chOff x="75600" y="152280"/>
            <a:chExt cx="9249480" cy="6838560"/>
          </a:xfrm>
        </p:grpSpPr>
        <p:sp>
          <p:nvSpPr>
            <p:cNvPr id="71" name=""/>
            <p:cNvSpPr/>
            <p:nvPr/>
          </p:nvSpPr>
          <p:spPr>
            <a:xfrm>
              <a:off x="1676520" y="1066680"/>
              <a:ext cx="1676160" cy="1676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600" y="5554800"/>
              <a:ext cx="282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S = 1370 W/m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a = 0.3 albe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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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W/m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94680" y="152280"/>
              <a:ext cx="350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. absorbida = E. emit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5640" y="595440"/>
              <a:ext cx="3292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(1-a)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8960" y="16765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0920" y="312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4600" y="1066680"/>
              <a:ext cx="0" cy="16765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456840"/>
              <a:ext cx="2895840" cy="2900880"/>
              <a:chOff x="1066680" y="456840"/>
              <a:chExt cx="2895840" cy="2900880"/>
            </a:xfrm>
          </p:grpSpPr>
          <p:sp>
            <p:nvSpPr>
              <p:cNvPr id="79" name=""/>
              <p:cNvSpPr/>
              <p:nvPr/>
            </p:nvSpPr>
            <p:spPr>
              <a:xfrm>
                <a:off x="3130200" y="247176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156840" y="9036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352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514600" y="2747880"/>
                <a:ext cx="0" cy="6098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514600" y="456840"/>
                <a:ext cx="0" cy="6094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1066680" y="1901880"/>
                <a:ext cx="609840" cy="7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1463040" y="2449800"/>
                <a:ext cx="428400" cy="4338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15600" y="892080"/>
                <a:ext cx="444960" cy="4165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981080" y="751320"/>
              <a:ext cx="1193400" cy="2306160"/>
              <a:chOff x="1981080" y="751320"/>
              <a:chExt cx="1193400" cy="23061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1981080" y="751320"/>
                <a:ext cx="1193400" cy="2306160"/>
                <a:chOff x="1981080" y="751320"/>
                <a:chExt cx="1193400" cy="23061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1981080" y="923760"/>
                  <a:ext cx="990720" cy="2133720"/>
                </a:xfrm>
                <a:prstGeom prst="line">
                  <a:avLst/>
                </a:prstGeom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036400">
                  <a:off x="2761920" y="838080"/>
                  <a:ext cx="380880" cy="228600"/>
                </a:xfrm>
                <a:prstGeom prst="ellipse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2928960" y="1033560"/>
                <a:ext cx="76320" cy="7596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480" y="838080"/>
              <a:ext cx="228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1219320"/>
              <a:ext cx="4800600" cy="21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EI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Ps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V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6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47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52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18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5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33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M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5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-47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10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0.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1640" y="3716280"/>
              <a:ext cx="736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/4(1-a)=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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Symbol"/>
                  <a:ea typeface="Symbol"/>
                </a:rPr>
                <a:t>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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f</a:t>
              </a:r>
              <a:r>
                <a:rPr b="1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           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f= (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s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T</a:t>
              </a:r>
              <a:r>
                <a:rPr b="0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e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=1.63=(273+15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0" lang="es-ES_tradnl" sz="2400" spc="-1" strike="noStrike">
                  <a:solidFill>
                    <a:srgbClr val="ffcc00"/>
                  </a:solidFill>
                  <a:latin typeface="Times New Roman"/>
                </a:rPr>
                <a:t>/(273-18)</a:t>
              </a:r>
              <a:r>
                <a:rPr b="0" lang="es-ES_tradnl" sz="2400" spc="-1" strike="noStrike" baseline="30000">
                  <a:solidFill>
                    <a:srgbClr val="ffcc00"/>
                  </a:solidFill>
                  <a:latin typeface="Times New Roman"/>
                </a:rPr>
                <a:t>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16400" y="4967280"/>
              <a:ext cx="5008680" cy="20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Sol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Nubos   G.E.Inv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Hielo     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O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Aeros     CH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4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N</a:t>
              </a:r>
              <a:r>
                <a:rPr b="1" lang="es-ES_tradnl" sz="2400" spc="-1" strike="noStrike" baseline="-25000">
                  <a:solidFill>
                    <a:srgbClr val="ffcc00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      </a:t>
              </a:r>
              <a:r>
                <a:rPr b="1" lang="es-ES_tradnl" sz="2400" spc="-1" strike="noStrike">
                  <a:solidFill>
                    <a:srgbClr val="ffcc00"/>
                  </a:solidFill>
                  <a:latin typeface="Times New Roman"/>
                </a:rPr>
                <a:t>CF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26920" y="4365720"/>
                  <a:ext cx="760284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σ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6461280" y="4994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4343400" y="1676520"/>
              <a:ext cx="4572000" cy="1676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1676520"/>
              <a:ext cx="0" cy="1676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1676520"/>
              <a:ext cx="0" cy="1676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220968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2806560"/>
              <a:ext cx="4572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04920" y="981000"/>
              <a:ext cx="1082160" cy="1990800"/>
              <a:chOff x="304920" y="981000"/>
              <a:chExt cx="1082160" cy="1990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04920" y="981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11430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12952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920" y="14479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920" y="16002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920" y="17524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4920" y="25146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4920" y="23623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920" y="22096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920" y="20574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19051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04920" y="297180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920" y="281952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4920" y="2666880"/>
                <a:ext cx="685800" cy="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000" y="215892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cc00"/>
                    </a:solidFill>
                    <a:latin typeface="Times New Roman"/>
                  </a:rPr>
                  <a:t>}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12200">
            <a:off x="3124080" y="2057040"/>
            <a:ext cx="9144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2480" y="2133720"/>
            <a:ext cx="14479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752480" y="2590920"/>
            <a:ext cx="22100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1294920"/>
            <a:ext cx="2590920" cy="3581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11430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560" y="48769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8769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560" y="838080"/>
            <a:ext cx="335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5000" y="5791320"/>
            <a:ext cx="2507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Plano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5562720"/>
            <a:ext cx="43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840" y="3692520"/>
            <a:ext cx="36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67520" y="228600"/>
            <a:ext cx="6477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89680" y="131292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1280" y="1295280"/>
            <a:ext cx="7621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680" y="48769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99880" y="2077920"/>
            <a:ext cx="31384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h=15(HL-8)-</a:t>
            </a: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º in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ongitud 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latitud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: declinación so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depende de fech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4589640"/>
            <a:ext cx="3501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Angulo sólido d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=dS/r</a:t>
            </a:r>
            <a:r>
              <a:rPr b="0" lang="es-ES_tradnl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(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adianza: (W/m2/str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Irradianza: (W/m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084400"/>
            <a:ext cx="546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27400"/>
            <a:ext cx="298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8000" y="252360"/>
            <a:ext cx="8962920" cy="6418800"/>
            <a:chOff x="108000" y="252360"/>
            <a:chExt cx="8962920" cy="6418800"/>
          </a:xfrm>
        </p:grpSpPr>
        <p:sp>
          <p:nvSpPr>
            <p:cNvPr id="145" name=""/>
            <p:cNvSpPr/>
            <p:nvPr/>
          </p:nvSpPr>
          <p:spPr>
            <a:xfrm>
              <a:off x="3203640" y="836280"/>
              <a:ext cx="5256000" cy="2592000"/>
            </a:xfrm>
            <a:prstGeom prst="rect">
              <a:avLst/>
            </a:prstGeom>
            <a:gradFill rotWithShape="0">
              <a:gsLst>
                <a:gs pos="0">
                  <a:srgbClr val="d6ecee"/>
                </a:gs>
                <a:gs pos="100000">
                  <a:srgbClr val="626c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4581360"/>
              <a:ext cx="4248000" cy="2015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5000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00720" y="4724280"/>
              <a:ext cx="1656000" cy="165672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360" y="2492280"/>
              <a:ext cx="1800000" cy="93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3640" y="1628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43640" y="126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5640" y="4581360"/>
              <a:ext cx="2663640" cy="934560"/>
            </a:xfrm>
            <a:prstGeom prst="rect">
              <a:avLst/>
            </a:prstGeom>
            <a:gradFill rotWithShape="0">
              <a:gsLst>
                <a:gs pos="0">
                  <a:srgbClr val="699ccf"/>
                </a:gs>
                <a:gs pos="100000">
                  <a:srgbClr val="30475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5229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00720" y="51573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8480" y="262224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contin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&gt;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980640"/>
              <a:ext cx="122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at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-5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8320" y="1974600"/>
              <a:ext cx="111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posf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-8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3280" y="464004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elo mari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5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0200" y="4724280"/>
              <a:ext cx="151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pa de mezc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-20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98560" y="59353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éano profun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280" y="4674960"/>
              <a:ext cx="69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e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-20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5574960"/>
              <a:ext cx="1694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ua subterrá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-10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5120" y="161100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5280" y="5211360"/>
              <a:ext cx="99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Picn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2000" y="54496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333399"/>
                  </a:solidFill>
                  <a:latin typeface="Arial"/>
                </a:rPr>
                <a:t>Termocl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00" y="639360"/>
              <a:ext cx="223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R radi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H calor 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E evap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M moment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9900"/>
                  </a:solidFill>
                  <a:latin typeface="Arial"/>
                </a:rPr>
                <a:t>P partículas y g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4360" y="2852640"/>
              <a:ext cx="719280" cy="21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2920" y="3428640"/>
              <a:ext cx="73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3640" y="3428640"/>
              <a:ext cx="28728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5280" y="3428640"/>
              <a:ext cx="505080" cy="115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859280" y="4868640"/>
              <a:ext cx="1441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4920" y="3068280"/>
              <a:ext cx="2890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3068280"/>
              <a:ext cx="0" cy="26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5732280"/>
              <a:ext cx="216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97960" y="980640"/>
              <a:ext cx="11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Tropopau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92360" y="3428640"/>
              <a:ext cx="1727280" cy="1152000"/>
              <a:chOff x="1692360" y="3428640"/>
              <a:chExt cx="1727280" cy="1152000"/>
            </a:xfrm>
          </p:grpSpPr>
          <p:sp>
            <p:nvSpPr>
              <p:cNvPr id="176" name=""/>
              <p:cNvSpPr/>
              <p:nvPr/>
            </p:nvSpPr>
            <p:spPr>
              <a:xfrm>
                <a:off x="3274920" y="3428640"/>
                <a:ext cx="144720" cy="431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92360" y="4004640"/>
                <a:ext cx="142920" cy="5760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5400000">
                <a:off x="2484000" y="3068640"/>
                <a:ext cx="144000" cy="1727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46520" y="644400"/>
              <a:ext cx="45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8480" y="1436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1520" y="3213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7120" y="6393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9640" y="6919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59640" y="11235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3195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42000" y="28350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5080" y="616572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85080" y="501300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5080" y="458136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520" y="55148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44366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5280" y="443664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8000" y="528444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6364080"/>
              <a:ext cx="61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6360" y="57304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5800" y="4724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080" y="5068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9440" y="385416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37800" y="386064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3080" y="39319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E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7000" y="25650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R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4720" y="3782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6160" y="53654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H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4560" y="4581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6160" y="12682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-285840" y="416880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3600" y="252360"/>
              <a:ext cx="26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Arial"/>
                </a:rPr>
                <a:t>Sistema Climá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ree"/>
            <p:cNvSpPr/>
            <p:nvPr/>
          </p:nvSpPr>
          <p:spPr>
            <a:xfrm>
              <a:off x="7020000" y="3849480"/>
              <a:ext cx="792000" cy="872640"/>
            </a:xfr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93920" y="4005000"/>
              <a:ext cx="83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s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45280" y="243972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Atmósf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5800" y="57988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Océ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85040" y="522900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6699"/>
                  </a:solidFill>
                  <a:latin typeface="Arial"/>
                </a:rPr>
                <a:t>Contin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Naturaleza de la radiació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77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stá compuesta por ondas electromagnéticas (e-m) que transfieren energía de un lugar a otro sin precisar un medio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adiación electromagnética puede ser considerada como compuesta por ondas o partículas (foto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fotones al moverse, con la velocidad de la luz c, llevan consigo campos magnéticos y eléctricos que oscilan con una cierta frecuencia, de manera que en un punto del espacio estos campos oscilan cuando el fotón pasa por tal p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onda e-m puede ser caracterizada de una de las siguientes variables: su frecuencia (f), período (p), longitud de onda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número de onda (k) o energía (E=hf). ( Tabl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pectro e-m es el conjunto de radiaciones de to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sible y se divide en regiones. Por ejemplo: ultravioleta, visible, infrarro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9640" y="189000"/>
            <a:ext cx="4953240" cy="6408720"/>
            <a:chOff x="539640" y="189000"/>
            <a:chExt cx="4953240" cy="64087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39640" y="189000"/>
              <a:ext cx="4953240" cy="436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1187280" y="4660920"/>
              <a:ext cx="4003920" cy="193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62240" y="1101600"/>
            <a:ext cx="6522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9080"/>
          <a:ext cx="9144000" cy="68198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91440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interactuando con la mater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770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diaciones de diferentes longitudes de onda en esencia son lo mismo, pero difieren en el tipo de interacción que tienen con la mater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ayos Gama y X son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ionizante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pues tienen energía suficiente para separar electrones  de átomos y molécu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UV puede romper moléculas en sus átomos: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fotólisi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uz visible e infrarroja modifican los estados de </a:t>
            </a: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vibración y rotación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las molécul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61800" cy="3618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Radiación del So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radiación solar proviene de la fotosfera que tiene una temperatura alrededor de 5700ºK con un máximo espectral a los 500 nm. Un 99% de la energía viene en el intervalo UV+VIS+I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ondas largas la emisión solar ajusta bien a emisión de  un cuerpo negro a 5700ºK, pero hacia ondas cortas aparecen primero líneas de absorción de elementos en la atmósfera solar y luego pérdidas por ioniz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energía total proveniente del sol varía poco y su valor en el exterior de la atmósfera es de 1353</a:t>
            </a:r>
            <a:r>
              <a:rPr b="0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21 W/m2 a una distancia de 1 AU (149.6E6 km) del sol. Entre perihelio y afelio existe una diferencia de </a:t>
            </a:r>
            <a:r>
              <a:rPr b="1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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5:30:39Z</dcterms:created>
  <dc:creator>CENMA Universidad de Chile</dc:creator>
  <dc:description/>
  <dc:language>en-US</dc:language>
  <cp:lastModifiedBy>CENMA Universidad de Chile</cp:lastModifiedBy>
  <dcterms:modified xsi:type="dcterms:W3CDTF">2008-07-31T20:19:12Z</dcterms:modified>
  <cp:revision>7</cp:revision>
  <dc:subject/>
  <dc:title>Slide 1</dc:title>
</cp:coreProperties>
</file>