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ADF2-2743-4E79-901E-FDBBAC11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E0FF-5B25-4CB3-82F6-BD3B3D52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24C-9E59-49E3-96FF-4ADD23D2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E8A-3A1E-4234-AC44-D2E5A3E7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B7B-4FD3-4169-92B9-F0BCBEC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8E6-C17F-4FB9-8600-763052D6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0F1-4C18-417B-B3CD-FBA7E98E7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771-899E-4073-8ABE-F5B23F65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9B4B-5A00-4209-BDEF-6D75C742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90D-754A-4E90-B930-333B4098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24A-E7F0-4634-8E60-E2F83F4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832-5194-4096-84E8-E72DE113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1E92-F53B-4B17-8F07-8012D5300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I53I/CI73A Demanda de Transporte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lases 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odelos de Generación de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: 5 clases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ar </a:t>
            </a: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generació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de viaj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nder la necesidad de viajar basada en la localización de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upuestos del modelo de regresión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. El modelo se especifica por * (recta de regresión verdader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. Los X no son v.a. y no están correla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3. a) E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 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e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ara tod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b) corr(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~ N(0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ínimos cuad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inimizar una función de dispersión entre la recta estimada y las observ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91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54240" y="5603760"/>
                <a:ext cx="44272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CE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98680" y="1184400"/>
                <a:ext cx="2311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CE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ε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33520" y="380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ación matric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95680" y="1143000"/>
                <a:ext cx="22100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47920" y="1905120"/>
                <a:ext cx="15494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X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23880" y="2590920"/>
                <a:ext cx="49593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'</m:t>
                    </m:r>
                    <m:r>
                      <m:t xml:space="preserve">⋅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ε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)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33520" y="3824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on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666880" y="3657600"/>
                <a:ext cx="1467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SCE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β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191120" y="3809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llega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095880" y="3809880"/>
                <a:ext cx="281952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943600" y="3733920"/>
            <a:ext cx="3048120" cy="91440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967280"/>
            <a:ext cx="8153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ide un cambio en Y asociado a una variación en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 una unidad (ceteris parib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Propiedades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estimador d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ribuye Normal (c.l. de variables Nor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estimador MCO (de cada uno de l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 es el mejor (má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ficien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 estimador linea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sesgad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 (grafica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an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istribuye Normal, el estimador es equivalente al de máxima verosimilit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na estimación insesgada y consistente d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viene dada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91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941560" y="5408640"/>
                <a:ext cx="57452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ε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86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Propiedades (cont)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an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istribuye Normal, se puede aplicar pruebas para contrastar los coeficientes de reg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91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218040" y="2287440"/>
                <a:ext cx="371628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28600" y="2438280"/>
            <a:ext cx="8686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00200" y="3602160"/>
                <a:ext cx="239868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β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≈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867200" y="3921120"/>
                <a:ext cx="280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β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47920" y="5029200"/>
                <a:ext cx="56988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828800" y="5105520"/>
            <a:ext cx="6553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error estándar = Raíz cuadrada del k-ésimo elemento 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609480"/>
            <a:ext cx="731520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0: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por ejemplo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&gt;t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 ==&gt; se rechaza H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 es significativamente distinto d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ntiles de la distribución 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95% confi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60 g. de l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2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,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finit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,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609480"/>
            <a:ext cx="73152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Bondad de 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 fácil demostrar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14400" y="1905120"/>
                <a:ext cx="1994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55960" y="1919160"/>
                <a:ext cx="233028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230800" y="1905120"/>
                <a:ext cx="22939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914400" y="2666880"/>
            <a:ext cx="2209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 total de los cuad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ariació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2666880"/>
            <a:ext cx="22096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 del cuadrado de los res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ariación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38680" y="2666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ariación explicada por la reg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2209680" cy="83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1828800"/>
            <a:ext cx="1981080" cy="83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1828800"/>
            <a:ext cx="1981080" cy="83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53341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5181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ción total - variación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3868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ció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181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ción expl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5638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5715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ción 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53341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609480"/>
            <a:ext cx="731520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stadígrafo 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ueba la hipótesis nula de que un conjunto de parámetros es igual a c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0: ninguna de las variables explicativas contribuye a explicar la variación de Y con respecto a su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9924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F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38862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ariación explicada / (k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343400"/>
            <a:ext cx="3657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4419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ariación residual / (N-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388620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: 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: obser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152280" y="51814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ción entre F y 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04920"/>
            <a:ext cx="8839080" cy="24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Test F para modelos ani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l M1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4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5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6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stringido M2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25448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24382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ción explicada por los últimos r regresores /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895480"/>
            <a:ext cx="71629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2971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ción residual / (N-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5454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0: los últimos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arámetros no contribuyen significativamente a explicar la varianza de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760320" y="3548160"/>
                <a:ext cx="334512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Δ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04920" y="304920"/>
            <a:ext cx="8839080" cy="31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¿Cómo formular el modelo?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ey de comportamiento ==&gt; forma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proximac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uadrático desviado en torno a la med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2 v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876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ena aproximación en el entorno del punto de aproxim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280" y="3505320"/>
                <a:ext cx="90219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828800" y="3962520"/>
                <a:ext cx="7365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304920"/>
            <a:ext cx="883908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delo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752480"/>
            <a:ext cx="89154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da una de estas variable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fluye en forma line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n el problema modelado, y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 la misma forma para toda la población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 estud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¿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 la misma forma para toda la población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egme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le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lgunos pará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de variables dummy (mud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52600" y="1084320"/>
                <a:ext cx="61167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7524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1828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32004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276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1800" y="23623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13372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81952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1828800"/>
            <a:ext cx="1905120" cy="53352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297180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3720" y="1447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6200" y="1447920"/>
            <a:ext cx="5029200" cy="48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penden de A y 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r desagregación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mensión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mensión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usu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opósito de 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7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304920"/>
            <a:ext cx="861048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oner que el término constante depende del ingr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971800"/>
            <a:ext cx="8610480" cy="15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lustrar gráficam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oner que el efecto de la variabl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pende del ingr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80880" y="2133720"/>
                <a:ext cx="82123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alt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alt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828800" y="1447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ummy ad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9625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ummy multiplic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258920" y="4730760"/>
                <a:ext cx="64548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A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alto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B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5800" y="541008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ilustrar gráficam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puede generar n grupos usando n-1 dumm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1295280"/>
            <a:ext cx="86104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Tratamiento de no line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plicar una transformación a la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lineal por tramos (usando dumm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962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ilustrar gráficamente - aditivas - multi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512720" y="3336840"/>
                <a:ext cx="594864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?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?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3" dur="indefinite" restart="never" nodeType="tmRoot">
          <p:childTnLst>
            <p:seq>
              <p:cTn id="1284" dur="indefinite" nodeType="mainSeq">
                <p:childTnLst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304920"/>
            <a:ext cx="8610480" cy="64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Modelación de generación de viajes por R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a nivel z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a nivel de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as ecuaciones deben pasar por el 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el intercepto es grande, las ecuaciones debieran rechaza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ceptos no significativamente distintos de c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terceptos neg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sión abi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5" dur="indefinite" restart="never" nodeType="tmRoot">
          <p:childTnLst>
            <p:seq>
              <p:cTn id="1316" dur="indefinite" nodeType="mainSeq">
                <p:childTnLst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304920"/>
            <a:ext cx="4114800" cy="29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odelación z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 dependien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Totales zon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Medias zon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67652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otal viajes=f(población total, total autos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2743200"/>
            <a:ext cx="5181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iajes por hogar=f(personas por hogar, autos por hogar,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057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32004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4038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4800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371600" y="4054320"/>
                <a:ext cx="67597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89040" y="4800600"/>
                <a:ext cx="63216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962520" y="6019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son equival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35040" y="5410080"/>
                <a:ext cx="13860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981080" y="5410080"/>
                <a:ext cx="15890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304920"/>
            <a:ext cx="822960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supuesto de homoscedasticidad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no pued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ser válido para ambos casos, salvo que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tilizar multiplicadores como 1/ 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uede permitir reducir heteroscedastic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s proble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ariabilidad entre zonas está determinada por tamaño y naturaleza de las z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jemplo r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# zona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44956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medio viajes/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3400" y="541008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,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7,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0" y="5410080"/>
            <a:ext cx="1828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5,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,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449568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arianza interz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0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04920" y="304920"/>
            <a:ext cx="838188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y porqué no a nivel de perso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: las ya discut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stilo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ferencias en el tipo de actividades que realiza la gente dependen de: edad, género, estado civil, raza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Quiebres en la v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legada de hijos pre-esco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hijo mayor alcanza edad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joven se va a vivir solo, con otros jóvenes o se c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dos los hijos de la pareja se han 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dos los miembros del hogar están reti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4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5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Puerto Montt - z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58840"/>
            <a:ext cx="883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de atracción de viajes (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con destino distinto del hogar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ósito trabaj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periodo punta mañ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39258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39258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85800" y="2133720"/>
            <a:ext cx="7792920" cy="2869920"/>
            <a:chOff x="685800" y="2133720"/>
            <a:chExt cx="7792920" cy="2869920"/>
          </a:xfrm>
        </p:grpSpPr>
        <p:grpSp>
          <p:nvGrpSpPr>
            <p:cNvPr id="203" name=""/>
            <p:cNvGrpSpPr/>
            <p:nvPr/>
          </p:nvGrpSpPr>
          <p:grpSpPr>
            <a:xfrm>
              <a:off x="690480" y="2138040"/>
              <a:ext cx="7783560" cy="2859840"/>
              <a:chOff x="690480" y="2138040"/>
              <a:chExt cx="7783560" cy="28598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90480" y="2138040"/>
                <a:ext cx="1258920" cy="1095120"/>
                <a:chOff x="690480" y="2138040"/>
                <a:chExt cx="1258920" cy="10951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34760" y="2138040"/>
                  <a:ext cx="117000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uperficie oficinas [m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0480" y="2138040"/>
                  <a:ext cx="125892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949400" y="2138040"/>
                <a:ext cx="1438200" cy="1095120"/>
                <a:chOff x="1949400" y="2138040"/>
                <a:chExt cx="1438200" cy="10951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993680" y="2138040"/>
                  <a:ext cx="134964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uperficie educación [m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949400" y="2138040"/>
                  <a:ext cx="143820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387600" y="2138040"/>
                <a:ext cx="1349280" cy="1095120"/>
                <a:chOff x="3387600" y="2138040"/>
                <a:chExt cx="1349280" cy="10951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432240" y="2138040"/>
                  <a:ext cx="12603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uperficie comercio [m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387600" y="2138040"/>
                  <a:ext cx="134928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736880" y="2138040"/>
                <a:ext cx="1349640" cy="1095120"/>
                <a:chOff x="4736880" y="2138040"/>
                <a:chExt cx="1349640" cy="10951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781520" y="2138040"/>
                  <a:ext cx="12603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uperficie industria [m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736880" y="2138040"/>
                  <a:ext cx="134964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6086520" y="2138040"/>
                <a:ext cx="1619280" cy="1095120"/>
                <a:chOff x="6086520" y="2138040"/>
                <a:chExt cx="1619280" cy="10951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6130800" y="2138040"/>
                  <a:ext cx="153036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úmero de atenciones médicas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086520" y="2138040"/>
                  <a:ext cx="161928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7705800" y="2138040"/>
                <a:ext cx="768240" cy="1095120"/>
                <a:chOff x="7705800" y="2138040"/>
                <a:chExt cx="768240" cy="10951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750080" y="2138040"/>
                  <a:ext cx="679320" cy="109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R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705800" y="2138040"/>
                  <a:ext cx="768240" cy="109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90480" y="3233160"/>
                <a:ext cx="1258920" cy="882360"/>
                <a:chOff x="690480" y="3233160"/>
                <a:chExt cx="1258920" cy="882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34760" y="3233160"/>
                  <a:ext cx="117000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79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6,6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90480" y="3233160"/>
                  <a:ext cx="125892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949400" y="3233160"/>
                <a:ext cx="1438200" cy="882360"/>
                <a:chOff x="1949400" y="3233160"/>
                <a:chExt cx="1438200" cy="882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993680" y="3233160"/>
                  <a:ext cx="134964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18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2,5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949400" y="3233160"/>
                  <a:ext cx="143820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387600" y="3233160"/>
                <a:ext cx="1349280" cy="882360"/>
                <a:chOff x="3387600" y="3233160"/>
                <a:chExt cx="1349280" cy="882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432240" y="3233160"/>
                  <a:ext cx="126036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3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3,6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387600" y="3233160"/>
                  <a:ext cx="134928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736880" y="3233160"/>
                <a:ext cx="1349640" cy="882360"/>
                <a:chOff x="4736880" y="3233160"/>
                <a:chExt cx="1349640" cy="882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81520" y="3233160"/>
                  <a:ext cx="126036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736880" y="3233160"/>
                  <a:ext cx="134964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086520" y="3233160"/>
                <a:ext cx="1619280" cy="882360"/>
                <a:chOff x="6086520" y="3233160"/>
                <a:chExt cx="1619280" cy="882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130800" y="3233160"/>
                  <a:ext cx="153036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04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3,9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086520" y="3233160"/>
                  <a:ext cx="161928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7705800" y="3233160"/>
                <a:ext cx="768240" cy="882360"/>
                <a:chOff x="7705800" y="3233160"/>
                <a:chExt cx="768240" cy="882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7750080" y="3233160"/>
                  <a:ext cx="679320" cy="88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9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705800" y="3233160"/>
                  <a:ext cx="768240" cy="88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0480" y="4115880"/>
                <a:ext cx="1258920" cy="882000"/>
                <a:chOff x="690480" y="4115880"/>
                <a:chExt cx="1258920" cy="8820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34760" y="4115880"/>
                  <a:ext cx="1170000" cy="88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79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6,6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0480" y="4115880"/>
                  <a:ext cx="1258920" cy="88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949400" y="4115880"/>
                <a:ext cx="1438200" cy="882000"/>
                <a:chOff x="1949400" y="4115880"/>
                <a:chExt cx="1438200" cy="882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993680" y="4115880"/>
                  <a:ext cx="1349640" cy="88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949400" y="4115880"/>
                  <a:ext cx="1438200" cy="88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387600" y="4115880"/>
                <a:ext cx="1349280" cy="882000"/>
                <a:chOff x="3387600" y="4115880"/>
                <a:chExt cx="1349280" cy="882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432240" y="4115880"/>
                  <a:ext cx="1260360" cy="88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42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4,8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387600" y="4115880"/>
                  <a:ext cx="1349280" cy="88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736880" y="4115880"/>
                <a:ext cx="1349640" cy="882000"/>
                <a:chOff x="4736880" y="4115880"/>
                <a:chExt cx="1349640" cy="882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781520" y="4115880"/>
                  <a:ext cx="1260360" cy="88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18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1,8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36880" y="4115880"/>
                  <a:ext cx="1349640" cy="88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086520" y="4115880"/>
                <a:ext cx="1619280" cy="882000"/>
                <a:chOff x="6086520" y="4115880"/>
                <a:chExt cx="1619280" cy="8820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130800" y="4115880"/>
                  <a:ext cx="1530360" cy="88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052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4,8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086520" y="4115880"/>
                  <a:ext cx="1619280" cy="88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705800" y="4115880"/>
                <a:ext cx="768240" cy="882000"/>
                <a:chOff x="7705800" y="4115880"/>
                <a:chExt cx="768240" cy="8820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750080" y="4115880"/>
                  <a:ext cx="679320" cy="88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9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705800" y="4115880"/>
                  <a:ext cx="768240" cy="882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8" name=""/>
            <p:cNvSpPr/>
            <p:nvPr/>
          </p:nvSpPr>
          <p:spPr>
            <a:xfrm>
              <a:off x="685800" y="2133720"/>
              <a:ext cx="7792920" cy="286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0" y="3200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Puerto Montt- z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1588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de atracción de viajes (Dj) con destino distinto del hogar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ósito estud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periodo punta mañana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39258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3824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295280" y="2133720"/>
            <a:ext cx="7224480" cy="1496520"/>
            <a:chOff x="1295280" y="2133720"/>
            <a:chExt cx="7224480" cy="1496520"/>
          </a:xfrm>
        </p:grpSpPr>
        <p:grpSp>
          <p:nvGrpSpPr>
            <p:cNvPr id="266" name=""/>
            <p:cNvGrpSpPr/>
            <p:nvPr/>
          </p:nvGrpSpPr>
          <p:grpSpPr>
            <a:xfrm>
              <a:off x="1300680" y="2140560"/>
              <a:ext cx="7212600" cy="1481400"/>
              <a:chOff x="1300680" y="2140560"/>
              <a:chExt cx="7212600" cy="14814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1300680" y="2140560"/>
                <a:ext cx="1802880" cy="1481400"/>
                <a:chOff x="1300680" y="2140560"/>
                <a:chExt cx="1802880" cy="14814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353240" y="2140560"/>
                  <a:ext cx="1697040" cy="14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atrícula media colegio municipa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300680" y="2140560"/>
                  <a:ext cx="1802880" cy="148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103920" y="2140560"/>
                <a:ext cx="1802880" cy="1481400"/>
                <a:chOff x="3103920" y="2140560"/>
                <a:chExt cx="1802880" cy="148140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156480" y="2140560"/>
                  <a:ext cx="1697040" cy="14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atrícula media colegio particular subvencionad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103920" y="2140560"/>
                  <a:ext cx="1802880" cy="148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07160" y="2140560"/>
                <a:ext cx="1802880" cy="1481400"/>
                <a:chOff x="4907160" y="2140560"/>
                <a:chExt cx="1802880" cy="14814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959720" y="2140560"/>
                  <a:ext cx="1697040" cy="14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atrícula básica jornada mañ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07160" y="2140560"/>
                  <a:ext cx="1802880" cy="148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710400" y="2140560"/>
                <a:ext cx="1802880" cy="1481400"/>
                <a:chOff x="6710400" y="2140560"/>
                <a:chExt cx="1802880" cy="148140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6762960" y="2140560"/>
                  <a:ext cx="1697040" cy="14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R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710400" y="2140560"/>
                  <a:ext cx="1802880" cy="148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295280" y="2133720"/>
              <a:ext cx="7224480" cy="1496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295280" y="3657600"/>
            <a:ext cx="7238880" cy="1066320"/>
            <a:chOff x="1295280" y="3657600"/>
            <a:chExt cx="7238880" cy="1066320"/>
          </a:xfrm>
        </p:grpSpPr>
        <p:grpSp>
          <p:nvGrpSpPr>
            <p:cNvPr id="281" name=""/>
            <p:cNvGrpSpPr/>
            <p:nvPr/>
          </p:nvGrpSpPr>
          <p:grpSpPr>
            <a:xfrm>
              <a:off x="1300680" y="3663360"/>
              <a:ext cx="7227000" cy="1053720"/>
              <a:chOff x="1300680" y="3663360"/>
              <a:chExt cx="7227000" cy="105372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1300680" y="3663360"/>
                <a:ext cx="1806480" cy="1053720"/>
                <a:chOff x="1300680" y="3663360"/>
                <a:chExt cx="1806480" cy="10537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353240" y="3663360"/>
                  <a:ext cx="1700640" cy="105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59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5,1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300680" y="3663360"/>
                  <a:ext cx="1806480" cy="105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107520" y="3663360"/>
                <a:ext cx="1806480" cy="1053720"/>
                <a:chOff x="3107520" y="3663360"/>
                <a:chExt cx="1806480" cy="10537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160080" y="3663360"/>
                  <a:ext cx="1700640" cy="105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8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2,4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107520" y="3663360"/>
                  <a:ext cx="1806480" cy="105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4914360" y="3663360"/>
                <a:ext cx="1806480" cy="1053720"/>
                <a:chOff x="4914360" y="3663360"/>
                <a:chExt cx="1806480" cy="10537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4966920" y="3663360"/>
                  <a:ext cx="1700640" cy="105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95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11,1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914360" y="3663360"/>
                  <a:ext cx="1806480" cy="105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6721200" y="3663360"/>
                <a:ext cx="1806480" cy="1053720"/>
                <a:chOff x="6721200" y="3663360"/>
                <a:chExt cx="1806480" cy="10537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6773760" y="3663360"/>
                  <a:ext cx="1700640" cy="105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8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721200" y="3663360"/>
                  <a:ext cx="1806480" cy="105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4" name=""/>
            <p:cNvSpPr/>
            <p:nvPr/>
          </p:nvSpPr>
          <p:spPr>
            <a:xfrm>
              <a:off x="1295280" y="3657600"/>
              <a:ext cx="7238880" cy="1066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val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Puerto Montt- z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1588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de atracción de viajes (Dj) con destino distinto del hogar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ropósito otr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periodo punta mañana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39258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39258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3508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538280" y="2133720"/>
            <a:ext cx="6081480" cy="2288520"/>
            <a:chOff x="1538280" y="2133720"/>
            <a:chExt cx="6081480" cy="2288520"/>
          </a:xfrm>
        </p:grpSpPr>
        <p:grpSp>
          <p:nvGrpSpPr>
            <p:cNvPr id="302" name=""/>
            <p:cNvGrpSpPr/>
            <p:nvPr/>
          </p:nvGrpSpPr>
          <p:grpSpPr>
            <a:xfrm>
              <a:off x="1542960" y="2139480"/>
              <a:ext cx="6071400" cy="2276280"/>
              <a:chOff x="1542960" y="2139480"/>
              <a:chExt cx="6071400" cy="227628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1542960" y="2139480"/>
                <a:ext cx="1517400" cy="1251360"/>
                <a:chOff x="1542960" y="2139480"/>
                <a:chExt cx="1517400" cy="12513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587240" y="2139480"/>
                  <a:ext cx="1428480" cy="12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Superficie oficina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542960" y="2139480"/>
                  <a:ext cx="1517400" cy="12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060720" y="2139480"/>
                <a:ext cx="1517400" cy="1251360"/>
                <a:chOff x="3060720" y="2139480"/>
                <a:chExt cx="1517400" cy="12513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105000" y="2139480"/>
                  <a:ext cx="1428480" cy="12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úmero de atenciones médicas anu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60720" y="2139480"/>
                  <a:ext cx="1517400" cy="12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578840" y="2139480"/>
                <a:ext cx="1517400" cy="1251360"/>
                <a:chOff x="4578840" y="2139480"/>
                <a:chExt cx="1517400" cy="12513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623120" y="2139480"/>
                  <a:ext cx="1428480" cy="12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atrícula básica jornada mañan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578840" y="2139480"/>
                  <a:ext cx="1517400" cy="12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096960" y="2139480"/>
                <a:ext cx="1517400" cy="1251360"/>
                <a:chOff x="6096960" y="2139480"/>
                <a:chExt cx="1517400" cy="12513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141240" y="2139480"/>
                  <a:ext cx="1428480" cy="12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R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096960" y="2139480"/>
                  <a:ext cx="1517400" cy="125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1542960" y="3391200"/>
                <a:ext cx="1517400" cy="1024560"/>
                <a:chOff x="1542960" y="3391200"/>
                <a:chExt cx="1517400" cy="10245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1587240" y="3391200"/>
                  <a:ext cx="1428480" cy="102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26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15,6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542960" y="3391200"/>
                  <a:ext cx="1517400" cy="102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060720" y="3391200"/>
                <a:ext cx="1517400" cy="1024560"/>
                <a:chOff x="3060720" y="3391200"/>
                <a:chExt cx="1517400" cy="10245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105000" y="3391200"/>
                  <a:ext cx="1428480" cy="102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0041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10,7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060720" y="3391200"/>
                  <a:ext cx="1517400" cy="102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578840" y="3391200"/>
                <a:ext cx="1517400" cy="1024560"/>
                <a:chOff x="4578840" y="3391200"/>
                <a:chExt cx="1517400" cy="10245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623120" y="3391200"/>
                  <a:ext cx="1428480" cy="102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1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5,8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578840" y="3391200"/>
                  <a:ext cx="1517400" cy="102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6096960" y="3391200"/>
                <a:ext cx="1517400" cy="1024560"/>
                <a:chOff x="6096960" y="3391200"/>
                <a:chExt cx="1517400" cy="10245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141240" y="3391200"/>
                  <a:ext cx="1428480" cy="102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9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096960" y="3391200"/>
                  <a:ext cx="1517400" cy="102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7" name=""/>
            <p:cNvSpPr/>
            <p:nvPr/>
          </p:nvSpPr>
          <p:spPr>
            <a:xfrm>
              <a:off x="1538280" y="2133720"/>
              <a:ext cx="6081480" cy="228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6" dur="indefinite" restart="never" nodeType="tmRoot">
          <p:childTnLst>
            <p:seq>
              <p:cTn id="1677" dur="indefinite" nodeType="mainSeq">
                <p:childTnLst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38080" y="3808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Puerto Montt-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392580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-7632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600200"/>
            <a:ext cx="8534160" cy="4193640"/>
            <a:chOff x="380880" y="1600200"/>
            <a:chExt cx="8534160" cy="4193640"/>
          </a:xfrm>
        </p:grpSpPr>
        <p:grpSp>
          <p:nvGrpSpPr>
            <p:cNvPr id="332" name=""/>
            <p:cNvGrpSpPr/>
            <p:nvPr/>
          </p:nvGrpSpPr>
          <p:grpSpPr>
            <a:xfrm>
              <a:off x="387000" y="1605240"/>
              <a:ext cx="8520840" cy="4182480"/>
              <a:chOff x="387000" y="1605240"/>
              <a:chExt cx="8520840" cy="41824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387000" y="1605240"/>
                <a:ext cx="1216800" cy="1358640"/>
                <a:chOff x="387000" y="1605240"/>
                <a:chExt cx="1216800" cy="13586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446400" y="1605240"/>
                  <a:ext cx="1097640" cy="13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87000" y="1605240"/>
                  <a:ext cx="1216800" cy="13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1604160" y="1605240"/>
                <a:ext cx="1216800" cy="1358640"/>
                <a:chOff x="1604160" y="1605240"/>
                <a:chExt cx="1216800" cy="13586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1664280" y="1605240"/>
                  <a:ext cx="1096920" cy="13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úmero de emple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604160" y="1605240"/>
                  <a:ext cx="1216800" cy="13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821320" y="1605240"/>
                <a:ext cx="1216800" cy="1358640"/>
                <a:chOff x="2821320" y="1605240"/>
                <a:chExt cx="1216800" cy="13586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2881440" y="1605240"/>
                  <a:ext cx="1096920" cy="13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úmero de estu-diant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821320" y="1605240"/>
                  <a:ext cx="1216800" cy="13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038480" y="1605240"/>
                <a:ext cx="1217160" cy="1358640"/>
                <a:chOff x="4038480" y="1605240"/>
                <a:chExt cx="1217160" cy="1358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098600" y="1605240"/>
                  <a:ext cx="1096920" cy="13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Número de resi-dent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038480" y="1605240"/>
                  <a:ext cx="1217160" cy="13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256360" y="1605240"/>
                <a:ext cx="1216800" cy="1358640"/>
                <a:chOff x="5256360" y="1605240"/>
                <a:chExt cx="1216800" cy="13586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315760" y="1605240"/>
                  <a:ext cx="1096920" cy="13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gares con un au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256360" y="1605240"/>
                  <a:ext cx="1216800" cy="13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6473520" y="1605240"/>
                <a:ext cx="1216800" cy="1358640"/>
                <a:chOff x="6473520" y="1605240"/>
                <a:chExt cx="1216800" cy="13586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532920" y="1605240"/>
                  <a:ext cx="1096920" cy="13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Hogares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 ó + au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473520" y="1605240"/>
                  <a:ext cx="1216800" cy="13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7691040" y="1605240"/>
                <a:ext cx="1216800" cy="1358640"/>
                <a:chOff x="7691040" y="1605240"/>
                <a:chExt cx="1216800" cy="13586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7750440" y="1605240"/>
                  <a:ext cx="1096920" cy="135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R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691040" y="1605240"/>
                  <a:ext cx="1216800" cy="135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387000" y="2964240"/>
                <a:ext cx="1216800" cy="941040"/>
                <a:chOff x="387000" y="2964240"/>
                <a:chExt cx="1216800" cy="9410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46400" y="2964240"/>
                  <a:ext cx="1097640" cy="94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1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2,91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87000" y="2964240"/>
                  <a:ext cx="1216800" cy="94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1604160" y="2964240"/>
                <a:ext cx="1216800" cy="941040"/>
                <a:chOff x="1604160" y="2964240"/>
                <a:chExt cx="1216800" cy="9410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664280" y="2964240"/>
                  <a:ext cx="1096920" cy="94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,9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8,02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604160" y="2964240"/>
                  <a:ext cx="1216800" cy="94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821320" y="2964240"/>
                <a:ext cx="1216800" cy="941040"/>
                <a:chOff x="2821320" y="2964240"/>
                <a:chExt cx="1216800" cy="941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881440" y="2964240"/>
                  <a:ext cx="1096920" cy="94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821320" y="2964240"/>
                  <a:ext cx="1216800" cy="94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038480" y="2964240"/>
                <a:ext cx="1217160" cy="941040"/>
                <a:chOff x="4038480" y="2964240"/>
                <a:chExt cx="1217160" cy="941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098600" y="2964240"/>
                  <a:ext cx="1096920" cy="94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0,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-1,06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038480" y="2964240"/>
                  <a:ext cx="1217160" cy="94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256360" y="2964240"/>
                <a:ext cx="1216800" cy="941040"/>
                <a:chOff x="5256360" y="2964240"/>
                <a:chExt cx="1216800" cy="9410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315760" y="2964240"/>
                  <a:ext cx="1096920" cy="94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,3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2,46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256360" y="2964240"/>
                  <a:ext cx="1216800" cy="94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73520" y="2964240"/>
                <a:ext cx="1216800" cy="941040"/>
                <a:chOff x="6473520" y="2964240"/>
                <a:chExt cx="1216800" cy="9410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532920" y="2964240"/>
                  <a:ext cx="1096920" cy="94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,5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2,09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73520" y="2964240"/>
                  <a:ext cx="1216800" cy="94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691040" y="2964240"/>
                <a:ext cx="1216800" cy="941040"/>
                <a:chOff x="7691040" y="2964240"/>
                <a:chExt cx="1216800" cy="9410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750440" y="2964240"/>
                  <a:ext cx="1096920" cy="94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99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691040" y="2964240"/>
                  <a:ext cx="1216800" cy="941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87000" y="3905640"/>
                <a:ext cx="1216800" cy="940680"/>
                <a:chOff x="387000" y="3905640"/>
                <a:chExt cx="1216800" cy="94068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446400" y="3905640"/>
                  <a:ext cx="109764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0,5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-0,61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87000" y="39056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1604160" y="3905640"/>
                <a:ext cx="1216800" cy="940680"/>
                <a:chOff x="1604160" y="3905640"/>
                <a:chExt cx="1216800" cy="9406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664280" y="39056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604160" y="39056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2821320" y="3905640"/>
                <a:ext cx="1216800" cy="940680"/>
                <a:chOff x="2821320" y="3905640"/>
                <a:chExt cx="1216800" cy="940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2881440" y="39056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9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4,01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821320" y="39056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4038480" y="3905640"/>
                <a:ext cx="1217160" cy="940680"/>
                <a:chOff x="4038480" y="3905640"/>
                <a:chExt cx="1217160" cy="9406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4098600" y="39056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3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4,18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038480" y="3905640"/>
                  <a:ext cx="121716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5256360" y="3905640"/>
                <a:ext cx="1216800" cy="940680"/>
                <a:chOff x="5256360" y="3905640"/>
                <a:chExt cx="1216800" cy="9406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315760" y="39056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1,8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3,79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256360" y="39056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6473520" y="3905640"/>
                <a:ext cx="1216800" cy="940680"/>
                <a:chOff x="6473520" y="3905640"/>
                <a:chExt cx="1216800" cy="9406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6532920" y="39056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2,1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1,97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73520" y="39056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7691040" y="3905640"/>
                <a:ext cx="1216800" cy="940680"/>
                <a:chOff x="7691040" y="3905640"/>
                <a:chExt cx="1216800" cy="94068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7750440" y="39056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94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691040" y="39056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387000" y="4847040"/>
                <a:ext cx="1216800" cy="940680"/>
                <a:chOff x="387000" y="4847040"/>
                <a:chExt cx="1216800" cy="9406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446400" y="4847040"/>
                  <a:ext cx="109764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-0,0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-1,36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387000" y="48470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604160" y="4847040"/>
                <a:ext cx="1216800" cy="940680"/>
                <a:chOff x="1604160" y="4847040"/>
                <a:chExt cx="1216800" cy="94068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664280" y="48470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8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2,00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604160" y="48470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821320" y="4847040"/>
                <a:ext cx="1216800" cy="940680"/>
                <a:chOff x="2821320" y="4847040"/>
                <a:chExt cx="1216800" cy="9406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2881440" y="48470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4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1,84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821320" y="48470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038480" y="4847040"/>
                <a:ext cx="1217160" cy="940680"/>
                <a:chOff x="4038480" y="4847040"/>
                <a:chExt cx="1217160" cy="9406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4098600" y="48470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038480" y="4847040"/>
                  <a:ext cx="121716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5256360" y="4847040"/>
                <a:ext cx="1216800" cy="940680"/>
                <a:chOff x="5256360" y="4847040"/>
                <a:chExt cx="1216800" cy="94068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315760" y="48470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7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1,91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256360" y="48470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473520" y="4847040"/>
                <a:ext cx="1216800" cy="940680"/>
                <a:chOff x="6473520" y="4847040"/>
                <a:chExt cx="1216800" cy="9406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532920" y="48470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3,1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2,37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473520" y="48470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7691040" y="4847040"/>
                <a:ext cx="1216800" cy="940680"/>
                <a:chOff x="7691040" y="4847040"/>
                <a:chExt cx="1216800" cy="9406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7750440" y="4847040"/>
                  <a:ext cx="1096920" cy="94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0,87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691040" y="4847040"/>
                  <a:ext cx="1216800" cy="94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380880" y="1600200"/>
              <a:ext cx="8534160" cy="4193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-76320" y="3900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-76320" y="4815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971800"/>
            <a:ext cx="533520" cy="1447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91120" y="2895480"/>
            <a:ext cx="914400" cy="838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743200"/>
            <a:ext cx="914400" cy="8380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33520" y="5105520"/>
            <a:ext cx="914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10080" y="5105520"/>
            <a:ext cx="914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71800" y="5105520"/>
            <a:ext cx="91440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520" y="3809880"/>
            <a:ext cx="914400" cy="8384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6" dur="indefinite" restart="never" nodeType="tmRoot">
          <p:childTnLst>
            <p:seq>
              <p:cTn id="1697" dur="indefinite" nodeType="mainSeq">
                <p:childTnLst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6" fill="hold">
                            <p:stCondLst>
                              <p:cond delay="500"/>
                            </p:stCondLst>
                            <p:childTnLst>
                              <p:par>
                                <p:cTn id="17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312560"/>
            <a:ext cx="2666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a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46440"/>
            <a:ext cx="8610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vimiento entre un origen y un destino, con un cierto propósito, en un cierto peri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aje basado en el hog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895480"/>
            <a:ext cx="8610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BH) aquel en que el origen o el destino del viaje es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viaje NO basado en el hog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3962520"/>
            <a:ext cx="861048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NBH) aquel en que               ningún extremo es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1541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Recomendaciones para la modelación de la generación de viajes mediante 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vitar usar modelos zonales en la medida de lo po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se usa modelos zonales, hacerlo para medias zonales y no para totales zo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será tan bueno como la validez de los test estadísticos re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acer un chequeo para analizar la lógica del modelo ¿capacidad predictiv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dos variables están correlacionadas, incluir aquella que tiene relación causal más directa con 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Recomendaciones para la modelación de la generación de viajes mediante regresión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modelo debe incluir todas las variables que estén sujetas a cambio en el periodo de análi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siderar la posible existencia de efectos no lin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Estabilidad temporal de los parámetros de regre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os coeficientes del modelo se mantienen constantes (o estables) con el tiempo (al menos durante el periodo de anális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Estabilidad espacial (transferabi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e ha testeado muy pocas veces, en general con resultado negativo, pero hay excep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Obtención de totales z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zonal: dir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hogar: trivial (line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66640" y="3809880"/>
                <a:ext cx="777564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 rot="16200000">
            <a:off x="3886200" y="2895480"/>
            <a:ext cx="457200" cy="3657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666880" y="4876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s. contin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16200000">
            <a:off x="7124760" y="3619080"/>
            <a:ext cx="533160" cy="2133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4876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s. mu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5486400"/>
            <a:ext cx="7772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antidad de hogares en que la variable muda k toma el val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838080" y="380880"/>
            <a:ext cx="777240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s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es distinto d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rre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114800" y="1752480"/>
                <a:ext cx="182556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838080" y="380880"/>
            <a:ext cx="77724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paradigma de modelación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nálisis por 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tegory analysi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sas estimadas empír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timar el número de hogares en cada categoría a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0" dur="indefinite" restart="never" nodeType="tmRoot">
          <p:childTnLst>
            <p:seq>
              <p:cTn id="1931" dur="indefinite" nodeType="mainSeq">
                <p:childTnLst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8600" y="380880"/>
            <a:ext cx="8915400" cy="64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nálisis por 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tegory analysi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(h):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romedio de viajes (dado el propósito y periodo) realizados por miembros de hogares tipo 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(h):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hogares tipo h en la zona i (categorías excluye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egir las categorías de modo que la varianza de las distribuciones de frecuencia de T(h) sea míni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es posible incluir variables que no están asociadas a los hogares, como accesibilidad, costo generalizado de transport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fill="hold">
                      <p:stCondLst>
                        <p:cond delay="indefinite"/>
                      </p:stCondLst>
                      <p:childTnLst>
                        <p:par>
                          <p:cTn id="1965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0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1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6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28600" y="304920"/>
            <a:ext cx="86868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nálisis por 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tegory analysi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jemplo origina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grupos de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asa de motorizació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(0, 1, 2 o + au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eis grupos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 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eis grupos de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structura del hogar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(1 adulto y 0 empleados, 2 o + adultos y 0 empleados, 1 empleado y 1 o – otros adultos, 1 empleado y 2 o + otros adultos, 2 o + empleados y 1 o – otros adultos, 2 o + empleados y 2 o + otros adult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ara predecir necesitamos distribución f(I,TM,E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0" dur="indefinite" restart="never" nodeType="tmRoot">
          <p:childTnLst>
            <p:seq>
              <p:cTn id="2001" dur="indefinite" nodeType="mainSeq">
                <p:childTnLst>
                  <p:par>
                    <p:cTn id="2002" fill="hold">
                      <p:stCondLst>
                        <p:cond delay="indefinite"/>
                      </p:stCondLst>
                      <p:childTnLst>
                        <p:par>
                          <p:cTn id="2003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28600" y="3049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nálisis por 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tegory analysi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entajas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ventaja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1676520"/>
            <a:ext cx="373356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 grupos son independientes de la zonific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requiere suponer forma fun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laciones entre VD y VI pueden ser distintas en las distintas cl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1654200"/>
            <a:ext cx="49528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permite extrapo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hay estadígraf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existe forma razonable de elegir entre variables o agrup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requiere muchos d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. original: 108 categorías, 4000 observaciones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8" dur="indefinite" restart="never" nodeType="tmRoot">
          <p:childTnLst>
            <p:seq>
              <p:cTn id="2039" dur="indefinite" nodeType="mainSeq">
                <p:childTnLst>
                  <p:par>
                    <p:cTn id="2040" fill="hold">
                      <p:stCondLst>
                        <p:cond delay="indefinite"/>
                      </p:stCondLst>
                      <p:childTnLst>
                        <p:par>
                          <p:cTn id="2041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1" dur="500" fill="hold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28600" y="30492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nálisis por 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tegory analysi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. original: 108 categorías, 4000 observaciones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2133720"/>
            <a:ext cx="236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ogares encues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1676520"/>
            <a:ext cx="68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600200"/>
            <a:ext cx="8153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2209680"/>
            <a:ext cx="8153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0880" y="3048120"/>
            <a:ext cx="81536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1658880"/>
            <a:ext cx="1371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-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467480" y="1676520"/>
            <a:ext cx="1067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00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43400" y="1676520"/>
            <a:ext cx="1371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0-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91320" y="1676520"/>
            <a:ext cx="1523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00-1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0880" y="3581280"/>
            <a:ext cx="8001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ofisticación de la misma idea básica: Análisis de clasificación múltiple (ACM) Stopher y McDonald (1983) Trip generation by cross classification: an alternative methodology. Transportation Research Record 94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sado en ANO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0" dur="indefinite" restart="never" nodeType="tmRoot">
          <p:childTnLst>
            <p:seq>
              <p:cTn id="2101" dur="indefinite" nodeType="mainSeq">
                <p:childTnLst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8" fill="hold">
                      <p:stCondLst>
                        <p:cond delay="indefinite"/>
                      </p:stCondLst>
                      <p:childTnLst>
                        <p:par>
                          <p:cTn id="2109" fill="hold">
                            <p:stCondLst>
                              <p:cond delay="0"/>
                            </p:stCondLst>
                            <p:childTnLst>
                              <p:par>
                                <p:cTn id="2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2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3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fill="hold">
                      <p:stCondLst>
                        <p:cond delay="indefinite"/>
                      </p:stCondLst>
                      <p:childTnLst>
                        <p:par>
                          <p:cTn id="2115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9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80880" y="457200"/>
            <a:ext cx="8763120" cy="59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álisis de clasificación múltiple (ACM) Peter Stopher y Kathie McDonald (1983) 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Trip generation by cross classification: an alternative methodology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ransportation Research Record 9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sado en 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0 – 60s – generación principalmente por reg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icialmente datos z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nivel de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70s – apareció cross classification (USA) o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tegory analysis (U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380880"/>
            <a:ext cx="17524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81480" y="457200"/>
            <a:ext cx="20574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833480"/>
            <a:ext cx="17524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1828800"/>
            <a:ext cx="205740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5335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8380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9720" y="9144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6094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14600" y="22860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2860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198108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19810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2895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895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remo hogar de un viaje BH, origen de un viaje N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76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523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22240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3886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tr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8862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remo NO hogar de un viaje BH, destino  de un viaje NB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152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48320" y="8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22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15382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7621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876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952880"/>
            <a:ext cx="32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9528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de viajes que tienen origen en la zona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562720"/>
            <a:ext cx="327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56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tal de viajes que tienen destino en la zona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80880" y="457200"/>
            <a:ext cx="8763120" cy="54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íticas de Stopher y McDonald a cross clas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hay indicador de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bondad de aju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 valores de las celdas son d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distinta confi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 menos confiables son los de las celdas en los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xtr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hay forma efectiva d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legi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ntre variables y agrup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a información sobr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varianza intrazona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s suprim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6" dur="indefinite" restart="never" nodeType="tmRoot">
          <p:childTnLst>
            <p:seq>
              <p:cTn id="2207" dur="indefinite" nodeType="mainSeq">
                <p:childTnLst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3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80880" y="457200"/>
            <a:ext cx="87631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Método pro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see un poderoso procedimiento de 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selección de variables y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deriva en forma simple a partir de 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sponible en algunos paquetes estadís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6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7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2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8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380880" y="457200"/>
            <a:ext cx="876312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wo way A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ariable dependiente continua (por ejemplo, tasa de generación de viaj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lcular la media sobre toda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lcular la media para cada grupo sobre cada variable inde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da media grupal puede ser expresada como una desviación de la media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 valor de cada celda se estima como la media global más las desviaciones de la fila y columna correspond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4" fill="hold">
                      <p:stCondLst>
                        <p:cond delay="indefinite"/>
                      </p:stCondLst>
                      <p:childTnLst>
                        <p:par>
                          <p:cTn id="2285" fill="hold">
                            <p:stCondLst>
                              <p:cond delay="0"/>
                            </p:stCondLst>
                            <p:childTnLst>
                              <p:par>
                                <p:cTn id="2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8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4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08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33520" y="984240"/>
            <a:ext cx="1523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maño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ó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1080" y="83808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514600" y="380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Comic Sans MS"/>
              </a:rPr>
              <a:t>Número de hog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133720" y="205740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808080"/>
                </a:solidFill>
                <a:latin typeface="Comic Sans MS"/>
              </a:rPr>
              <a:t>28     21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mic Sans MS"/>
              </a:rPr>
              <a:t>150   201     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808080"/>
                </a:solidFill>
                <a:latin typeface="Comic Sans MS"/>
              </a:rPr>
              <a:t>61     90     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808080"/>
                </a:solidFill>
                <a:latin typeface="Comic Sans MS"/>
              </a:rPr>
              <a:t>37    142    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52280" y="2057400"/>
            <a:ext cx="8610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057400" y="1066680"/>
            <a:ext cx="0" cy="556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4572000"/>
            <a:ext cx="8534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105520" y="1066680"/>
            <a:ext cx="0" cy="556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029200" y="12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029200" y="2057400"/>
            <a:ext cx="1066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4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2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2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4648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otal        276   454   258   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19920" y="1066680"/>
            <a:ext cx="0" cy="556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43600" y="12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943600" y="2057400"/>
            <a:ext cx="1066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0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1,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1,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1,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34320" y="1066680"/>
            <a:ext cx="0" cy="556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58000" y="1295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Des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010280" y="2057400"/>
            <a:ext cx="1676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-1,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-0,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0,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0,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320" y="51814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asa viajes  0,73   1,53  2,44         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1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2280" y="5181480"/>
            <a:ext cx="8534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280" y="5715000"/>
            <a:ext cx="8534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320" y="5791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Des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8108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-0,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57913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=0,73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-1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57913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-0,01  0,90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8" dur="indefinite" restart="never" nodeType="tmRoot">
          <p:childTnLst>
            <p:seq>
              <p:cTn id="2309" dur="indefinite" nodeType="mainSeq">
                <p:childTnLst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500"/>
                            </p:stCondLst>
                            <p:childTnLst>
                              <p:par>
                                <p:cTn id="2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9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3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3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1" dur="3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2" dur="3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3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4" dur="3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3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1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6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7" dur="500" fill="hold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8" dur="3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9" dur="3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0" fill="hold">
                      <p:stCondLst>
                        <p:cond delay="indefinite"/>
                      </p:stCondLst>
                      <p:childTnLst>
                        <p:par>
                          <p:cTn id="2431" fill="hold">
                            <p:stCondLst>
                              <p:cond delay="0"/>
                            </p:stCondLst>
                            <p:childTnLst>
                              <p:par>
                                <p:cTn id="2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fill="hold">
                      <p:stCondLst>
                        <p:cond delay="indefinite"/>
                      </p:stCondLst>
                      <p:childTnLst>
                        <p:par>
                          <p:cTn id="2443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3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3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3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5" dur="3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6" dur="3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78" fill="hold">
                      <p:stCondLst>
                        <p:cond delay="indefinite"/>
                      </p:stCondLst>
                      <p:childTnLst>
                        <p:par>
                          <p:cTn id="2479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2" dur="3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3" dur="3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4" fill="hold">
                      <p:stCondLst>
                        <p:cond delay="indefinite"/>
                      </p:stCondLst>
                      <p:childTnLst>
                        <p:par>
                          <p:cTn id="2485" fill="hold">
                            <p:stCondLst>
                              <p:cond delay="0"/>
                            </p:stCondLst>
                            <p:childTnLst>
                              <p:par>
                                <p:cTn id="2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2" fill="hold">
                      <p:stCondLst>
                        <p:cond delay="indefinite"/>
                      </p:stCondLst>
                      <p:childTnLst>
                        <p:par>
                          <p:cTn id="2503" fill="hold">
                            <p:stCondLst>
                              <p:cond delay="0"/>
                            </p:stCondLst>
                            <p:childTnLst>
                              <p:par>
                                <p:cTn id="2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08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3520" y="984240"/>
            <a:ext cx="1523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maño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ó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81080" y="83808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28800" y="20574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1,54</a:t>
            </a:r>
            <a:r>
              <a:rPr b="0" lang="es-ES_tradnl" sz="2800" spc="-1" strike="noStrike">
                <a:solidFill>
                  <a:srgbClr val="d60093"/>
                </a:solidFill>
                <a:latin typeface="Comic Sans MS"/>
              </a:rPr>
              <a:t>-1,07-0,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2057400"/>
            <a:ext cx="8610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57400" y="1066680"/>
            <a:ext cx="0" cy="556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4572000"/>
            <a:ext cx="8534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1066680"/>
            <a:ext cx="0" cy="556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029200" y="12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029200" y="2057400"/>
            <a:ext cx="1066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4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2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26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46483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otal        276   454   258   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9920" y="1066680"/>
            <a:ext cx="0" cy="556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3600" y="1295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43600" y="2057400"/>
            <a:ext cx="1066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0,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1,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1,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1,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34320" y="1066680"/>
            <a:ext cx="0" cy="5562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0" y="1295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Desv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10280" y="2057400"/>
            <a:ext cx="1676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-1,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-0,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0,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0,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51814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Tasa viajes  0,73   1,53  2,44         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1,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5181480"/>
            <a:ext cx="8534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2280" y="5715000"/>
            <a:ext cx="8534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6320" y="57913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60093"/>
                </a:solidFill>
                <a:latin typeface="Comic Sans MS"/>
              </a:rPr>
              <a:t>Desviación  -0,81  -0,01  0,90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057400" y="2057400"/>
            <a:ext cx="2895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,00  0,46  1,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,46  1,27  2,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,05   1,85  2,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,09   1,89  2,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4" dur="indefinite" restart="never" nodeType="tmRoot">
          <p:childTnLst>
            <p:seq>
              <p:cTn id="2515" dur="indefinite" nodeType="mainSeq">
                <p:childTnLst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3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3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3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3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3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300" fill="hold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80880" y="457200"/>
            <a:ext cx="876312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upuesto implícito: el efecto de ambas variables es </a:t>
            </a:r>
            <a:r>
              <a:rPr b="0" lang="en-GB" sz="2800" spc="-1" strike="noStrike">
                <a:solidFill>
                  <a:srgbClr val="ff3300"/>
                </a:solidFill>
                <a:latin typeface="Comic Sans MS"/>
              </a:rPr>
              <a:t>independiente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Si existe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interacciones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 debe ajustar las desviaciones para considerar inter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mar una media ponderada de las medias grupales de una v.i. sobre los grupos de las ot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adígraf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, R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ara el modelo general, para las intera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ara la contribución de cada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4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6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2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8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4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457200"/>
            <a:ext cx="876312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ntajas sobre el método anteri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stadígraf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s valores por celda contienen más 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mite modelar casos extr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tes de aplicar M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plicar ANOVA entre VD y cada una de las VI pot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valuar qué variables tienen una fuerte relación con V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gir la mejor forma de agrup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1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2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7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8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3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4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9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0" dur="5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5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6" dur="5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1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2" dur="500" fill="hold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7" dur="5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8" dur="500" fill="hold"/>
                                        <p:tgtEl>
                                          <p:spTgt spid="5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3" dur="500" fill="hold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4" dur="500" fill="hold"/>
                                        <p:tgtEl>
                                          <p:spTgt spid="5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sas calculadas por análisis por categorías para los mismos datos anterio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1817640"/>
            <a:ext cx="1523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maño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ó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47920" y="167148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2890800"/>
            <a:ext cx="2895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,12  0,94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,60  1,38  2,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,14   1,74  2,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,02   1,69  2,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76920" y="1671480"/>
            <a:ext cx="3200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2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952880" y="2890800"/>
            <a:ext cx="2895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,00  0,46  1,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,46  1,27  2,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,05   1,85  2,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,09   1,89  2,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1600" y="1676520"/>
            <a:ext cx="0" cy="3809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1676520"/>
            <a:ext cx="0" cy="3809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2819520"/>
            <a:ext cx="44197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2819520"/>
            <a:ext cx="3352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5" dur="indefinite" restart="never" nodeType="tmRoot">
          <p:childTnLst>
            <p:seq>
              <p:cTn id="2636" dur="indefinite" nodeType="mainSeq">
                <p:childTnLst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500"/>
                            </p:stCondLst>
                            <p:childTnLst>
                              <p:par>
                                <p:cTn id="2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3" dur="3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4" dur="3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3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300" fill="hold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3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300" fill="hold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3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300" fill="hold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9" fill="hold">
                            <p:stCondLst>
                              <p:cond delay="500"/>
                            </p:stCondLst>
                            <p:childTnLst>
                              <p:par>
                                <p:cTn id="2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-457200"/>
            <a:ext cx="845820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Propósitos de via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ras y trám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cial-recre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48200" y="380880"/>
            <a:ext cx="381492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gregación tempo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nta - 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ana - fin de se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caciones -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38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5053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Variables que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quellas que representan la localización de actividades (necesidad de viaja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lguna medida de costo o impedancia (si hay mucha congestión, trataré de viajar meno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viajes pers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riables que representan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ización de los hogares y características de esos ho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calización de actividades que se realizan fuera d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5335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ables que representan el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 dificultad de via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a todos les afecta igu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omic Sans MS"/>
              </a:rPr>
              <a:t>Viajes de ca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os de 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generación de viaj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cuatro tipos de modelos que se basan en distintos paradig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actor de crecimien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visto en CI43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 de reg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 de Clasificación Múlt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“activity base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91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Análisis de regresión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cordemos (Pindych y Rubinfeld, 198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 Y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3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+ . . .  +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k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: ob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variable de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variables explic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coeficientes de regresión pa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&lt;==&gt; y=X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,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vectores    X: matri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914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1:58:51Z</dcterms:created>
  <dc:creator>Marcela Munizaga</dc:creator>
  <dc:description/>
  <dc:language>en-US</dc:language>
  <cp:lastModifiedBy>Marcela Munizaga</cp:lastModifiedBy>
  <dcterms:modified xsi:type="dcterms:W3CDTF">2009-03-11T17:58:59Z</dcterms:modified>
  <cp:revision>94</cp:revision>
  <dc:subject/>
  <dc:title>CI53I/CI73A Demanda de Transporte Clase 9/3/05</dc:title>
</cp:coreProperties>
</file>