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392720"/>
            <a:ext cx="8229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92720"/>
            <a:ext cx="40158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92720"/>
            <a:ext cx="40158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392720"/>
            <a:ext cx="2649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392720"/>
            <a:ext cx="2649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392720"/>
            <a:ext cx="2649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CA9A-0C71-4B1A-8377-18F8AEDB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8C3-B871-4A05-9C7B-5E68DE82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FCD-8EDB-4FDB-B9CB-827E7E07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D2E-C50A-484F-AFD1-90CAFC07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B86-2413-414B-B852-4741E8A8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98AD-94A7-4589-933F-5E82A9A2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92720"/>
            <a:ext cx="40158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423B-283B-42BF-9193-6FA204C5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92720"/>
            <a:ext cx="40158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03A-A775-4ED8-BB14-8E81C2CB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92720"/>
            <a:ext cx="8229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F817-AD19-4255-A702-2D8C3018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92720"/>
            <a:ext cx="8229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3F3E-4561-43FE-AB19-EDF854ED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92720"/>
            <a:ext cx="40158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92720"/>
            <a:ext cx="40158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CAC-F124-4A45-BDB1-51D70F3B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92720"/>
            <a:ext cx="2649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92720"/>
            <a:ext cx="2649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92720"/>
            <a:ext cx="2649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CA23-81E1-479E-AC6F-DE5543BC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392720"/>
            <a:ext cx="40158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92720"/>
            <a:ext cx="40158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92720"/>
            <a:ext cx="8229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48B4-97DA-44F4-B609-564F83FCAE7E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stos Indirec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STOS INDIREC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ementos de segur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ementos de protección personal (casco, zapatos, arnés, máscara facial, gafas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unque debieran ir en las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Leyes Sociales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suelen incluirse en los Gastos Gene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ehículos y pasaj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onetas y camiones, con combustible y manten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sajes para descanso del personal superior y obr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STOS INDIREC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boratorio y ensay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nsidad de suelos, radiografías de soldaduras, resistencia de hormigone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mis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 construcción, instalación de grúa, uso de vereda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STOS INDIREC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0" name="Object 376"/>
          <p:cNvGraphicFramePr/>
          <p:nvPr/>
        </p:nvGraphicFramePr>
        <p:xfrm>
          <a:off x="1258920" y="1440000"/>
          <a:ext cx="6913440" cy="53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Object 37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40000"/>
                    <a:ext cx="6913440" cy="53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STOS INDIREC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3" name="Object 6"/>
          <p:cNvGraphicFramePr/>
          <p:nvPr/>
        </p:nvGraphicFramePr>
        <p:xfrm>
          <a:off x="324000" y="1773360"/>
          <a:ext cx="8550000" cy="237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73360"/>
                    <a:ext cx="8550000" cy="23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8"/>
          <p:cNvSpPr/>
          <p:nvPr/>
        </p:nvSpPr>
        <p:spPr>
          <a:xfrm>
            <a:off x="324000" y="4221000"/>
            <a:ext cx="849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Dependiendo de la naturaleza de las obras los gastos generales pueden representar diversos porcentajes respecto del costo direc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Obras habitacionales, educacionales 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12% - 2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Obras civiles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15% - 4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Obras especiales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50% o má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5564160" y="2521080"/>
            <a:ext cx="865080" cy="372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STO DE LA MANO DE OB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osición del sueldo de un trabajad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ueldo Bru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scuentos previsión (Salud, AFP, AFC) Aproximadamente un 20% del sueldo bru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ueldo líquido (el remanente después de hacer los descuent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sde el punto de vista de la empresa hay otros costos adicionales, llamados Leyes Soci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STO DE LA MANO DE OB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eyes Soci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ligatorias (exigidas por la legislación labor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oluntarias, en gran medida dictadas por la tradi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representan como un porcentaje sobre el Sueldo Bruto (promedio) de los trabajad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Leyes Soci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2" name="Object 54"/>
          <p:cNvGraphicFramePr/>
          <p:nvPr/>
        </p:nvGraphicFramePr>
        <p:xfrm>
          <a:off x="611280" y="1700280"/>
          <a:ext cx="4176720" cy="224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5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417672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56"/>
          <p:cNvGraphicFramePr/>
          <p:nvPr/>
        </p:nvGraphicFramePr>
        <p:xfrm>
          <a:off x="4788000" y="4365720"/>
          <a:ext cx="4032000" cy="1898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5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365720"/>
                    <a:ext cx="4032000" cy="18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AutoShape 58"/>
          <p:cNvSpPr/>
          <p:nvPr/>
        </p:nvSpPr>
        <p:spPr>
          <a:xfrm rot="5400000">
            <a:off x="5578920" y="2061360"/>
            <a:ext cx="1657080" cy="2087640"/>
          </a:xfrm>
          <a:prstGeom prst="pie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Leyes Soci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8" name="Object 8"/>
          <p:cNvGraphicFramePr/>
          <p:nvPr/>
        </p:nvGraphicFramePr>
        <p:xfrm>
          <a:off x="539640" y="1773360"/>
          <a:ext cx="828036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82803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Leyes Soci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1" name="Object 5"/>
          <p:cNvGraphicFramePr/>
          <p:nvPr/>
        </p:nvGraphicFramePr>
        <p:xfrm>
          <a:off x="250920" y="2347920"/>
          <a:ext cx="8497800" cy="223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347920"/>
                    <a:ext cx="84978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Leyes Soci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395280" y="2205000"/>
          <a:ext cx="8497800" cy="327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497800" cy="32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RESUPUES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tructura de un presu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sto dir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stos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t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mpues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4140360" y="2637000"/>
            <a:ext cx="360360" cy="936360"/>
          </a:xfrm>
          <a:custGeom>
            <a:avLst/>
            <a:gdLst>
              <a:gd name="textAreaLeft" fmla="*/ 0 w 360360"/>
              <a:gd name="textAreaRight" fmla="*/ 129960 w 360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572000" y="278136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sto de constr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Leyes Soci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250920" y="1916280"/>
          <a:ext cx="8497800" cy="273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16280"/>
                    <a:ext cx="8497800" cy="27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RESUPUES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cepto clásico del </a:t>
            </a: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Work Breakdown Structure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Top Down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so del </a:t>
            </a:r>
            <a:r>
              <a:rPr b="0" i="1" lang="es-ES_tradnl" sz="3600" spc="-1" strike="noStrike">
                <a:solidFill>
                  <a:srgbClr val="ffffff"/>
                </a:solidFill>
                <a:latin typeface="Tahoma"/>
              </a:rPr>
              <a:t>qué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al </a:t>
            </a:r>
            <a:r>
              <a:rPr b="0" i="1" lang="es-ES_tradnl" sz="3600" spc="-1" strike="noStrike">
                <a:solidFill>
                  <a:srgbClr val="ffffff"/>
                </a:solidFill>
                <a:latin typeface="Tahoma"/>
              </a:rPr>
              <a:t>cóm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tructura tipo árbol del </a:t>
            </a:r>
            <a:r>
              <a:rPr b="0" i="1" lang="es-ES_tradnl" sz="3600" spc="-1" strike="noStrike">
                <a:solidFill>
                  <a:srgbClr val="ffffff"/>
                </a:solidFill>
                <a:latin typeface="Tahoma"/>
              </a:rPr>
              <a:t>costo directo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pítul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ubcapítul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rtidas (Análisis de Precios Unitari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sumos (materiales, mano de obra, maquinarias y subcontrat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STOS INDIREC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ambién conocidos como “Gastos Generales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mprenden todos aquellos costos que NO se pueden asociar a alguna partida de obra en partic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uelen incorporarse al presupuesto como un porcentaje sobre el costo direc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eneralmente se pagan en forma proporcional al avance de la obra, aunque en realidad tienen otra distribución en el tiem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STOS INDIREC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istribución tempo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Line 5"/>
          <p:cNvSpPr/>
          <p:nvPr/>
        </p:nvSpPr>
        <p:spPr>
          <a:xfrm>
            <a:off x="826920" y="6093000"/>
            <a:ext cx="7561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Line 6"/>
          <p:cNvSpPr/>
          <p:nvPr/>
        </p:nvSpPr>
        <p:spPr>
          <a:xfrm flipV="1">
            <a:off x="826920" y="2997000"/>
            <a:ext cx="0" cy="30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116000" y="3573360"/>
            <a:ext cx="503280" cy="2519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050920" y="4941720"/>
            <a:ext cx="503280" cy="115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843280" y="4941720"/>
            <a:ext cx="503280" cy="115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635280" y="4941720"/>
            <a:ext cx="503280" cy="115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Oval 11"/>
          <p:cNvSpPr/>
          <p:nvPr/>
        </p:nvSpPr>
        <p:spPr>
          <a:xfrm>
            <a:off x="4643280" y="5373720"/>
            <a:ext cx="14472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Oval 12"/>
          <p:cNvSpPr/>
          <p:nvPr/>
        </p:nvSpPr>
        <p:spPr>
          <a:xfrm>
            <a:off x="4932360" y="5373720"/>
            <a:ext cx="14436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5219640" y="5373720"/>
            <a:ext cx="14436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5651640" y="4941720"/>
            <a:ext cx="502920" cy="115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6443640" y="4941720"/>
            <a:ext cx="503280" cy="115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7308720" y="3933720"/>
            <a:ext cx="503280" cy="2159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AutoShape 17"/>
          <p:cNvSpPr/>
          <p:nvPr/>
        </p:nvSpPr>
        <p:spPr>
          <a:xfrm rot="5400000">
            <a:off x="4103280" y="1736280"/>
            <a:ext cx="792360" cy="5040360"/>
          </a:xfrm>
          <a:custGeom>
            <a:avLst/>
            <a:gdLst>
              <a:gd name="textAreaLeft" fmla="*/ 506160 w 792360"/>
              <a:gd name="textAreaRight" fmla="*/ 792720 w 792360"/>
              <a:gd name="textAreaTop" fmla="*/ 131400 h 5040360"/>
              <a:gd name="textAreaBottom" fmla="*/ 490896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1908000" y="2997360"/>
            <a:ext cx="525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proximadamente consta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ersonal y consumos mayoritariam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25092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$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6372360" y="6237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iemp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STOS INDIREC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sonal de dirección, supervisión y otros fij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genieros, jefe de obra, capataces, bodeguero, alistador (administrativo), portero, mecánico, operadores, ayudantes vario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emás en caso de obras apartadas hay que incluir viá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stituyen la mayor parte de los Gastos Generales, hasta el 80% en algunos cas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STOS INDIREC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stalaciones provisor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mpalmes e instalaciones provisorias de agua, alcantarillado, electricidad, comunicaciones y g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nstrucciones provisorias (oficinas, bodegas, talleres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nsumos (agua, electricidad, teléfono, petróleo, gas, 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lgunas son reutilizables, por lo que suele cobrarse sólo un porcentajes de las construcciones e instalaciones provisori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STOS INDIREC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quinarias y equipos (NO asociados a ninguna partida en particula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Grúa, elevadores de plataforma, tractores, bomba de hormig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ndamios y tabl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Herramientas menores: esmeriles, taladros, fragua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stos financieros y leg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taría, intereses de la boletas de garantía, primas de los seguros, intereses del financi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STOS INDIREC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le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letes para transporte de instalación de faenas, equipos principales, retiro de escombros (a veces se cotiza explícitamente en el costo direct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teriales, consumos y equipamiento de ofici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pias y ploteo de planos, fotocopias, papele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mputadores, fax, impresoras, plo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ja ch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22:37:57Z</dcterms:created>
  <dc:creator>William Wragg L.</dc:creator>
  <dc:description/>
  <dc:language>en-US</dc:language>
  <cp:lastModifiedBy>William Wragg</cp:lastModifiedBy>
  <dcterms:modified xsi:type="dcterms:W3CDTF">2009-03-24T12:36:31Z</dcterms:modified>
  <cp:revision>25</cp:revision>
  <dc:subject/>
  <dc:title>Diapositiva 1</dc:title>
</cp:coreProperties>
</file>