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2960" y="9594720"/>
            <a:ext cx="296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A0B58-8760-4877-8268-F62DA68BDFE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18040" cy="4381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Img"/>
          </p:nvPr>
        </p:nvSpPr>
        <p:spPr>
          <a:xfrm>
            <a:off x="784080" y="740880"/>
            <a:ext cx="5274000" cy="36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522000" y="4641480"/>
            <a:ext cx="6124680" cy="5522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Especificando objetos en forma abstracta. Lo esencial en un  stack es que sirve para almacenar datos (contenedor) en forma de pila: “el último que llega es el primero que sale. Ejemplo: pila de libros. Las típicas operaciones de un stack 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push (put)    - pop (remove)      - top (item)  - empty       -  creador o inicializador (mak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El paso clave para definir un buen tipo de datos abstracto es olvidarse de la implementación.  Un  stack debe ser visto como una estructura a la cual un "cliente" puede aplicar las operaciones definidas más arri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nsistencia de nombres.  ¿Debieran  considerarse los nombres originales, definidos en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literatura para ciertos estructuras, o  uniformarse de acuerdo al objetivo que cumplen o funcionalidad que tien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Los stacks representan una rama de las estructuras conten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que son llamados más especificamente dispensers (dispensadores). Un dispensador permite a sus "clientes" almacenar información pero no permite ningún control sobre la posición en que 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almacena y de donde se recupera la información. A este grupo también pertenecen las co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El uso del mismo nombre para acciones similares en distintos tipos de contenedores lleva a que los usuarios de las componentes reusables encuentren mas rápido lo que busc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ntratos, clientes y prov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Los clientes son módulos que usan ciertos servicios (operaciones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efinidos en otros módulos (proveedores). El protocolo o la forma en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interactúan cliente y proveedor lo llamaremos contr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La funciones parciales, es decir, las que no están definidos sobre todo el dominio, se denotan por ---/-&gt;. Por ejemplo, pop y top  no se pueden apli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i el STACK esta vací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¿Por qué funciones y no procedimient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ADT es un modelo matemá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Es necesario contar con algún concepto para modelar 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operaciones. El concepto de función es el más pareci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Las funciones las clasificaremos en tres tip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Creación:  (new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Consulta:  (item, empty). Nos permiten obtener propie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el objeto asociado al T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Comando:  Nos permiten obtener nuevas instancias del obj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a partir de instancias exist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Los axiomas definen el comportamiento del T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La funciones parciales (como pop y top)  deben especifi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econdiciones, dado que no están definidas para todo objeto asoc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al T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921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Una clase es un TDA  equipado  de  una implementación (posiblemente parci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ependiendo que tan completa es la implementación hablare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e lo siguie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clase efectiva: especifica completamente su impleme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clase abstracta: puede estar implementada parcialmente  o nada. En este último caso, su definición es equivalente a la de un T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El concepto de clase abstracta es muy útil para análisis y diseño 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En la etapa de análisis se descubre el dominio del problema. El concepto de clase se usa sólo por su poder descriptivo pero no se desea ningún detalle de implem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En la etapa de diseño, la idea es especificar clases abstractas. La idea no es especificar  todos los detalles de implementación. En la etapa implementación, las clases deben ser efectiv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Más adelante veremos que las clases abstractas son muchas veces transformadas en efectivas a través de la herencia. El hacerlo así, permite módulos fáciles de exten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¿Cómo se implementa una clase efectiv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te pública: La especificación del T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te privada: implementar todas sus caracterís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Aunque en el modelo matemático del TDA, todas 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operaciones se especifican como funciones, en la impleme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usaremos el estilo estándar de programación en donde,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mandos de implementan como procedimientos y las consultas c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funciones. Los axiomas y las precondiciones también pasa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er parte de la implem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La siguiente es una implemantación de un stack usando 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aracterísticas  de c++ que permiten la implementación de un T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Objeto  es el concepto usado para representar los elementos que surgen del análisis del dominio del problema o más tarde como parte del diseño  de la aplic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entro del ambiente de programación, los objetos se conocen como instancias de una clase. Un objeto se caracteriza p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estado:  definido a través de las variables de insta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comportamiento: definido a través de las operaciones( métodos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identidad: la identidad se preserva durante su existencia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esar que el estado camb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84080" y="741240"/>
            <a:ext cx="5280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1160" y="4627440"/>
            <a:ext cx="5019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Los tipos de datos abstractos son la base para definir bue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objetos.  Esta sección está dedicada a estudiar algunos concep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matemáticos elementales que ayudan a especificarlos correctam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a describir los objetos adecuadamente,  se necesita contar 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algún método que satisfaga lo siguie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Las descripciones deben ser precisas y no ambigu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Las descripciones deben ser completas (al menos tan completas como se desean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Las descripciones no debieran estar sobre especifica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1440" y="-279720"/>
            <a:ext cx="77486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31760" y="1886040"/>
            <a:ext cx="774864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31760" y="4031280"/>
            <a:ext cx="774864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1440" y="-279720"/>
            <a:ext cx="77486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1760" y="1886040"/>
            <a:ext cx="378108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02200" y="1886040"/>
            <a:ext cx="378108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31760" y="4031280"/>
            <a:ext cx="378108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02200" y="4031280"/>
            <a:ext cx="378108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1440" y="-279720"/>
            <a:ext cx="77486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31760" y="1886040"/>
            <a:ext cx="249480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51840" y="1886040"/>
            <a:ext cx="249480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1560" y="1886040"/>
            <a:ext cx="249480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31760" y="4031280"/>
            <a:ext cx="249480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51840" y="4031280"/>
            <a:ext cx="249480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1560" y="4031280"/>
            <a:ext cx="249480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1440" y="-279720"/>
            <a:ext cx="77486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31760" y="1886040"/>
            <a:ext cx="77486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1440" y="-279720"/>
            <a:ext cx="77486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1760" y="1886040"/>
            <a:ext cx="7748640" cy="41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1440" y="-279720"/>
            <a:ext cx="77486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1760" y="1886040"/>
            <a:ext cx="3781080" cy="41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2200" y="1886040"/>
            <a:ext cx="3781080" cy="41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440" y="-279720"/>
            <a:ext cx="77486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41440" y="-279720"/>
            <a:ext cx="774864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1440" y="-279720"/>
            <a:ext cx="77486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1760" y="1886040"/>
            <a:ext cx="378108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2200" y="1886040"/>
            <a:ext cx="3781080" cy="41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31760" y="4031280"/>
            <a:ext cx="378108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1440" y="-279720"/>
            <a:ext cx="77486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1760" y="1886040"/>
            <a:ext cx="3781080" cy="41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2200" y="1886040"/>
            <a:ext cx="378108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02200" y="4031280"/>
            <a:ext cx="378108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1440" y="-279720"/>
            <a:ext cx="77486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1760" y="1886040"/>
            <a:ext cx="378108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2200" y="1886040"/>
            <a:ext cx="378108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1760" y="4031280"/>
            <a:ext cx="7748640" cy="195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6248520"/>
            <a:ext cx="20635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84720" y="6248520"/>
            <a:ext cx="313668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98600" y="517680"/>
            <a:ext cx="854856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880" y="6226200"/>
            <a:ext cx="8211240" cy="399960"/>
            <a:chOff x="2880" y="6226200"/>
            <a:chExt cx="8211240" cy="399960"/>
          </a:xfrm>
        </p:grpSpPr>
        <p:sp>
          <p:nvSpPr>
            <p:cNvPr id="4" name=""/>
            <p:cNvSpPr/>
            <p:nvPr/>
          </p:nvSpPr>
          <p:spPr>
            <a:xfrm>
              <a:off x="404640" y="6226200"/>
              <a:ext cx="7407360" cy="399960"/>
            </a:xfrm>
            <a:prstGeom prst="roundRect">
              <a:avLst>
                <a:gd name="adj" fmla="val 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880" y="6226200"/>
              <a:ext cx="8211240" cy="398160"/>
            </a:xfrm>
            <a:prstGeom prst="roundRect">
              <a:avLst>
                <a:gd name="adj" fmla="val 3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81d58"/>
                  </a:solidFill>
                  <a:latin typeface="Arial"/>
                </a:rPr>
                <a:t>Programación orientada a objetos                                 1 - </a:t>
              </a:r>
              <a:fld id="{BFA3F76D-92D6-431C-96F1-30844F4146AF}" type="slidenum">
                <a:rPr b="1" lang="en-US" sz="2000" spc="-1" strike="noStrike">
                  <a:solidFill>
                    <a:srgbClr val="081d58"/>
                  </a:solidFill>
                  <a:latin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6480" y="6480"/>
            <a:ext cx="9878760" cy="6832440"/>
          </a:xfrm>
          <a:prstGeom prst="roundRect">
            <a:avLst>
              <a:gd name="adj" fmla="val 23"/>
            </a:avLst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8750160" y="5880240"/>
          <a:ext cx="757440" cy="874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50160" y="5880240"/>
                    <a:ext cx="75744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440" y="-279720"/>
            <a:ext cx="77486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31760" y="1886040"/>
            <a:ext cx="7748640" cy="410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241560" indent="-24156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7840" indent="-14076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50320" indent="-14076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50320" indent="-1407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50320" indent="-1407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50920" y="484200"/>
            <a:ext cx="6459480" cy="15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nceptos básicos 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2997360"/>
            <a:ext cx="635616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66400"/>
            <a:ext cx="908028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ipos de datos abstractos (TDA) (2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2800" y="15238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718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800" indent="-271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:  Stack (almacenamiento de datos en una pil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800" indent="-271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ípicas operacion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(creador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1080" y="114120"/>
            <a:ext cx="862164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ipos de datos abstractos (TDA) (3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67652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tos: Forma de definir los derechos y deberes de los clientes y  proveed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: precondición que  impone los deberes de el cli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condición: postcondición que impone los deberes del desarrollador d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e: expresa propiedades semánticas del TDA, y restricciones de integridad de la clase que lo implementa. Estas deben ser mantenidas por todas sus rutin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1080" y="114120"/>
            <a:ext cx="886932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ipos de datos abstractos (TDA) (4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os de una especificación for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ones: definen las operaciones (interfaz) del T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iomas: definen el comportamiento del T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ondiciones:  definen parte del contra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440" y="114120"/>
            <a:ext cx="878688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ipos de datos abstractos (TDA) (5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3160" y="1371240"/>
            <a:ext cx="6927840" cy="411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: S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[G], donde G es un tipo arbitr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:   STACK[G]xG        STACK[G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:     STACK[G]             STACK[G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:      STACK[G]           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ty: STACK[G]             bool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:                                  STACK[G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76440" y="3276720"/>
            <a:ext cx="2473560" cy="1596960"/>
            <a:chOff x="2476440" y="3276720"/>
            <a:chExt cx="2473560" cy="1596960"/>
          </a:xfrm>
        </p:grpSpPr>
        <p:sp>
          <p:nvSpPr>
            <p:cNvPr id="90" name=""/>
            <p:cNvSpPr/>
            <p:nvPr/>
          </p:nvSpPr>
          <p:spPr>
            <a:xfrm>
              <a:off x="4041720" y="4037040"/>
              <a:ext cx="90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6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37080" y="3276720"/>
              <a:ext cx="41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6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24160" y="3657600"/>
              <a:ext cx="82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6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24160" y="4491000"/>
              <a:ext cx="82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6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6440" y="4871880"/>
              <a:ext cx="2473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6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361040" y="3505320"/>
              <a:ext cx="18720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361040" y="3959280"/>
              <a:ext cx="18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266400"/>
            <a:ext cx="870408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ipos de datos abstractos (TDA) (6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qué funciones y no procedimiento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A es un modelo matemát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 función ya ex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ificación de funcion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ción (ne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 (top, empty)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ención de propied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6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ando  (pop, push)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ención de nuevas instancias a partir de las ya existen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1080" y="266400"/>
            <a:ext cx="862164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ipos de datos abstractos (TDA) (7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59440" cy="45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(push(s,x)) = 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(push(s,x)) =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ty(new) =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empty(push(s,x)) =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ondiciones (funciones parcial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(s:STACK[G]) require not empty(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(s:STACK[G]) require not empty(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1440" y="514080"/>
            <a:ext cx="77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Qué es una clase?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A equipado con una implementación (variables de instancia y algoritmos), posiblemente par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e efectiv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fica completamente su implement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e abstract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de esta implementada parcialmente o na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Cuál es la forma de definir una clase efectiv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ecificar un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oger una imple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r las funciones, axiomas y precondi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1440" y="514080"/>
            <a:ext cx="77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 (2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Cómo se implementa una clase efectiv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e pública: funciones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e privada: parte dependiente de la imple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TDA se implementa como sig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andos             procedi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s               fun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xiomas                 postcondicones o invari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ondiciones      precondi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fill="hold">
                      <p:stCondLst>
                        <p:cond delay="indefinite"/>
                      </p:stCondLst>
                      <p:childTnLst>
                        <p:par>
                          <p:cTn id="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440" y="514080"/>
            <a:ext cx="77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 (3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29620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os de C++ que permiten la implementación de un T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e pública y priva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cialización y limpieza de objetos (constructor y destructo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gnación e inicialización ( redefinir operador de asignación y redefinir constructor de copi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efinición de operad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lamada implícita y explícita de destruct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parametrizados (templat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1440" y="441000"/>
            <a:ext cx="7759440" cy="62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 (4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8534520" cy="495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lass Stack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ac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ack(int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ack(Stack&lt;T&gt;&amp; s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~Stack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oid push(T elemento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oid pop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 top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empty(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* contenedor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tamano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top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operator==(Stack&lt;T&gt;&amp; s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invariante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turn tamano &gt; 0 &amp;&amp; tope &gt;=-1 &amp;&amp; tope &lt; tamano &amp;&amp; contenedor != NULL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440" y="514080"/>
            <a:ext cx="77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os: estado, comportamiento e ident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datos abstractos (TDA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TDAs a cl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TDA genérico en C+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 de TDA genérico en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1440" y="514080"/>
            <a:ext cx="77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 (5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0240" y="1371240"/>
            <a:ext cx="866808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ssert(0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int t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ssert(t&gt;0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amano = 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ope = -1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ontenedor = new T[t]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Stack&lt;T&gt;&amp; s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ssert(s.invariante()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amano = s.tamano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ope = s.top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ontenedor = new T[s.tamano]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or(int i=0; i&lt;=tope; i++)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ontenedor[i] = s.contenedor[i]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s.invariante() &amp;&amp; s == *this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440" y="514080"/>
            <a:ext cx="77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 (6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1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~Stack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elete contenedor[]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ush(T elemento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(tope+1) &lt; tamano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ontenedor[tope+1] = elemento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ope +=1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ssert(contenedor[tope] == elemento &amp;&amp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variante()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op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ope -=1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1440" y="514080"/>
            <a:ext cx="77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 (7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0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late&lt;class T&gt; T Stack&lt;T&gt;::top(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contenedor[tope]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late&lt;class T&gt; int Stack&lt;T&gt;::operator==(Stack&lt;T&gt;&amp; s)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ert( invariante() || s.invariante()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solo el contenido debe der igual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 tope != s.tope ) return 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(i=0; i &lt;= tope;  i++ 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 contenedor[i] != s.contenedor[i]) return 0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1440" y="514080"/>
            <a:ext cx="77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 (8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5920" y="1301760"/>
            <a:ext cx="8667720" cy="52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#include “stack.h"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tack&lt;int&gt; s(10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.push(5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.push(8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.push(3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.push(-1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.push(20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tack&lt;int&gt; nuevo_stack=s; // inicializac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:\n"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while( !s.empty() )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td::cout &lt;&lt; s.top() &lt;&lt; "\n"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.pop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 inicializado:\n"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while( !nuevo_stack.empty() )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td::cout &lt;&lt; nuevo_stack.top() &lt;&lt; "\n"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nuevo_stack.pop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1440" y="514080"/>
            <a:ext cx="77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 (9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25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7180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float&gt; *puntero_a_stack  = new stack&lt;float&gt;(20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ntero_a_stack-&gt;push(5.8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ntero_a_stack-&gt;push(1.22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ete puntero_a_stack; // destruccion explíci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destrucción implícita de s y nuevo_st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´s a clas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31400" y="1885680"/>
            <a:ext cx="7758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os importantes en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e 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ública y priva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cialización (constructo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ción de objetos genéricos a través del tipo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lección automática de basu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1440" y="514080"/>
            <a:ext cx="77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 (10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8840" y="1294920"/>
            <a:ext cx="8667720" cy="49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ck generico en java: (version simple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file: Pila.jav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lass Pila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rivate Object  v[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rivate int tope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rivate int max_size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ublic Pila(int size)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max_size = size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v = new Object[size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tope = -1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ublic Object top()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return v[tope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ublic void pop(){ tope--;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ublic void push(Object item)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v[++tope] = item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ublic boolean empty()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return tope == -1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1440" y="514080"/>
            <a:ext cx="77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 (11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718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ack genérico en java: (version simple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file: Ejemplo.jav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import Pila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ublic class Ejemplo 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ila s1 = new Pila(100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1.push(new Integer(1)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1.push(new Integer(2)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1.push(new Integer(3)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while( !s1.empty() ){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ystem.out.print(s1.top() + " "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1.pop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8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77598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´s a clas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54080" y="1371600"/>
            <a:ext cx="831852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Pila{  // con contr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lean invariante(){ return -1 &lt;= tope &amp;&amp; tope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Pila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tamano inalido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e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e() : “invariante invalido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e() : “invariante invalido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No hay elementos en la pila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e() : “invariante invalido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No hay elementos en la pila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e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e() : “invariante invalido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De TDA's a clase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286000"/>
            <a:ext cx="70866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e &lt; max_size+1) : “pila llena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e() : “invariante invalido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e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e() : “invariante invalido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e() : “invariante invalido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e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lases y Objeto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"/>
              </a:rPr>
              <a:t>elemento que surge del análisis del dominio del problema a re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lbertus"/>
              </a:rPr>
              <a:t>instancia de una clase (programaci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lbertus"/>
              </a:rPr>
              <a:t>n)</a:t>
            </a:r>
            <a:r>
              <a:rPr b="0" lang="en-US" sz="2000" spc="-1" strike="noStrike">
                <a:solidFill>
                  <a:srgbClr val="000000"/>
                </a:solidFill>
                <a:latin typeface="Albertu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"/>
              </a:rPr>
              <a:t>tipo de molde o plantilla que define los valores que almacena un objeto en sus variables de instancia, y acciones u operaciones que se le puede aplicar a trav</a:t>
            </a:r>
            <a:r>
              <a:rPr b="0" lang="en-US" sz="2000" spc="-1" strike="noStrike">
                <a:solidFill>
                  <a:srgbClr val="000000"/>
                </a:solidFill>
                <a:latin typeface="Albertus"/>
                <a:ea typeface="Arial"/>
              </a:rPr>
              <a:t>és de su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lases y objeto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1400" y="1885680"/>
            <a:ext cx="7758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ede consta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ables de la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ables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ase en Ja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public class Punt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private int x;   // variable 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private 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public Punto(int _x, int _y){ x=_x;  y= _y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public int getX(){ return x; }  // 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public int getY(){ return y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lases y objeto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31400" y="1885680"/>
            <a:ext cx="7758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752480"/>
            <a:ext cx="769608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larac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n y uso de un objeto de la clase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unto cero = new Punto(0,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 valor_x = cero.get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acterísticas de un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stado:  definido a través de las variables de in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omportamiento:  definido a través de las operaciones o 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dentidad:   es lo que se preserva a pesar que el estado cam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1440" y="128520"/>
            <a:ext cx="7758000" cy="106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bjetos: definici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ón de clases (c++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4280" y="1863720"/>
            <a:ext cx="400680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Punto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nto(){ x=0; y=0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nto(int _x,int _y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_x; y = _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lor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 rgb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or(){ rgb[0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gb[1] = rgb[2]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or(float r, float 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b)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057400"/>
            <a:ext cx="4572000" cy="28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Figura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o centr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 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gura()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gura(Punto centr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 _color)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mover(Punto hacia)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o donde()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760320"/>
            <a:ext cx="7696080" cy="106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bjetos: declaraci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ón, estado y comportamiento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2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o: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lor azul(0,0,1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nto posicion(1,1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nto otra_posicion(2,3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gura rectangulo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gura circulo(posicion,azul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ctangulo.mover(otra_posicion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osicion = rectangulo.donde(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jeto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osic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tra_posic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ctang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irc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41960" y="1828800"/>
            <a:ext cx="3276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zul: (0,0,1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sicion: (1,1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tra_posicion: (2,3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ctangulo: (0,0) (1,0,0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irculo: (1,1) (0,0,1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ctangulo: (2,3) (1,0,0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sicion: (2,3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rta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ctang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bjetos: identidad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2960" y="1447920"/>
            <a:ext cx="43099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nto p1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nto *p2 = new Punto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nto *p3 = new Punto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nto *p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, *p2 y *p3 son objetos disti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4 y *p3 son el mismo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1828800"/>
            <a:ext cx="43434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nto p1 = new Punto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nto p2 = new Punto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nto p3 = new Punto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nto 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, p2 y p3 son objetos distintos p3 y p4 son el mismo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7800" y="209520"/>
            <a:ext cx="8291520" cy="10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ipos de datos abstractos (TDA)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31760" y="1886040"/>
            <a:ext cx="8461440" cy="42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4680" indent="-27468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Cómo definir buenos objetos?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 un buen TD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Qué característica debe cumplir un buen TD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 descripción  debe s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a y no ambi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sobre-especifi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iente de la imple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cy hitschfeld</cp:lastModifiedBy>
  <cp:revision>0</cp:revision>
  <dc:subject/>
  <dc:title>Capítulo 1  Conceptos básicos:  clases y objetos</dc:title>
</cp:coreProperties>
</file>