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59D-DA8B-49EA-BA0A-087BE190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161-2056-498B-BBBB-044EC2E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F32-E1B4-4133-9EC1-7C2B56ED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9A2-38A8-47B1-A8EA-45E1E0AB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A4A-9E70-43E9-9E55-64AF5BE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A1D-E951-4096-8CDA-3FBA449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049-DB1F-4BF8-9710-6133C98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0AB-C909-46AB-9F70-3B9EBD8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4AA-63CD-48FC-9A20-E1B5D22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FD0-7C76-4EF6-90EE-990A10A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3B6-6CFF-49F9-AACE-024931D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4BC-177F-4EEA-BB8A-683FC78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2CE-14C6-45CD-B7A1-937628491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en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3-09T20:12:22Z</dcterms:modified>
  <cp:revision>24</cp:revision>
  <dc:subject/>
  <dc:title>Un curso intensivo de Introducción a la Programación Orientada a Objetos en Java  para estudiantes de secundaria </dc:title>
</cp:coreProperties>
</file>