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46E6-2BC5-4286-8AC8-168949ADA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D41F-226E-4F5C-8C3B-104864AFB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5B36-FD27-4C47-8313-88E5BDF6E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F7AB-0826-414B-9A2B-D0D1BF079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61DE-F902-4695-AF1F-CAF9DB47F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EDC4-74F1-4F51-AAA6-2080F48F2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85BB-5028-4A78-BAA7-ACBB7EFF5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9A53-AE74-406C-A3C4-B12C50359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DC6C-8886-44F7-A751-65CF71430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3716-5202-4036-9F4C-2442FFBA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6817-6D1A-47CC-8A13-103A170B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CA68-7C56-431D-8FAC-78853147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FAC92-EA87-4115-B239-9BD9167B36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C1001- Computación I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uan Alvarez Rub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to Ciencias de la Compu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alvarez@dcc.uchile.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C1001- Computación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486400" y="1828800"/>
            <a:ext cx="3048120" cy="19051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u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3962520"/>
            <a:ext cx="38088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0292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5105520" y="4495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05520" y="48006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4952880" y="54100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15000" y="5410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4952880" y="51811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412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5410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4200" y="1752480"/>
            <a:ext cx="4647960" cy="1905120"/>
          </a:xfrm>
          <a:prstGeom prst="cloudCallout">
            <a:avLst>
              <a:gd name="adj1" fmla="val -44467"/>
              <a:gd name="adj2" fmla="val 699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71756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azonamiento algorítmico/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pacidad modelamiento/abs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bilidad gral resolver 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2720" y="43434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15000" y="4800600"/>
            <a:ext cx="1066680" cy="228600"/>
          </a:xfrm>
          <a:prstGeom prst="parallelogram">
            <a:avLst>
              <a:gd name="adj" fmla="val 11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7" idx="6"/>
          </p:cNvCxnSpPr>
          <p:nvPr/>
        </p:nvCxnSpPr>
        <p:spPr>
          <a:xfrm flipV="1">
            <a:off x="5790960" y="3809520"/>
            <a:ext cx="153000" cy="6105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58" idx="0"/>
            <a:endCxn id="44" idx="2"/>
          </p:cNvCxnSpPr>
          <p:nvPr/>
        </p:nvCxnSpPr>
        <p:spPr>
          <a:xfrm flipH="1" flipV="1" rot="5400000">
            <a:off x="6162480" y="3952440"/>
            <a:ext cx="1067400" cy="62928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1" name=""/>
          <p:cNvSpPr/>
          <p:nvPr/>
        </p:nvSpPr>
        <p:spPr>
          <a:xfrm>
            <a:off x="6781680" y="5486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l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588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pecí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ribir programas que resuelvan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largo plazo (propósi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zonamientos algorítmico y 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acidades de abstracción y modelami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bilidad general para 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1916280"/>
            <a:ext cx="856944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edagog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rientación al aprendiz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lases de cátedra y auxiliares centradas en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jercicios en clases “obligatorios” (se necesitan 2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ecnolog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enguajes Java y Mat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mbiente Internet/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nteni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. Fundamentos de progra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. Programación orientada a ob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. Listas y tablas de val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. Computación numé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. Búsqueda y ordenamiento de in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42472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F (nota final): 70%NC+30%NT (NC,NT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T (nota tareas): promedio 5 t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C (nota control): prom ponderado contr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971640" y="3573360"/>
          <a:ext cx="6985080" cy="2808360"/>
        </p:xfrm>
        <a:graphic>
          <a:graphicData uri="http://schemas.openxmlformats.org/drawingml/2006/table">
            <a:tbl>
              <a:tblPr/>
              <a:tblGrid>
                <a:gridCol w="1523880"/>
                <a:gridCol w="1932120"/>
                <a:gridCol w="1584360"/>
                <a:gridCol w="194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i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m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y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a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8:57:29Z</dcterms:created>
  <dc:creator>jalvarez</dc:creator>
  <dc:description/>
  <dc:language>en-US</dc:language>
  <cp:lastModifiedBy>jalvarez</cp:lastModifiedBy>
  <cp:lastPrinted>2006-03-02T13:33:10Z</cp:lastPrinted>
  <dcterms:modified xsi:type="dcterms:W3CDTF">2009-03-09T20:12:22Z</dcterms:modified>
  <cp:revision>24</cp:revision>
  <dc:subject/>
  <dc:title>Un curso intensivo de Introducción a la Programación Orientada a Objetos en Java  para estudiantes de secundaria </dc:title>
</cp:coreProperties>
</file>