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9247-E72B-479D-8410-1C60E6224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0974-84D4-46CD-A4D4-6BB0FFC1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9613-4C19-4EE1-A1EE-9AE33C0D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17B2-73BF-4894-8D75-5E7D8FC3C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7E0C-2813-45C0-8288-34126ED14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6FCB-FE59-4779-9AB3-5549FF51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989-CEDA-4D7A-A645-DADCFA60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830D-188F-4E31-A286-473E4D278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ED6E-73BE-4292-ACF9-A1845C84E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37C1-225F-4910-BF71-E45715C2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13E5-6C41-420C-B160-A5D8A0D2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688-F397-4421-9E26-EB150581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2F3D-B029-4813-90CF-95CD39B290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uan Alvarez Rub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to Ciencias de la Compu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jalvarez@dcc.uchile.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C1001- Computación 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486400" y="1828800"/>
            <a:ext cx="3048120" cy="19051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3962520"/>
            <a:ext cx="380880" cy="53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44197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105520" y="4495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105520" y="480060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952880" y="54100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5410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952880" y="51811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334120" y="5181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54100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4200" y="1752480"/>
            <a:ext cx="4647960" cy="1905120"/>
          </a:xfrm>
          <a:prstGeom prst="cloudCallout">
            <a:avLst>
              <a:gd name="adj1" fmla="val -44467"/>
              <a:gd name="adj2" fmla="val 699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17560"/>
            <a:ext cx="485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azonamiento algorítmico/lóg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pacidad modelamiento/abstra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abilidad gral resolver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2720" y="4343400"/>
            <a:ext cx="22860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715000" y="4800600"/>
            <a:ext cx="1066680" cy="228600"/>
          </a:xfrm>
          <a:prstGeom prst="parallelogram">
            <a:avLst>
              <a:gd name="adj" fmla="val 11665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6"/>
          </p:cNvCxnSpPr>
          <p:nvPr/>
        </p:nvCxnSpPr>
        <p:spPr>
          <a:xfrm flipV="1">
            <a:off x="5790960" y="3809520"/>
            <a:ext cx="153000" cy="61056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58" idx="0"/>
            <a:endCxn id="44" idx="2"/>
          </p:cNvCxnSpPr>
          <p:nvPr/>
        </p:nvCxnSpPr>
        <p:spPr>
          <a:xfrm flipH="1" flipV="1" rot="5400000">
            <a:off x="6162480" y="3952440"/>
            <a:ext cx="1067400" cy="62928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61" name=""/>
          <p:cNvSpPr/>
          <p:nvPr/>
        </p:nvSpPr>
        <p:spPr>
          <a:xfrm>
            <a:off x="6781680" y="54864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5638680"/>
            <a:ext cx="533520" cy="304920"/>
          </a:xfrm>
          <a:prstGeom prst="rightArrow">
            <a:avLst>
              <a:gd name="adj1" fmla="val 50000"/>
              <a:gd name="adj2" fmla="val 4374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ecí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cribir programas que resuelva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 largo plazo (propósi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zonamientos algorítmico y ló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apacidades de abstracción y modelamient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habilidad general para resolver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916280"/>
            <a:ext cx="8569440" cy="41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dag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orientación al aprendiz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lases de cátedra y auxiliares centradas en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jercicios en clases “obligatorios” (se necesitan 2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enguajes Java y Mat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mbiente Internet/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Conteni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. Fundamentos de progra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2. Programación orientada a 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3. Listas y tablas de val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4. Computación num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5. Búsqueda y ordenamiento de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F (nota final): 70%NC+30%NT (NC,NT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T (nota tareas): promedio 5 tar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NC (nota control): prom ponderado contro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971640" y="3573360"/>
          <a:ext cx="6985080" cy="2808360"/>
        </p:xfrm>
        <a:graphic>
          <a:graphicData uri="http://schemas.openxmlformats.org/drawingml/2006/table">
            <a:tbl>
              <a:tblPr/>
              <a:tblGrid>
                <a:gridCol w="1523880"/>
                <a:gridCol w="1932120"/>
                <a:gridCol w="1584360"/>
                <a:gridCol w="1944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enid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man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y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a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8:57:29Z</dcterms:created>
  <dc:creator>jalvarez</dc:creator>
  <dc:description/>
  <dc:language>en-US</dc:language>
  <cp:lastModifiedBy>jalvarez</cp:lastModifiedBy>
  <cp:lastPrinted>2006-03-02T13:33:10Z</cp:lastPrinted>
  <dcterms:modified xsi:type="dcterms:W3CDTF">2009-03-09T20:12:22Z</dcterms:modified>
  <cp:revision>24</cp:revision>
  <dc:subject/>
  <dc:title>Un curso intensivo de Introducción a la Programación Orientada a Objetos en Java  para estudiantes de secundaria </dc:title>
</cp:coreProperties>
</file>