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3D41-9CD0-41C2-95F5-963DE41A5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518B-8222-4877-8397-93DC4ACF3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A268-6B19-4075-9369-92D98F46E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8A3C-EED4-411C-916A-CE274AB06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7AE0-B389-4AEA-BC09-990A52F03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6528-9649-4F1D-B70E-7D32E5901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9AB3-C9FE-4788-9842-AFF5756E0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2DBE-A9FA-4094-827B-FC00EFC64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C8A7-C117-4EFC-A20D-7255EE6DB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1D9E-FCC2-4FEF-9CBA-B120824AE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88FD-0FCA-4543-95A6-D4453F457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0EF0-AAD9-4BCE-B885-3D8A752B0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38E44-3A7A-4C88-B837-BE56ADEE86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69800" y="531720"/>
          <a:ext cx="8548920" cy="6543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531720"/>
                    <a:ext cx="8548920" cy="654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371520" y="668160"/>
          <a:ext cx="8386560" cy="550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1520" y="668160"/>
                    <a:ext cx="8386560" cy="550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668160" y="581040"/>
          <a:ext cx="8201160" cy="587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581040"/>
                    <a:ext cx="8201160" cy="58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668160" y="593640"/>
          <a:ext cx="8201160" cy="599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593640"/>
                    <a:ext cx="8201160" cy="599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642960" y="531720"/>
          <a:ext cx="8325000" cy="6123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531720"/>
                    <a:ext cx="8325000" cy="612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82760" y="482760"/>
          <a:ext cx="8461080" cy="650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482760"/>
                    <a:ext cx="8461080" cy="65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568440" y="655560"/>
          <a:ext cx="8226360" cy="58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8440" y="655560"/>
                    <a:ext cx="8226360" cy="58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766800" y="766800"/>
          <a:ext cx="8102520" cy="58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766800"/>
                    <a:ext cx="8102520" cy="58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531720" y="469800"/>
          <a:ext cx="8461440" cy="621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469800"/>
                    <a:ext cx="8461440" cy="62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692280" y="704880"/>
          <a:ext cx="8202600" cy="566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704880"/>
                    <a:ext cx="8202600" cy="56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82760" y="506520"/>
          <a:ext cx="8361360" cy="6248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506520"/>
                    <a:ext cx="8361360" cy="62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95360" y="606600"/>
          <a:ext cx="8472600" cy="58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606600"/>
                    <a:ext cx="8472600" cy="58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395280" y="457200"/>
          <a:ext cx="8623440" cy="5826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457200"/>
                    <a:ext cx="8623440" cy="582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544680" y="531720"/>
          <a:ext cx="8461080" cy="5986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680" y="531720"/>
                    <a:ext cx="8461080" cy="598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81120" y="457200"/>
          <a:ext cx="8286840" cy="621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457200"/>
                    <a:ext cx="8286840" cy="62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655560" y="482760"/>
          <a:ext cx="7867800" cy="628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560" y="482760"/>
                    <a:ext cx="7867800" cy="62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619200" y="506520"/>
          <a:ext cx="8348760" cy="603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0" y="506520"/>
                    <a:ext cx="8348760" cy="60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506520" y="544680"/>
          <a:ext cx="8388360" cy="599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544680"/>
                    <a:ext cx="838836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5T16:05:38Z</dcterms:created>
  <dc:creator>jalvarez</dc:creator>
  <dc:description/>
  <dc:language>en-US</dc:language>
  <cp:lastModifiedBy>jalvarez</cp:lastModifiedBy>
  <cp:lastPrinted>2006-08-11T14:25:28Z</cp:lastPrinted>
  <dcterms:modified xsi:type="dcterms:W3CDTF">2008-06-18T17:13:41Z</dcterms:modified>
  <cp:revision>19</cp:revision>
  <dc:subject/>
  <dc:title>Sin título de diapositiva</dc:title>
</cp:coreProperties>
</file>