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E93-DD0B-4B90-8F47-3689ACF1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2E2-B75B-401E-B63B-7AD84F07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CE3-0CED-4AD3-9969-63EB50DE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94B-680F-4072-862F-838C92FC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65C-1E3E-4CC5-81C6-CCD530C5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B346-CA72-4FD5-B163-54E80D1F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4101-6F2C-4890-8078-679E3A65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E87-BB39-484F-B60A-81FA1EFD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7E3C-7DB4-4361-AEC6-B31C2069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702B-C0A6-4D6A-AB99-E50CEB3A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1C5-73BB-4A5A-9DFB-5274D50D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F719-4FDE-4ADB-BB36-06914230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4CC8-3A74-4E97-9E14-55DEE54D2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9800" y="531720"/>
          <a:ext cx="8548920" cy="65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1720"/>
                    <a:ext cx="854892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1520" y="668160"/>
          <a:ext cx="838656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668160"/>
                    <a:ext cx="838656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68160" y="581040"/>
          <a:ext cx="820116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81040"/>
                    <a:ext cx="820116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593640"/>
          <a:ext cx="8201160" cy="59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93640"/>
                    <a:ext cx="8201160" cy="59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42960" y="531720"/>
          <a:ext cx="832500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31720"/>
                    <a:ext cx="832500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482760"/>
          <a:ext cx="8461080" cy="65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61080" cy="65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68440" y="655560"/>
          <a:ext cx="8226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655560"/>
                    <a:ext cx="8226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6800" y="766800"/>
          <a:ext cx="81025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766800"/>
                    <a:ext cx="81025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31720" y="469800"/>
          <a:ext cx="84614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69800"/>
                    <a:ext cx="84614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92280" y="704880"/>
          <a:ext cx="820260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04880"/>
                    <a:ext cx="82026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82760" y="506520"/>
          <a:ext cx="8361360" cy="62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06520"/>
                    <a:ext cx="8361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95360" y="60660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60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457200"/>
          <a:ext cx="862344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57200"/>
                    <a:ext cx="862344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44680" y="531720"/>
          <a:ext cx="846108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31720"/>
                    <a:ext cx="846108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1120" y="457200"/>
          <a:ext cx="82868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457200"/>
                    <a:ext cx="82868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55560" y="482760"/>
          <a:ext cx="786780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482760"/>
                    <a:ext cx="786780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506520"/>
          <a:ext cx="834876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06520"/>
                    <a:ext cx="834876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6520" y="544680"/>
          <a:ext cx="838836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44680"/>
                    <a:ext cx="838836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16:05:38Z</dcterms:created>
  <dc:creator>jalvarez</dc:creator>
  <dc:description/>
  <dc:language>en-US</dc:language>
  <cp:lastModifiedBy>jalvarez</cp:lastModifiedBy>
  <cp:lastPrinted>2006-08-11T14:25:28Z</cp:lastPrinted>
  <dcterms:modified xsi:type="dcterms:W3CDTF">2008-06-18T17:13:41Z</dcterms:modified>
  <cp:revision>19</cp:revision>
  <dc:subject/>
  <dc:title>Sin título de diapositiva</dc:title>
</cp:coreProperties>
</file>