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1677-7303-4E27-A993-2A0CB6C6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F186-6D4A-4D9F-B4BB-F8C20B8C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19A8-06FC-4FD6-A212-431969CA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16A8-2866-4673-A8BE-06DFF587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9BE3-3AF7-4F71-9999-EA85AE02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48F-88BC-42DD-8CFC-DE29099D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B00-BF26-4244-9A5B-BB1FD41B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469E-01E5-4623-A1D2-AE68EAE7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533-5C30-4A33-B055-241ACBD1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DC5-5925-4460-8B5F-47B50123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B955-B8E0-4C31-97BE-02AA8FA0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9922-5C3B-4313-9975-13C334B8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921A-B011-4B9D-9940-C2889C5F2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9800" y="531720"/>
          <a:ext cx="8548920" cy="65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31720"/>
                    <a:ext cx="854892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71520" y="668160"/>
          <a:ext cx="838656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668160"/>
                    <a:ext cx="838656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68160" y="581040"/>
          <a:ext cx="820116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81040"/>
                    <a:ext cx="820116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593640"/>
          <a:ext cx="8201160" cy="59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93640"/>
                    <a:ext cx="8201160" cy="59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42960" y="531720"/>
          <a:ext cx="832500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31720"/>
                    <a:ext cx="832500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482760"/>
          <a:ext cx="8461080" cy="65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61080" cy="65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68440" y="655560"/>
          <a:ext cx="8226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655560"/>
                    <a:ext cx="8226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66800" y="766800"/>
          <a:ext cx="81025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766800"/>
                    <a:ext cx="81025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31720" y="469800"/>
          <a:ext cx="84614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69800"/>
                    <a:ext cx="84614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92280" y="704880"/>
          <a:ext cx="820260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704880"/>
                    <a:ext cx="820260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82760" y="506520"/>
          <a:ext cx="8361360" cy="62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06520"/>
                    <a:ext cx="83613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95360" y="60660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0660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457200"/>
          <a:ext cx="862344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57200"/>
                    <a:ext cx="862344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44680" y="531720"/>
          <a:ext cx="846108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31720"/>
                    <a:ext cx="846108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1120" y="457200"/>
          <a:ext cx="82868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457200"/>
                    <a:ext cx="82868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55560" y="482760"/>
          <a:ext cx="786780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482760"/>
                    <a:ext cx="786780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9200" y="506520"/>
          <a:ext cx="834876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06520"/>
                    <a:ext cx="834876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6520" y="544680"/>
          <a:ext cx="838836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44680"/>
                    <a:ext cx="838836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16:05:38Z</dcterms:created>
  <dc:creator>jalvarez</dc:creator>
  <dc:description/>
  <dc:language>en-US</dc:language>
  <cp:lastModifiedBy>jalvarez</cp:lastModifiedBy>
  <cp:lastPrinted>2006-08-11T14:25:28Z</cp:lastPrinted>
  <dcterms:modified xsi:type="dcterms:W3CDTF">2008-06-18T17:13:41Z</dcterms:modified>
  <cp:revision>19</cp:revision>
  <dc:subject/>
  <dc:title>Sin título de diapositiva</dc:title>
</cp:coreProperties>
</file>