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734-190E-434B-9023-88935B08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B32-0CE9-47C5-84B8-5ABA9E53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6F9-8803-4184-B5D3-A02C3E32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3AE-7363-4058-B542-1FAA48DC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208-3B62-4604-A66A-EC5BA621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01C-2C3B-4778-B9CA-0AF80B75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560-148F-41DB-9F2A-541385BE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D9D-E648-44F1-AED9-4972E5CD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12A-25D4-4EE1-8208-1D0E6F60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CF8B-592A-4B9B-BBCA-810762A5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3F7-34D2-4B7E-A59A-26728317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065-5770-40BC-8CA1-8E83CA3C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BB65-8820-4FE7-B2D3-142A0807E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55560" y="482760"/>
          <a:ext cx="78678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82760"/>
                    <a:ext cx="78678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jalvarez</cp:lastModifiedBy>
  <cp:lastPrinted>2006-08-11T14:25:28Z</cp:lastPrinted>
  <dcterms:modified xsi:type="dcterms:W3CDTF">2008-06-18T17:13:41Z</dcterms:modified>
  <cp:revision>19</cp:revision>
  <dc:subject/>
  <dc:title>Sin título de diapositiva</dc:title>
</cp:coreProperties>
</file>