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406-5D4A-4500-BEA6-E5C1F34C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C9E0-CE40-487B-BD89-C3621B7D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EC23-FAF7-4A06-866C-C3FCEA0C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BD44-F802-4A36-AFD6-033CD72F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1642-57B2-430F-81EC-2EACA812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36F-984F-4B49-B795-49A2B9E2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F8C-75A1-42B1-8576-CA1212DD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D46-FE04-4951-BFFC-DDA35290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6F9-7C38-4D11-9202-8E58717F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DF7-6172-449C-9EBE-A55E59D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69A-7AA4-4DD3-91BB-99609183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95C-59C1-475E-988E-F87A3A4E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6A8E-90A2-4877-BF61-BCECFBEAA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55560" y="482760"/>
          <a:ext cx="7867800" cy="62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482760"/>
                    <a:ext cx="7867800" cy="62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jalvarez</cp:lastModifiedBy>
  <cp:lastPrinted>2006-08-11T14:25:28Z</cp:lastPrinted>
  <dcterms:modified xsi:type="dcterms:W3CDTF">2008-06-18T17:13:41Z</dcterms:modified>
  <cp:revision>19</cp:revision>
  <dc:subject/>
  <dc:title>Sin título de diapositiva</dc:title>
</cp:coreProperties>
</file>