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2DC-6E97-4403-B2BD-FFF87C28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48E9-7400-4D97-8877-062E43C7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F27-2EB0-4B52-8D45-64321707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796-4254-4A71-85B8-DCE41E5E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5842-6622-4A9C-9DEF-5AE82960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493-0976-4E5B-8F61-65EAFAC3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88C4-9014-45DA-96B0-D47AC6B7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B04-BA89-47F9-AE7F-29FF82A1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CE0-F352-47A5-950F-4FA2FB17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549-DAD4-42C6-AFC7-46513639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8DA-66EB-4D0B-9D8E-C8D29C56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A30-E718-41C0-8DED-A132F6FC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D774-12F7-4383-9A6C-087C230CA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9800" y="531720"/>
          <a:ext cx="8548920" cy="65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1720"/>
                    <a:ext cx="854892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1520" y="668160"/>
          <a:ext cx="838656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668160"/>
                    <a:ext cx="838656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68160" y="581040"/>
          <a:ext cx="820116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81040"/>
                    <a:ext cx="820116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593640"/>
          <a:ext cx="8201160" cy="59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93640"/>
                    <a:ext cx="8201160" cy="59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42960" y="531720"/>
          <a:ext cx="832500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31720"/>
                    <a:ext cx="832500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482760"/>
          <a:ext cx="8461080" cy="65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61080" cy="65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68440" y="655560"/>
          <a:ext cx="8226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655560"/>
                    <a:ext cx="8226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6800" y="766800"/>
          <a:ext cx="81025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766800"/>
                    <a:ext cx="81025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31720" y="469800"/>
          <a:ext cx="84614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69800"/>
                    <a:ext cx="84614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92280" y="704880"/>
          <a:ext cx="820260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04880"/>
                    <a:ext cx="82026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82760" y="506520"/>
          <a:ext cx="8361360" cy="62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06520"/>
                    <a:ext cx="8361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95360" y="60660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60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457200"/>
          <a:ext cx="862344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57200"/>
                    <a:ext cx="862344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44680" y="531720"/>
          <a:ext cx="846108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31720"/>
                    <a:ext cx="846108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1120" y="457200"/>
          <a:ext cx="82868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457200"/>
                    <a:ext cx="82868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55560" y="482760"/>
          <a:ext cx="786780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482760"/>
                    <a:ext cx="786780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506520"/>
          <a:ext cx="834876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06520"/>
                    <a:ext cx="834876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6520" y="544680"/>
          <a:ext cx="838836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44680"/>
                    <a:ext cx="838836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16:05:38Z</dcterms:created>
  <dc:creator>jalvarez</dc:creator>
  <dc:description/>
  <dc:language>en-US</dc:language>
  <cp:lastModifiedBy>jalvarez</cp:lastModifiedBy>
  <cp:lastPrinted>2006-08-11T14:25:28Z</cp:lastPrinted>
  <dcterms:modified xsi:type="dcterms:W3CDTF">2008-06-18T17:13:41Z</dcterms:modified>
  <cp:revision>19</cp:revision>
  <dc:subject/>
  <dc:title>Sin título de diapositiva</dc:title>
</cp:coreProperties>
</file>