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227-CD19-48E2-BBAB-00D752B1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37F-0837-44B9-A0A2-3D8FF501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B9A-02F4-489C-B05C-91B9F789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80D-3037-495C-B07C-610E6C1B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32E-D2D0-49DA-87EB-7CA7FBA1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CF7-C7CF-47CB-A980-6F4C4602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488-BD7D-471C-91A9-96306947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998-CC22-4FB6-9BC8-4E9BB425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4A3-0E71-4C50-B359-0C59E54B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7CF-54D5-49B3-9E42-210F1DC7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4FE-3E63-4FF9-B73B-944AEBD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359-022A-4752-BCEA-92FBED88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491-7B2D-4813-AB7C-D5F41770C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8-06-23T18:57:23Z</dcterms:modified>
  <cp:revision>25</cp:revision>
  <dc:subject/>
  <dc:title>Sin título de diapositiva</dc:title>
</cp:coreProperties>
</file>