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9A9C-91FC-4865-9682-4ADBF74E7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9306-BA28-4358-A920-91178DC80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2ED3-2F50-421B-A866-929CC1DA9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735F-0886-4A73-8569-A7C1E3AEA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EA08-3239-43BB-BFC9-35B78FB70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842F-E05B-489A-9F33-7B186D4C4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225C-BCE1-45C6-AC5B-545317F13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2700-B420-4C9F-AC1E-01E30E075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D711-6DA0-4B11-8482-9E048A625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61E5-A151-44CE-BB95-2B40434CE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2485-0FEF-4664-8AE1-1C66F24BF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E1DB-BF20-4F39-BEC9-313D0B03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7C4E8-1A9F-4F8E-B8D9-E09023C79C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25600" y="463680"/>
          <a:ext cx="8342280" cy="6249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600" y="463680"/>
                    <a:ext cx="8342280" cy="624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79400" y="619200"/>
          <a:ext cx="8064720" cy="587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9400" y="619200"/>
                    <a:ext cx="8064720" cy="58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642960" y="878040"/>
          <a:ext cx="7854840" cy="5097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878040"/>
                    <a:ext cx="7854840" cy="50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69800" y="396720"/>
          <a:ext cx="8398080" cy="6473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396720"/>
                    <a:ext cx="8398080" cy="647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20840" y="565200"/>
          <a:ext cx="8518320" cy="601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565200"/>
                    <a:ext cx="8518320" cy="601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385920" y="385920"/>
          <a:ext cx="8542080" cy="648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920" y="385920"/>
                    <a:ext cx="8542080" cy="64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517680" y="649440"/>
          <a:ext cx="8350200" cy="5775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649440"/>
                    <a:ext cx="8350200" cy="577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68360" y="95256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ues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Ordenar un archiv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uponiendo que sólo N líneas caben en memor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76280" y="576360"/>
          <a:ext cx="8142120" cy="612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576360"/>
                    <a:ext cx="8142120" cy="61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668160" y="655560"/>
          <a:ext cx="8288640" cy="5666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655560"/>
                    <a:ext cx="8288640" cy="566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55560" y="642960"/>
          <a:ext cx="8226360" cy="5753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642960"/>
                    <a:ext cx="8226360" cy="57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92280" y="606600"/>
          <a:ext cx="7991280" cy="57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606600"/>
                    <a:ext cx="799128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93560" y="457200"/>
          <a:ext cx="8493120" cy="6797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457200"/>
                    <a:ext cx="8493120" cy="679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476280" y="425520"/>
          <a:ext cx="8454960" cy="667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425520"/>
                    <a:ext cx="8454960" cy="66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843120" y="614520"/>
          <a:ext cx="7951680" cy="7615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3120" y="614520"/>
                    <a:ext cx="7951680" cy="76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14520" y="480960"/>
          <a:ext cx="8096040" cy="608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480960"/>
                    <a:ext cx="8096040" cy="608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0T13:24:06Z</dcterms:created>
  <dc:creator>jalvarez</dc:creator>
  <dc:description/>
  <dc:language>en-US</dc:language>
  <cp:lastModifiedBy>jalvarez</cp:lastModifiedBy>
  <cp:lastPrinted>2006-10-02T18:34:45Z</cp:lastPrinted>
  <dcterms:modified xsi:type="dcterms:W3CDTF">2008-06-23T18:57:23Z</dcterms:modified>
  <cp:revision>25</cp:revision>
  <dc:subject/>
  <dc:title>Sin título de diapositiva</dc:title>
</cp:coreProperties>
</file>